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FD7-021F-4EAF-BFF3-A7ADD165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315-4BC0-40DF-B302-CD5A15B7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9FB-4349-41D0-8464-D0F0EBBF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E5F-AD62-4F1D-B8D8-E9AA6FED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B33-72EF-4C87-BE19-8A56BE9E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0AD-ADDC-44CD-A9EC-F3D7E69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5EC-C362-43C1-BF97-3B0FB71E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97D-4FDE-4A61-A74B-6C1A846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718-ADDC-489E-A471-2534A0A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583-AC0D-4E43-B1C6-D8C219C2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E39-F0AF-4C8D-B84E-88375AF5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660-B782-44C8-9717-C0D36F47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8E18-F37A-4172-9BDA-AE2D31843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Численные методы решения обыкновенных дифференциальных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актическая оценка погреш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4960" y="1120680"/>
          <a:ext cx="753588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120680"/>
                    <a:ext cx="753588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втоматическое вычисление длины ш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46120" y="1066680"/>
          <a:ext cx="7440480" cy="57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066680"/>
                    <a:ext cx="744048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Вложенные схемы Рунге-Кут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3840" y="1457280"/>
          <a:ext cx="822960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457280"/>
                    <a:ext cx="82296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Вложенная схема Мерс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40160" y="1703520"/>
          <a:ext cx="3708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703520"/>
                    <a:ext cx="3708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ногошаговый метод Адам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25600" y="1117440"/>
          <a:ext cx="7864200" cy="56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117440"/>
                    <a:ext cx="786420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рполяционный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36480" y="1092240"/>
          <a:ext cx="7185240" cy="57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092240"/>
                    <a:ext cx="718524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Явные схемы Адам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2066760"/>
          <a:ext cx="822960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6760"/>
                    <a:ext cx="822960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ерспективы развития методов решения 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360" y="152388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дифференциально-алгебраическ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 с разрывным полем на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ОДУ в обобщенных функци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схем параллельных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Классификация мет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71080"/>
            <a:ext cx="8507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ые методы для ОДУ разделяются на два класс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дношаго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шаго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тоды Рунге-Кут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тоды Адам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йрер Э., Нёрсетт С., Ваннер Г. Решение обыкновенных дифференциальных уравнений. Нежесткие задачи. – М.: Мир, 1990. Глав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етоды Эй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0520" y="900000"/>
            <a:ext cx="84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17440" y="1200240"/>
          <a:ext cx="8694720" cy="34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00240"/>
                    <a:ext cx="86947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ешение в квадрату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860400"/>
          <a:ext cx="7834320" cy="59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60400"/>
                    <a:ext cx="7834320" cy="59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дея Ру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78000" y="888840"/>
          <a:ext cx="8469000" cy="55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888840"/>
                    <a:ext cx="846900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ценка погреш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43080" y="1290600"/>
          <a:ext cx="847872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290600"/>
                    <a:ext cx="847872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пределение метода Рунге-Кут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9080" y="1279440"/>
          <a:ext cx="8486640" cy="49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279440"/>
                    <a:ext cx="848664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орядок метода Рунге-Кут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8840" y="1290600"/>
          <a:ext cx="8537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290600"/>
                    <a:ext cx="8537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ы методов Рунге-Кут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25520" y="1063800"/>
          <a:ext cx="7576920" cy="58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1063800"/>
                    <a:ext cx="75769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8:39:20Z</dcterms:created>
  <dc:creator>Rustam</dc:creator>
  <dc:description/>
  <dc:language>en-US</dc:language>
  <cp:lastModifiedBy>Victor</cp:lastModifiedBy>
  <dcterms:modified xsi:type="dcterms:W3CDTF">2008-12-07T15:01:53Z</dcterms:modified>
  <cp:revision>110</cp:revision>
  <dc:subject/>
  <dc:title>Слайд 1</dc:title>
</cp:coreProperties>
</file>