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DAF-D96C-4312-B031-F480589E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519C-44BF-4958-B9C6-D8FA4FDF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8FA-9F90-4947-8E67-A9425757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F72-A65C-42DA-9C6C-17BA803F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EDEF-E569-4676-BB20-3434C3A2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F6F0-BA73-4B29-A3E3-03D75BEB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1FD-9533-4CEA-9C7D-8CCCB662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A5E-6B4C-4D1B-8CC6-64038757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B5A-2791-496C-8395-82403327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928F-8824-4EBD-BC7F-6990AA31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A0C-9E2F-49CC-94F1-84C35ADC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39D4-D953-4E34-8BF8-BF1E7C00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4DE0-514F-4872-A041-2D0418F4B1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Лекция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Потоки собы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Распределения фазов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663480"/>
            <a:ext cx="81471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спределение Эрланг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-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го 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61920" y="522288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36800" y="5291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78640" y="522288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53520" y="5291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12840" y="522288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87720" y="5291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67000" y="522288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1880" y="5291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17920" y="522288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2800" y="5291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0280" y="54388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93920" y="54388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46280" y="54388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97200" y="54388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49920" y="5438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46640" y="54388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10280" y="54388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53200" y="54388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0160" y="507852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12440" y="50785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11600" y="5654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87720" y="5654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39000" y="5654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91360" y="5654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78360" y="5654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39640" y="1197000"/>
                <a:ext cx="4537080" cy="37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r>
                              <m:t xml:space="preserve">λ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λt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i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t</m:t>
                                </m:r>
                              </m:sup>
                            </m:sSup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k</m:t>
                                </m:r>
                              </m:e>
                            </m:rad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Распределения фазов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иперэкспоненциальное рас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ется одна из ф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оятность выбо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й ф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начение параметра распределения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й ф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60360" y="37101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61080" y="3706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37101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79240" y="3706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60840" y="37101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63000" y="3706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75000" y="37101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75720" y="3706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3080" y="284472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88800" y="42861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320508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92720" y="3205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6360" y="3205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93080" y="32050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76360" y="41418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76360" y="464508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92720" y="46450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56360" y="46450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96360" y="46450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76360" y="32050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87640" y="32050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87640" y="41418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32050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41418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41418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84640" y="3201840"/>
            <a:ext cx="4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9440" y="3201840"/>
            <a:ext cx="4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02520" y="3195720"/>
            <a:ext cx="4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94880" y="3195720"/>
            <a:ext cx="4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700360" y="1557360"/>
                <a:ext cx="4416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Распределения фазов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549360"/>
            <a:ext cx="84358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спределение Ко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я фаза обслуживания требует продолжения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ь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завершения с вероятностью 1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0360" y="26384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61080" y="26384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77080" y="26384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9240" y="26384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60840" y="26384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63000" y="26384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75000" y="26384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75720" y="26384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3080" y="177336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88800" y="32148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76360" y="30700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76360" y="35733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92720" y="3573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3573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96360" y="3573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87640" y="30700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720" y="30700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93080" y="30700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21080" y="2494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33800" y="2494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53000" y="2494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74520" y="25002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10920" y="2141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2920" y="214164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92360" y="28605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3640" y="28605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8605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92720" y="28605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84720" y="28605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03480" y="582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5440" y="30765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-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37600" y="30765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50320" y="30765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y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719280" y="4149720"/>
                <a:ext cx="72723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момент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ервой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тор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фаз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бслуживани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Распределения фазов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иперэрланговское рас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0360" y="3789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34160" y="37893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11280" y="3789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5440" y="3789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24360" y="3789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92360" y="400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44720" y="4005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95640" y="4005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92720" y="400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98920" y="4005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8600" y="285264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100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65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6374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26240" y="42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920" y="3213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16000" y="479592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16000" y="321300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50640" y="32097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60000" y="4653000"/>
            <a:ext cx="53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187280" y="2060640"/>
                <a:ext cx="583272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2413440" y="37893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66160" y="37893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26520" y="378936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16000" y="3213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6360" y="522288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77800" y="5222880"/>
            <a:ext cx="5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27280" y="522288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81440" y="522288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40360" y="522288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08000" y="5438880"/>
            <a:ext cx="7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60720" y="54388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72360" y="5438880"/>
            <a:ext cx="201600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1640" y="5438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08720" y="54388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14920" y="54388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76080" y="50068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26040" y="5654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02160" y="5654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53080" y="5654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41520" y="5654520"/>
            <a:ext cx="5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28720" y="5222880"/>
            <a:ext cx="5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81440" y="5222880"/>
            <a:ext cx="5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41800" y="5222880"/>
            <a:ext cx="5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56360" y="400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4005360"/>
            <a:ext cx="57636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Распределения фазов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спределение Ньют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тельность любой реализации процесса соответствует случайному времени блуждания заявки по сети с показательным распределением с параметр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дним поглощающим состоя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57280" y="442908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57640" y="4429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40560" y="44290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642360" y="4437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82760" y="443700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67360" y="443700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11840" y="44290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46840" y="44290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84800" y="292428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69280" y="57261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48200" y="30686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059000" y="306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037040" y="587700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67560" y="590076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16200" y="450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247840" y="4508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52560" y="45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43480" y="450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75120" y="4508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79840" y="45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72200" y="450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03840" y="4508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08560" y="45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815840" y="47959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247840" y="4795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752560" y="47959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543120" y="47959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975120" y="4795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479840" y="47959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271840" y="47959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703840" y="4795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208560" y="47959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671120" y="393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247840" y="3933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752560" y="3933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127120" y="393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703840" y="3933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6208560" y="3933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671120" y="530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247840" y="530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2752560" y="5300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27120" y="530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703840" y="530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6208560" y="5300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75876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119120" y="3933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408560" y="39337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758760" y="530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41191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4408560" y="530064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55840" y="393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3876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182760" y="5300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38760" y="530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71840" y="32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79840" y="609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64200" y="530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6420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7148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71480" y="486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9876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398760" y="486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2748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27480" y="486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656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56560" y="486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95840" y="3933720"/>
            <a:ext cx="66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,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0960" y="3925800"/>
            <a:ext cx="66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,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948040" y="3925800"/>
            <a:ext cx="66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,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39840" y="3925800"/>
            <a:ext cx="66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24560" y="5294160"/>
            <a:ext cx="88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,M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67120" y="5294160"/>
            <a:ext cx="74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,M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21120" y="5294160"/>
            <a:ext cx="81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,M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90600" y="5294160"/>
            <a:ext cx="81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M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Таблица распределений в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822960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Бета-распределени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ta (A, B, C, D, 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Биномиальн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nominal (A, B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Дискретно-равномерн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niform (A, B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Экспоненциальн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onential (A, B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Экстремальное значение тип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ValB (A, B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Экстремальное значение тип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ValB (A, B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Геометрическ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ometric (A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распределени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amma (A, B, C,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Обратное распределение Гаусс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vGauss (A, B, C,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) Обратное распределение Вейбул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vWeibull (A, B, C, D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еделение Лапласа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place (A, B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Таблица распределений в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лапласов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Laplace (A, B, C,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ицательное биномиальн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gBinom (A, B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стическ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stic (A, B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оглогистическ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Logistic (A, B, C,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) Логнормальн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Normal (A, B, C,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) Парето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eto (A, B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) Пирсо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а 5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arson 5 (A, B, C,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) Нормальн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rmal (A, B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) Пуассона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isson (A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) Пирсона типа 6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arson 6 (A, B, C, D, 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Треугольн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iangular (A, B, C,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) Равномерное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form (A, B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4) Распределение Вейбулла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ibull (A, B, C,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Формирование случайных чисел</a:t>
            </a:r>
            <a:br>
              <a:rPr sz="3200"/>
            </a:b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дискретное неравномерное рас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539640" y="1700280"/>
          <a:ext cx="756144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00280"/>
                    <a:ext cx="756144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468360" y="12682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на таблица распределения с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68360" y="3500280"/>
            <a:ext cx="7993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расываем с.ч. и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0,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пример, 0.523664. Получаем с.в. =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sp FUNCTION RN6,D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15,2/.35,5/.6,8/.82,9/1,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Обращение к функции рас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ANSFER FN,R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NERATE FN$R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VANCE FN$R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5435640" y="3968640"/>
            <a:ext cx="32400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Формирование случайных чисел</a:t>
            </a:r>
            <a:br>
              <a:rPr sz="3200"/>
            </a:b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непрерывное равномерное рас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84360" y="2924280"/>
          <a:ext cx="7343640" cy="92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924280"/>
                    <a:ext cx="73436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468360" y="141300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spN FUNCTION RN23,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1,14.2/.35,30.4/.6,50/.85,64.7/1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9640" y="2205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ение непрерывной с.в. вычисляется с помощью линейной интерпо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2411280" y="3716280"/>
            <a:ext cx="403236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Формирование случайных чисел</a:t>
            </a:r>
            <a:br>
              <a:rPr sz="3200"/>
            </a:b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непрерывное неравномерное рас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9640" y="1413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уется промоделировать с.в., заданную плотностью распредел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Y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интервал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,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9640" y="256536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ива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,b]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зк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, чтобы вероятность попадания с.в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каждый интервал была постоян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826920" y="3860640"/>
                <a:ext cx="20163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375" name=""/>
          <p:cNvGraphicFramePr/>
          <p:nvPr/>
        </p:nvGraphicFramePr>
        <p:xfrm>
          <a:off x="4140360" y="2205000"/>
          <a:ext cx="4249440" cy="27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205000"/>
                    <a:ext cx="424944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539640" y="5300640"/>
            <a:ext cx="806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ч. с равномерным распр.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0,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ираем положение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,b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числяем зн. с.в. с заданным законом распр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=ak+(ak+1-ak)X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Определение потока соб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663480"/>
            <a:ext cx="81471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током событ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ется последовательность однородных событий, появляющихся одно за другим в случайные моменты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32130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чайный процес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(t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я потока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92360" y="2125800"/>
            <a:ext cx="5688000" cy="942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19280" y="3860640"/>
            <a:ext cx="57610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имер описания экспоненциального распредел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ассоновский п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T) - вероятность, что k заявок придет за время 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редняя интенсивность поступления зая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p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-LN(1-RN)];     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интервал между заяв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редний интервал;    RN – равномерно распределенное случайное число на [0,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ер на GPS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Аппроксимация функ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23 отрез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XpDis FUNCTION RN200,C24   0,0/.1,.104/.2,.222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3,.355/.4,.509/.5,.69/.6,.915/.7,1.2/.75,1.38/.8,1.6/.84,1.83/.88,2.12/.9,2.3/ .92,2.52/.94,2.81/.95,2.99/.96,3.2/.97,3.5/.98,3.9/.99,4.6/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.995,5.3/.998,6.2/.999,7/.9998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етически [-LN(1-RN)] на бесконечном полуинтерва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RN = 0.999999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pDis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8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gt;0.99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в  0.0199%  случа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GENERATE 360, FN$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708360" y="500040"/>
                <a:ext cx="2376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λ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еобразование распределен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си распреде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искрет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прерыв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ага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=X/Y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187280" y="907920"/>
                <a:ext cx="30243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1187280" y="1844640"/>
                <a:ext cx="31672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042920" y="2781360"/>
                <a:ext cx="1944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419640" y="2781360"/>
                <a:ext cx="2016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μ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84360" y="3933720"/>
                <a:ext cx="669600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z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μ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y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468360" y="5300640"/>
                <a:ext cx="810108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λyμ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y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λy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λμ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λz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еобразование распределен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р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одит к суммированию средних и дисперс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ют функцию распределения F(x), тогда максимум F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x),    минимум 1-[1-F(x)]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 элемента упорядоченног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611280" y="3500280"/>
                <a:ext cx="619272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имеры моде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огоканальные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ns STORAG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ERATE (EXPONENTIAL(1,0,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TER Chans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PART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VANCE 2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AVE Chans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ERATE 5000,,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RMINAT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имеры моде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оритетная систе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k   VARIABLE (GAMMA(2,0,P2(3,3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NERATE (EXPONENTIAL(1,0,5.0)),,,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IGN 1,1 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тип транз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IGN 2,0.3 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время обслу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QUEUE S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EEMPT Chan, PR, Rept,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AVEVALUE Time, V$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IGN 5, X$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it ADVANCE P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NSFER ,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t ASSIGN 5, V$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NSFER ,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 DEPART S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C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R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имеры моде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оритетная система обслужи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NERATE (EXPONENTIAL(1,0,3.33)),,,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IGN 1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IGN 2,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NSFER ,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NERATE (EXPONENTIAL(1,0,2.50)),,,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IGN 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IGN 2,0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NSFER ,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NERATE 5000,,,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RMINAT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имеры моде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антование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явка обрабатывается не больше, чем квант врем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служенная убирается из потока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ообслуженная в конец очереди на дообслужи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ro SEIZE Fc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 G F5, X$Quantum,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IGN 5, (P5 - X$Quan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VANCE X$Qua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LEASE Fc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 ,I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st ADVANCE 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LEASE Fc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имеры моде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уговое обслуж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Обслуживание очереди по одной заявке из каждой непустой очере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До исчерпания заявок в текущей очереди, включая те, которые пришли в момент обслужи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Обслуживание всех заявок, накопившихся к нача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служи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имеры моде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9528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говое обслужива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 модели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ITIAL X$Empty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ERATE (EXPONENTIAL(1,0,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IGN 1, A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IGN 1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IGN 3, 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 E X$Empty, 1, Inq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AVEVALUE Pointer,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AVEVALUE Empty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q1 QUEUE *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 E X$Pointer,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PART *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 ,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имеры моде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9528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говое обслужива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ер модели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родолжение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 ;повтор предыдущего блока с параметром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ERATE (EXPONENTIAL(2,0,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--------||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IGN 2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--------||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 E X$Empty, 1, Inq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--------||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q2 ---------||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 ;повтор предыдущего блока с параметром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 SEIZE Fc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VANCE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LEASE Fc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 E Q*2, 0, Z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IGN 4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Ординарность потока соб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663480"/>
            <a:ext cx="81471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к событий называ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рдинар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события в нем появляются поодино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ь попадания на участок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х и более событий пренебрежимо мала по сравнению с вероятностью попадания на него ровно одного собы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322360" y="2874960"/>
                <a:ext cx="3689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468360" y="3573360"/>
            <a:ext cx="79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учайное число событ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(t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падающих на элементарный участок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, t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пределен рядом распред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979640" y="4365720"/>
                <a:ext cx="45370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:</m:t>
                    </m:r>
                    <m:m>
                      <m:mr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Δt</m:t>
                          </m:r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Δt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276720" y="487368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4416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45133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720" y="44416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имеры моде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9528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говое обслужива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ер модели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родолжение)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IGN 5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IGN 6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AVEVALUE Qmax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eck   TEST GE Q*5, X$Qmax,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AVEVALUE Qmax, Q*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IGN 6,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    ASSIGN 5+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OP 4,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     TEST E P6, 0, Z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AVEVALUE Empty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 ,Z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Zpt     SAVEVALUE Pointer, P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Zzz     TERMINAT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имеры моде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ет надельного и суточного цик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часов в день, 7 часов в пятн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** ;рабочий 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ERATE 1,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QQ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IZE F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PART QQ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VANCE 0.8,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LEASE F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RMINAT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** ;ежедневные переры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ERATE 24,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UNAVAIL F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Примеры моде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ет надельного и суточного цикл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VANCE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 E LS2,0,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VAIL F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 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** ;выходные д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ERATE 168,0,1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IC 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UNAVAIL F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VANCE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VAIL F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IC 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Интенсивность потока соб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781000"/>
            <a:ext cx="81471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ее число событий ординарного пот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916360" y="3314880"/>
                <a:ext cx="2808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</m:sup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539640" y="432288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постоянной интенсивности пот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771640" y="4603680"/>
                <a:ext cx="33116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</m:sup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468360" y="9810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нтенсив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лотность) ординарного потока событий в момен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482920" y="1365120"/>
                <a:ext cx="33843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M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Отсутствие после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734760"/>
            <a:ext cx="81471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ок событий называе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током без последей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для любых непересекающихся участков времени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а событ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X(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X(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X(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дающих на эти участки, представляют собой независимые случайные вел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4608720" cy="930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35733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оток без последействия, ординарен и имеет постоянную интенсивность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число событ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t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распределение Пуассона с параметр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050920" y="4581360"/>
                <a:ext cx="468180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!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539640" y="539100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динарный поток событий, в котором отсутствуют последействия, называется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уассоновским пото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458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Стационар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000" y="734760"/>
            <a:ext cx="81471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ок событий называе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ационарн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все его вероятностные характеристики не меняются со време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оятность попадания того или иного числа событий на участок длины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исит только от длины этого участка и не зависит от его распо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стационарного потока событий его интенсивность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рдинар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ационар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ез последей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ток, называе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стейш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л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ационарным пуассоновск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то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током с ограниченным последействи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ется поток, у которого случайные интервал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 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соседними по времени событиями представляют собой независимые случайные вел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ционарный поток с ограниченным последействием называе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током Паль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Функция распределения простейшего пот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734760"/>
            <a:ext cx="8147160" cy="26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агая в формуле (1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=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{X(t)=0}=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у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t)=1-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(t&gt;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тность распределения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t)=dF(t)/dt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(t&gt;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вые характери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08720" y="1197000"/>
            <a:ext cx="2879640" cy="2255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39640" y="3303720"/>
                <a:ext cx="388800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t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79520" y="4221000"/>
                <a:ext cx="667368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λ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λt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Потоки Пальма в теории восстано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734760"/>
            <a:ext cx="820728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: имеется неограниченное количество одинаковых по своим характеристикам элементов. Элемент 1 включается в работу в момен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работает случайное врем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сле чего выходит из строя (отказывает). В момент отказа элемент 1 мгновенно заменяется (восстанавливается) элементом 2, который работает случайное врем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чего заменяется элементом 3, и т.д. Этот процесс восстановления элементов продолжается неогранич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с.в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зависимы и одинаково распределены, то поток отказов (восстановлений) является потоком Паль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3284640"/>
            <a:ext cx="8424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стики проц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X(t)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восстановлений на (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восстановлений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.о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(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тность восстановления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озраст» элемен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(T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вязан с потоком восстано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«Остаточное время» жизни элемен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ет тоже распределение, что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71640" y="3571920"/>
                <a:ext cx="12240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724360" y="4653000"/>
                <a:ext cx="18734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716360" y="5011560"/>
                <a:ext cx="3961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M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Потоки Эрла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734760"/>
            <a:ext cx="8207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током Эрланг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-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о поряд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параметром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поток Пальма, у которого интервалы между событиями распределены по закону Эрланг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 порядк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=2,3,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можно получить из простейшего с помощью его «просеивания»; при этом каждо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 событие сохраняется, а все промежуточные сохраня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2997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хема преобразования простейшего потока в поток Эрланга 3-го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042920" y="3438360"/>
            <a:ext cx="6913800" cy="1285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5084640"/>
            <a:ext cx="8136000" cy="14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с.в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тервал между соседними событиями в потоке Эрланга 3-го порядка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зависимые с.в., имеющие показательное распределение с параметром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4:14:18Z</dcterms:created>
  <dc:creator>Rustam</dc:creator>
  <dc:description/>
  <dc:language>en-US</dc:language>
  <cp:lastModifiedBy>julivic</cp:lastModifiedBy>
  <dcterms:modified xsi:type="dcterms:W3CDTF">2006-10-06T14:35:34Z</dcterms:modified>
  <cp:revision>90</cp:revision>
  <dc:subject/>
  <dc:title>Моделирование</dc:title>
</cp:coreProperties>
</file>