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DC7-1600-4ABE-A842-18439FCB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EFF-EDFB-4D54-B0B1-529D765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A3A-3823-4CB3-A3AC-F1EB073B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CE2-0535-45D6-AC58-D33BB1B3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754-5C5A-40F8-8BB3-10ED8017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FCC-C4F8-498A-A2A9-B7F5B8AB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862-8DE5-44A1-96A4-8DEA1985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833-9259-448D-9A72-7AE546D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41D-2E41-492B-8E75-7F2E7461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AA8-6087-4CD1-B1D1-A73527AC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409-6C38-49D8-95D7-8EFFD83E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D99-B1F0-4F72-B795-D76A8C6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DE82-98D9-423A-8EFE-558EDB267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Лекц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Принципы построения имитационн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равниваем устройство и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8920" y="1341360"/>
          <a:ext cx="8389800" cy="4525920"/>
        </p:xfrm>
        <a:graphic>
          <a:graphicData uri="http://schemas.openxmlformats.org/drawingml/2006/table">
            <a:tbl>
              <a:tblPr/>
              <a:tblGrid>
                <a:gridCol w="4321080"/>
                <a:gridCol w="2052720"/>
                <a:gridCol w="2016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р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род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ция вы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преры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нсамбли и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72036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нсамб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щность транзактов, имеющих общего пре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расще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M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же, что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MB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лько движение продолжают все члены в порядке очеред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синхро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руппа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ные по некоторому признаку транз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ить транзакт к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далить транзакт из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ка принадлежности к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риоритет транзактов и прер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закт может иметь целочисленный приоритет, определяющий очередность об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ATE A,B,C,D,</a:t>
            </a:r>
            <a:r>
              <a:rPr b="1" lang="en-US" sz="2400" spc="-1" strike="noStrike">
                <a:solidFill>
                  <a:srgbClr val="9900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приор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EMP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прервать обработку транзакта на устройств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приоритет обрабатываемой заявки ниже, чем у активного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мает прерывание с устройств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рывающая заявка сама прервана быть не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Логические клю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и используются для управления движением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S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RES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еременные и сохраняемые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яет переменные выражениям над константами, стандартными числовыми атрибутами, функциями, содержащими арифметические и  логически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VE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мая скалярная ве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AVE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храняемая матр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Накопительные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чере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регистрации оч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окончания ожидания в оч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аблицы общего на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запомнить систем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BU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таб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B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манда описания табл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асс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ить индикатор трасс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TR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ключить трассир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енерация случай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N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дает целое число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9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ген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Элементы имитационной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соб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датчики случай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тай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цепи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цель моде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счет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блок ини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 критерий о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 методы обработки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бъекты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ы су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ные числовые атриб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з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ройства и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самбли 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 транзактов и прер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ические клю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менные и сохраняем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опительные стат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Классы су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9640" y="1600200"/>
          <a:ext cx="8147160" cy="369396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  <a:gridCol w="20368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рибу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и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пил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р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м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оизводи- 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тандартные числовые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итация переменных состояний. Могут быть числовыми или строковыми, могут использоваться как операнды в выражениях, позволяют отразить зависимость поведения транзакта от состояния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ансамбля активного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ритет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элементов в очереди (гд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бъект мод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ранз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закт – заявка, запрос, с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араметры транза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ритет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солютное время вхождения транзакта в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AY INDI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закт не смог перейти к следующему бл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 INDI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о продвижении транз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RENT B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и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 B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I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епи, в которых находится данный транза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ранз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стояния транза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SP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ющий в цепи будущи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кое в цепях пользователя, задержки ил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RMIN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лежащий уда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ранз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пи транза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ture Events Ch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 будущи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rent Events Ch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 текущи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ay Ch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 за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nding Ch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 зависания на устро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Ch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устройство имеет четыре цепи транза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n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, ожидающих возможности прервать устройство в режиме преры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ru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 прерванных событ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, ожидающих возможности заня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, ожидающих готов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Устройства и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ac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, которым в любой момент времени может владеть только один транз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ь некоторое устр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L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бодить устр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o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, который определяется ем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ь ячейки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V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вободить данный транзакт из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VAIL/FUNAVA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о готово / не гот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VAIL/SUNAVA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доступна / не доступ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3:55:07Z</dcterms:created>
  <dc:creator>Rustam</dc:creator>
  <dc:description/>
  <dc:language>en-US</dc:language>
  <cp:lastModifiedBy>korobitsin</cp:lastModifiedBy>
  <dcterms:modified xsi:type="dcterms:W3CDTF">2006-09-07T08:17:56Z</dcterms:modified>
  <cp:revision>8</cp:revision>
  <dc:subject/>
  <dc:title>Моделирование</dc:title>
</cp:coreProperties>
</file>