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29B-8F4C-455E-ACCA-DD6CA176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DA0-A662-46EB-9E1B-60B71F1E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9A1-E98A-412F-A4CC-C8DE4833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E1A-CE7A-494D-AE83-F30B653E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AAC-99F3-4ADB-8764-D99793C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269-12F1-42DF-B9A8-42D68226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371-5CC3-421A-9888-345D5E03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B75-AF70-46F3-89F4-0D2789A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103-493C-4DB9-AE0E-5A916518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8F2-703D-4548-9F5F-B1E1982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881-5621-4F3E-8013-71F714C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F00-DBA5-4184-B746-1CF4DDC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A253-1CDA-47B3-BFBE-79199F30C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учайные 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ереходные вероятности Марковской цеп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69372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состоя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возвратным, если вероятность  того, что система выйдя из этого состояния, когда-либо в него вернётся, равна единице. Если эта вероятность меньше единицы, то состояние называется невозвр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оглощающим, если вероятность ухода системы в любое другое состояние равна 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связанном графе имеется хотя бы одно поглощающие состояние, то не одно из состояний системы не является возвр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ное состояние, для которого возвращение возможно через число шагов кратно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ериодическим с период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ное состояние, не являющееся периодическим, является эргодическ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едельный в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69336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ельный вектор существует, если для системы выполняется теорема Мар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Марков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число состояний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ечно, и из каждого состояния можно перейти, за то или иное число шагов, в любое другое состояние, то предельные вероятности состояний существуют и не зависят от началь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ельные (стационарные, финальные) вероятности однозначно определяются следующими соотнош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едельный вект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ная матр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финальных вероятностей  един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2760" y="3284640"/>
                <a:ext cx="32306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ε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ε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4653000"/>
                <a:ext cx="1762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едельный в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69336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предельного распределения и численные значения его компонент не зависят от началь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, для которой предельный вектор существует, будем назыв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годиче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меча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алгебраических уравнений (2) всегда будет линейно зависимой, т.к. коэффициенты первого уравнения в этой системе, дополняют до единицы сумму коэффициентов остальных уравнений.  Поэтому для нахождения финальных вероятностей, берут систему (2) без любого одного уравнения и дополняют её условием норм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Асимптотическое изменение неэргодических сист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0755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ание исходной системы в псевдоэргодическую путем введения фиктивных переходов из поглощающих состояний в начальные, приписав им некоторую вероятность α, при этом, для каждого из поглощающих состояний, вероятность перехода в себя должна быть уменьшена на 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2421000"/>
            <a:ext cx="4392720" cy="3746520"/>
            <a:chOff x="179280" y="2421000"/>
            <a:chExt cx="4392720" cy="3746520"/>
          </a:xfrm>
        </p:grpSpPr>
        <p:sp>
          <p:nvSpPr>
            <p:cNvPr id="163" name=""/>
            <p:cNvSpPr/>
            <p:nvPr/>
          </p:nvSpPr>
          <p:spPr>
            <a:xfrm>
              <a:off x="225360" y="2421000"/>
              <a:ext cx="432900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73320" y="2676600"/>
              <a:ext cx="596880" cy="53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8040" y="3797280"/>
              <a:ext cx="596880" cy="53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98680" y="3801960"/>
              <a:ext cx="596880" cy="54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1400" y="5052960"/>
              <a:ext cx="596880" cy="53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720" y="5103720"/>
              <a:ext cx="596880" cy="54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3360" y="4057560"/>
              <a:ext cx="179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373040" y="3075120"/>
              <a:ext cx="81288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97120" y="3092400"/>
              <a:ext cx="73836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6240" y="4325760"/>
              <a:ext cx="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78400" y="4325760"/>
              <a:ext cx="0" cy="7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9840" y="2719440"/>
              <a:ext cx="934920" cy="1082520"/>
            </a:xfrm>
            <a:custGeom>
              <a:avLst/>
              <a:gdLst/>
              <a:ahLst/>
              <a:rect l="l" t="t" r="r" b="b"/>
              <a:pathLst>
                <a:path w="988" h="1143">
                  <a:moveTo>
                    <a:pt x="948" y="1143"/>
                  </a:moveTo>
                  <a:cubicBezTo>
                    <a:pt x="968" y="988"/>
                    <a:pt x="988" y="833"/>
                    <a:pt x="948" y="693"/>
                  </a:cubicBezTo>
                  <a:cubicBezTo>
                    <a:pt x="908" y="553"/>
                    <a:pt x="821" y="411"/>
                    <a:pt x="708" y="303"/>
                  </a:cubicBezTo>
                  <a:cubicBezTo>
                    <a:pt x="595" y="195"/>
                    <a:pt x="388" y="90"/>
                    <a:pt x="270" y="45"/>
                  </a:cubicBezTo>
                  <a:cubicBezTo>
                    <a:pt x="152" y="0"/>
                    <a:pt x="25" y="23"/>
                    <a:pt x="0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65520" y="2859120"/>
              <a:ext cx="1711080" cy="2503440"/>
            </a:xfrm>
            <a:custGeom>
              <a:avLst/>
              <a:gdLst/>
              <a:ahLst/>
              <a:rect l="l" t="t" r="r" b="b"/>
              <a:pathLst>
                <a:path w="1808" h="2643">
                  <a:moveTo>
                    <a:pt x="1188" y="2643"/>
                  </a:moveTo>
                  <a:cubicBezTo>
                    <a:pt x="1337" y="2538"/>
                    <a:pt x="1486" y="2433"/>
                    <a:pt x="1548" y="2163"/>
                  </a:cubicBezTo>
                  <a:cubicBezTo>
                    <a:pt x="1610" y="1893"/>
                    <a:pt x="1560" y="1358"/>
                    <a:pt x="1560" y="1023"/>
                  </a:cubicBezTo>
                  <a:cubicBezTo>
                    <a:pt x="1560" y="688"/>
                    <a:pt x="1808" y="306"/>
                    <a:pt x="1548" y="153"/>
                  </a:cubicBezTo>
                  <a:cubicBezTo>
                    <a:pt x="1288" y="0"/>
                    <a:pt x="210" y="28"/>
                    <a:pt x="0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8080" y="2859120"/>
              <a:ext cx="1808280" cy="2293920"/>
            </a:xfrm>
            <a:custGeom>
              <a:avLst/>
              <a:gdLst/>
              <a:ahLst/>
              <a:rect l="l" t="t" r="r" b="b"/>
              <a:pathLst>
                <a:path w="1808" h="2643">
                  <a:moveTo>
                    <a:pt x="1188" y="2643"/>
                  </a:moveTo>
                  <a:cubicBezTo>
                    <a:pt x="1337" y="2538"/>
                    <a:pt x="1486" y="2433"/>
                    <a:pt x="1548" y="2163"/>
                  </a:cubicBezTo>
                  <a:cubicBezTo>
                    <a:pt x="1610" y="1893"/>
                    <a:pt x="1560" y="1358"/>
                    <a:pt x="1560" y="1023"/>
                  </a:cubicBezTo>
                  <a:cubicBezTo>
                    <a:pt x="1560" y="688"/>
                    <a:pt x="1808" y="306"/>
                    <a:pt x="1548" y="153"/>
                  </a:cubicBezTo>
                  <a:cubicBezTo>
                    <a:pt x="1288" y="0"/>
                    <a:pt x="210" y="28"/>
                    <a:pt x="0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04840" y="4535640"/>
              <a:ext cx="10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3760" y="3768840"/>
              <a:ext cx="10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60680" y="3211560"/>
              <a:ext cx="1050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89160" y="4559400"/>
              <a:ext cx="1051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3480" y="3068640"/>
              <a:ext cx="1050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1120" y="3683160"/>
              <a:ext cx="380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92440" y="3284640"/>
              <a:ext cx="1050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9280" y="3540240"/>
              <a:ext cx="105120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240" y="5564160"/>
              <a:ext cx="758880" cy="479520"/>
            </a:xfrm>
            <a:custGeom>
              <a:avLst/>
              <a:gdLst/>
              <a:ahLst/>
              <a:rect l="l" t="t" r="r" b="b"/>
              <a:pathLst>
                <a:path w="801" h="505">
                  <a:moveTo>
                    <a:pt x="261" y="0"/>
                  </a:moveTo>
                  <a:cubicBezTo>
                    <a:pt x="133" y="95"/>
                    <a:pt x="6" y="190"/>
                    <a:pt x="3" y="270"/>
                  </a:cubicBezTo>
                  <a:cubicBezTo>
                    <a:pt x="0" y="350"/>
                    <a:pt x="133" y="455"/>
                    <a:pt x="243" y="480"/>
                  </a:cubicBezTo>
                  <a:cubicBezTo>
                    <a:pt x="353" y="505"/>
                    <a:pt x="570" y="465"/>
                    <a:pt x="663" y="420"/>
                  </a:cubicBezTo>
                  <a:cubicBezTo>
                    <a:pt x="756" y="375"/>
                    <a:pt x="801" y="270"/>
                    <a:pt x="801" y="210"/>
                  </a:cubicBezTo>
                  <a:cubicBezTo>
                    <a:pt x="801" y="150"/>
                    <a:pt x="678" y="90"/>
                    <a:pt x="663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05000" y="5535720"/>
              <a:ext cx="758880" cy="479160"/>
            </a:xfrm>
            <a:custGeom>
              <a:avLst/>
              <a:gdLst/>
              <a:ahLst/>
              <a:rect l="l" t="t" r="r" b="b"/>
              <a:pathLst>
                <a:path w="801" h="505">
                  <a:moveTo>
                    <a:pt x="261" y="0"/>
                  </a:moveTo>
                  <a:cubicBezTo>
                    <a:pt x="133" y="95"/>
                    <a:pt x="6" y="190"/>
                    <a:pt x="3" y="270"/>
                  </a:cubicBezTo>
                  <a:cubicBezTo>
                    <a:pt x="0" y="350"/>
                    <a:pt x="133" y="455"/>
                    <a:pt x="243" y="480"/>
                  </a:cubicBezTo>
                  <a:cubicBezTo>
                    <a:pt x="353" y="505"/>
                    <a:pt x="570" y="465"/>
                    <a:pt x="663" y="420"/>
                  </a:cubicBezTo>
                  <a:cubicBezTo>
                    <a:pt x="756" y="375"/>
                    <a:pt x="801" y="270"/>
                    <a:pt x="801" y="210"/>
                  </a:cubicBezTo>
                  <a:cubicBezTo>
                    <a:pt x="801" y="150"/>
                    <a:pt x="678" y="90"/>
                    <a:pt x="663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68720" y="5530680"/>
              <a:ext cx="7491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-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200" y="5559480"/>
              <a:ext cx="790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-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930920" y="2060640"/>
                <a:ext cx="2809800" cy="20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4181400"/>
                <a:ext cx="322596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eqAr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**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Асимптотическое изменение неэргодических сист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79311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м вероятности не поглощающих состояний через сумму вероятностей поглощ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(*): подставим (2) и (3) 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09640" y="1773360"/>
                <a:ext cx="7147080" cy="20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α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α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6920" y="3789360"/>
                <a:ext cx="5113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π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π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0,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равнение Колмо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ссов, когда переходы системы из состояния в состояние, происходят в случайные моменты времени, применяется непрерывная цепь Мар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о переходных вероятност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едём в рассмотрение плотности вероятностей перехода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усть систе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ом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находиться в состоя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смотрим элементарный промежуток времени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мыкающий 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зовём плотностью вероятности  перехода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ел 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перехода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время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467160" y="3284640"/>
                <a:ext cx="201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414972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равнение Колмо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6049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нам заданны плотности вероятности перехода для всех пар состоя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гда можно построить размеченный граф состояний, на котором около каждой стрелки стоит соответствующая плотность вероятности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размеченного графа состояний, можно определить вероятности состоя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как функцию времени. Эти вероятности удовлетворяют уравнениям определённого вида, которые  называются уравнениями Колмогор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находим вероят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ридад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большое приращение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пределим,  будет ли в этот момент времени система находиться в состоя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мо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находилась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время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а не перешла в состоя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4360" y="4365720"/>
                <a:ext cx="4967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179280" y="4869000"/>
            <a:ext cx="8713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есё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 левую сторону и разделим обе части равенства на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55640" y="5229360"/>
                <a:ext cx="4896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24000" y="6093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м к пределу при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→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00720" y="5884920"/>
                <a:ext cx="3046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6232680" y="912960"/>
            <a:ext cx="2792160" cy="2366640"/>
            <a:chOff x="6232680" y="912960"/>
            <a:chExt cx="2792160" cy="2366640"/>
          </a:xfrm>
        </p:grpSpPr>
        <p:sp>
          <p:nvSpPr>
            <p:cNvPr id="260" name=""/>
            <p:cNvSpPr/>
            <p:nvPr/>
          </p:nvSpPr>
          <p:spPr>
            <a:xfrm>
              <a:off x="6232680" y="1838160"/>
              <a:ext cx="577800" cy="51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5120" y="912960"/>
              <a:ext cx="67320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47040" y="1735200"/>
              <a:ext cx="577800" cy="51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91440" y="2765520"/>
              <a:ext cx="57780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10480" y="1324080"/>
              <a:ext cx="76968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10120" y="204480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8062920" y="1324080"/>
              <a:ext cx="4809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66080" y="1427040"/>
              <a:ext cx="48096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869240" y="2251080"/>
              <a:ext cx="7700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13640" y="2251080"/>
              <a:ext cx="67464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80160" y="1014480"/>
              <a:ext cx="4827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43880" y="1838160"/>
              <a:ext cx="3841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7720" y="1941480"/>
              <a:ext cx="385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88280" y="2868480"/>
              <a:ext cx="3841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85120" y="1838160"/>
              <a:ext cx="19188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57920" y="2421000"/>
              <a:ext cx="544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2160" y="2473200"/>
              <a:ext cx="5443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5120" y="2021040"/>
              <a:ext cx="5428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35680" y="1338120"/>
              <a:ext cx="542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16760" y="1554120"/>
              <a:ext cx="542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4000" y="1336680"/>
              <a:ext cx="542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равнение Колмо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6049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ад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ращение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ходим вероятность того, что сист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находи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не перешла н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момент време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находи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за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шла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истема находится в состоя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за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шла в состоя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232680" y="912960"/>
            <a:ext cx="2792160" cy="2366640"/>
            <a:chOff x="6232680" y="912960"/>
            <a:chExt cx="2792160" cy="2366640"/>
          </a:xfrm>
        </p:grpSpPr>
        <p:sp>
          <p:nvSpPr>
            <p:cNvPr id="302" name=""/>
            <p:cNvSpPr/>
            <p:nvPr/>
          </p:nvSpPr>
          <p:spPr>
            <a:xfrm>
              <a:off x="6232680" y="1838160"/>
              <a:ext cx="577800" cy="51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5120" y="912960"/>
              <a:ext cx="67320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7040" y="1735200"/>
              <a:ext cx="577800" cy="51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91440" y="2765520"/>
              <a:ext cx="57780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810480" y="1324080"/>
              <a:ext cx="76968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10120" y="204480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8062920" y="1324080"/>
              <a:ext cx="4809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66080" y="1427040"/>
              <a:ext cx="48096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869240" y="2251080"/>
              <a:ext cx="7700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13640" y="2251080"/>
              <a:ext cx="67464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80160" y="1014480"/>
              <a:ext cx="4827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43880" y="1838160"/>
              <a:ext cx="3841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7720" y="1941480"/>
              <a:ext cx="385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8280" y="2868480"/>
              <a:ext cx="3841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85120" y="1838160"/>
              <a:ext cx="19188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57920" y="2421000"/>
              <a:ext cx="544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82160" y="2473200"/>
              <a:ext cx="5443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85120" y="2021040"/>
              <a:ext cx="5428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1338120"/>
              <a:ext cx="542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16760" y="1554120"/>
              <a:ext cx="542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44000" y="1336680"/>
              <a:ext cx="542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44600" y="2781360"/>
                <a:ext cx="5856120" cy="23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50920" y="5084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уравнения для вероятностей состояний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ями Колмогоров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ирования данной системы уравнений даёт искомые вероятности состояний как функции времени. Начальные условия берутся в зависимости от исходного состояний системы. В связи с тем что сумма всех вероятностей равна единице, одно из уравнений заменяется соотношением норм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равнение Колмо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уравнения Колмог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вой части каждого уравнения стоит производная вероятности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ая часть содержит столько членов, сколько стрелок связанно с дан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трелка направлена из состояния, то соответствующий член имеет знак -, если в состояние то +, каждый член равен произведению, плотности вероятностей перехода соответствующей данной стрелке и вероятности того состояния из которого стрелка ис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003640" y="3141720"/>
            <a:ext cx="3751560" cy="3311640"/>
            <a:chOff x="5003640" y="3141720"/>
            <a:chExt cx="3751560" cy="3311640"/>
          </a:xfrm>
        </p:grpSpPr>
        <p:sp>
          <p:nvSpPr>
            <p:cNvPr id="354" name=""/>
            <p:cNvSpPr/>
            <p:nvPr/>
          </p:nvSpPr>
          <p:spPr>
            <a:xfrm>
              <a:off x="5003640" y="3141720"/>
              <a:ext cx="37515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82360" y="3427200"/>
              <a:ext cx="771480" cy="66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37400" y="3445920"/>
              <a:ext cx="771480" cy="66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83600" y="4505760"/>
              <a:ext cx="771480" cy="66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69400" y="5603400"/>
              <a:ext cx="771480" cy="66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11120" y="5583960"/>
              <a:ext cx="771480" cy="6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21080" y="3617280"/>
              <a:ext cx="158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21080" y="5945760"/>
              <a:ext cx="148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129800" y="4042440"/>
              <a:ext cx="65916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22080" y="4029840"/>
              <a:ext cx="5932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976000" y="5089320"/>
              <a:ext cx="60624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7175520" y="5044320"/>
              <a:ext cx="6130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58560" y="5101920"/>
              <a:ext cx="8042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4480" y="4182120"/>
              <a:ext cx="8042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70640" y="3230280"/>
              <a:ext cx="8042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0920" y="4150440"/>
              <a:ext cx="8038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20080" y="5133600"/>
              <a:ext cx="8038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0640" y="5876280"/>
              <a:ext cx="8042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74560" y="3078000"/>
                <a:ext cx="4249800" cy="31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равнение Колмо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м взаимосвязь между пуассоновскими потоками событий и непрерывными Марковскими цеп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исте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момент време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тся в состоя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может перейти из него в состоя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влиянием пуассоновского потока событий с интенсивностью 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ак только появляется первое событие этого потока, система сразу переходит в состоя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вероятность этого перехода за элементарный промежуток времени 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плотность вероятности перехо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непрерывной цепи Маркова представляет собой интенсивность потока событий, переводящего систему по соответствующей стрелке. Если все потоки событий, переводящие систему из состояния в состояние пуассоновские, то процесс, протекающий в системе, будет Марковский, это определяется отсутствием после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на вопрос о существовании предельной вероятностей даё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Марк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t→∞, в системе устанавливается предельный стационарный режим, система случайным образом меняет свои состояния, причём каждая из них осуществляется с некоторой постоянной вероятность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вычислить предельные вероятности состояний, надо положить равной 0 все левые части уравнения Колмогорова и совместно с условием нормировки эти уравнения позволяют вычислить предельные вероятности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зический смыс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редние относительное время пребывания системы в данном со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е случай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чайный проце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значения которой случайные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классификации случайных процессов, лежат  3 характер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остранство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ндексирующий параметр (врем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татистические зависимости между случайными значениями процес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ранство состоя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множество  возможных значений (состояний) процес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Если множество возможных состояний конечно, то процесс характеризуется дискретным множеством состо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м говорить, что процесс протека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скре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является процессом с дискретным временем, если переходы системы из состояния в состояние возможны только в строго определенные, заранее фиксированные моменты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в системе протека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прерыв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ли с непрерывным временем), если переходы системы из состояния в состояние возможны в любой момент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ипы случай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некоторые типы вероятностных процессов, которые характеризуются разными типа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лучайными велич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ционарн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йный процесс называется стационарным, если функция  инвариантна по отношению ко сдвигу во времени, т.е. для любого числа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ависим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- случайная последовательность, которая образуется множеством независимых случайных величин. Случайным процессом эту величину можно назвать приблизительно, поскольку между значениями нет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овские случайн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называется Марковским (без последействия), если для любого момента времени поведение системы в будущем зависит только от состояния системы в настоящем, и не зависит от того когда и каким образом система в это состояние при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68360" y="2492280"/>
                <a:ext cx="31687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ипы случай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ский процесс с дискретным пространством состояний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пью Марк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Маркова бывают с дискретным и непрерывным вре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образует цепь Маркова, если вероятность того, что следующее состояние буд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висит только от текущего состоя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воздействие всей предыстории процесса полностью сосредоточено на настояще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марков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 дискретным време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ретная цепь Маркова характеризуется тем, что в каждом единичном промежутке времени процесс переходит из текущего состояния в некотор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кретного полумарковского процесса является условием то, что разрешается произвольное распределение времени между переходами из одного состояния в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 непрерывным време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положность Марковским процессу, для которого распределение времени пребывания в состоянии является показательным, для полумарковского процесса допускается произвольное распределение времени пребывания в том или ин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ипы случай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507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ые блуж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оцесс можно представить как передвижение частицы из одного состояние в другое в некотором пространстве состояний. Задача состоит в нахождении частицы в этом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тельная черта – это то, что последующее положение равно предыдущему, плюс случайное перемещение, величину которого выбирают независимым образом из произвольного распределения. Это распределение одно и тоже в люб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 распределение промежутков времени между переходами произвольно, следовательно, случайные блуждания являются частным случаем полумарков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ы вос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ятся к случайным блужданиям. Однако, предметом рассмотрения является не последовательность состояний, а число переходов, как функция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ется действительная временная ось, на которую нанесена последовательность точек, соответствующая моментам перехода из одного состояния в другое. Распределение промежутков времени между соседними точками произвольно. Предполагается, что процесс начинается в 0 и возрастает на единицу при  каждом переходе, т.е. x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числу перех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арковские случайные процес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5075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анализе процессов с дискретными состояниями удобно пользоваться графами состо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имеется Систе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возможными состояни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автомашина, которая может находиться в одном из состоя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о работ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исправна ожидает осмо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сматрива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емонтиру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пис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5280" y="3645000"/>
            <a:ext cx="8497800" cy="2685960"/>
            <a:chOff x="395280" y="3645000"/>
            <a:chExt cx="8497800" cy="2685960"/>
          </a:xfrm>
        </p:grpSpPr>
        <p:sp>
          <p:nvSpPr>
            <p:cNvPr id="56" name=""/>
            <p:cNvSpPr/>
            <p:nvPr/>
          </p:nvSpPr>
          <p:spPr>
            <a:xfrm>
              <a:off x="395280" y="3645000"/>
              <a:ext cx="8497800" cy="26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63160" y="4805280"/>
              <a:ext cx="609840" cy="55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38920" y="4206240"/>
              <a:ext cx="571680" cy="5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1000" y="4881960"/>
              <a:ext cx="572040" cy="5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11560" y="5350320"/>
              <a:ext cx="572040" cy="5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07360" y="4870800"/>
              <a:ext cx="571680" cy="5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746000" y="4478400"/>
              <a:ext cx="149796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772440" y="5312160"/>
              <a:ext cx="132876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3840" y="5126760"/>
              <a:ext cx="90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6000" y="4424040"/>
              <a:ext cx="129096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1691640" y="5225040"/>
              <a:ext cx="152496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7720" y="4478760"/>
              <a:ext cx="58284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42880" y="4314960"/>
              <a:ext cx="582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39120" y="4821840"/>
              <a:ext cx="582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95520" y="5393880"/>
              <a:ext cx="582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5520" y="5364000"/>
              <a:ext cx="582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5720" y="4849200"/>
              <a:ext cx="582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63840" y="5857200"/>
              <a:ext cx="582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960" y="4731840"/>
              <a:ext cx="506160" cy="579240"/>
            </a:xfrm>
            <a:custGeom>
              <a:avLst/>
              <a:gdLst/>
              <a:ahLst/>
              <a:rect l="l" t="t" r="r" b="b"/>
              <a:pathLst>
                <a:path w="558" h="638">
                  <a:moveTo>
                    <a:pt x="546" y="561"/>
                  </a:moveTo>
                  <a:cubicBezTo>
                    <a:pt x="437" y="599"/>
                    <a:pt x="329" y="638"/>
                    <a:pt x="246" y="633"/>
                  </a:cubicBezTo>
                  <a:cubicBezTo>
                    <a:pt x="163" y="628"/>
                    <a:pt x="81" y="608"/>
                    <a:pt x="48" y="531"/>
                  </a:cubicBezTo>
                  <a:cubicBezTo>
                    <a:pt x="15" y="454"/>
                    <a:pt x="0" y="259"/>
                    <a:pt x="48" y="171"/>
                  </a:cubicBezTo>
                  <a:cubicBezTo>
                    <a:pt x="96" y="83"/>
                    <a:pt x="251" y="6"/>
                    <a:pt x="336" y="3"/>
                  </a:cubicBezTo>
                  <a:cubicBezTo>
                    <a:pt x="421" y="0"/>
                    <a:pt x="548" y="130"/>
                    <a:pt x="558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86520" y="4827240"/>
              <a:ext cx="501120" cy="579240"/>
            </a:xfrm>
            <a:custGeom>
              <a:avLst/>
              <a:gdLst/>
              <a:ahLst/>
              <a:rect l="l" t="t" r="r" b="b"/>
              <a:pathLst>
                <a:path w="558" h="638">
                  <a:moveTo>
                    <a:pt x="546" y="561"/>
                  </a:moveTo>
                  <a:cubicBezTo>
                    <a:pt x="437" y="599"/>
                    <a:pt x="329" y="638"/>
                    <a:pt x="246" y="633"/>
                  </a:cubicBezTo>
                  <a:cubicBezTo>
                    <a:pt x="163" y="628"/>
                    <a:pt x="81" y="608"/>
                    <a:pt x="48" y="531"/>
                  </a:cubicBezTo>
                  <a:cubicBezTo>
                    <a:pt x="15" y="454"/>
                    <a:pt x="0" y="259"/>
                    <a:pt x="48" y="171"/>
                  </a:cubicBezTo>
                  <a:cubicBezTo>
                    <a:pt x="96" y="83"/>
                    <a:pt x="251" y="6"/>
                    <a:pt x="336" y="3"/>
                  </a:cubicBezTo>
                  <a:cubicBezTo>
                    <a:pt x="421" y="0"/>
                    <a:pt x="548" y="130"/>
                    <a:pt x="558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39160" y="4974120"/>
              <a:ext cx="582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238560" y="3860640"/>
            <a:ext cx="520560" cy="393840"/>
          </a:xfrm>
          <a:custGeom>
            <a:avLst/>
            <a:gdLst/>
            <a:ahLst/>
            <a:rect l="l" t="t" r="r" b="b"/>
            <a:pathLst>
              <a:path w="328" h="248">
                <a:moveTo>
                  <a:pt x="80" y="232"/>
                </a:moveTo>
                <a:cubicBezTo>
                  <a:pt x="37" y="218"/>
                  <a:pt x="14" y="170"/>
                  <a:pt x="0" y="128"/>
                </a:cubicBezTo>
                <a:cubicBezTo>
                  <a:pt x="8" y="83"/>
                  <a:pt x="3" y="65"/>
                  <a:pt x="40" y="40"/>
                </a:cubicBezTo>
                <a:cubicBezTo>
                  <a:pt x="63" y="5"/>
                  <a:pt x="74" y="13"/>
                  <a:pt x="112" y="0"/>
                </a:cubicBezTo>
                <a:cubicBezTo>
                  <a:pt x="167" y="5"/>
                  <a:pt x="227" y="3"/>
                  <a:pt x="272" y="40"/>
                </a:cubicBezTo>
                <a:cubicBezTo>
                  <a:pt x="285" y="51"/>
                  <a:pt x="305" y="71"/>
                  <a:pt x="312" y="88"/>
                </a:cubicBezTo>
                <a:cubicBezTo>
                  <a:pt x="319" y="103"/>
                  <a:pt x="328" y="136"/>
                  <a:pt x="328" y="136"/>
                </a:cubicBezTo>
                <a:cubicBezTo>
                  <a:pt x="321" y="178"/>
                  <a:pt x="319" y="217"/>
                  <a:pt x="288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789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арковские случайные процес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69372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овскую цепь будем описывать с помощью вероятностей состо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юбой момент време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а может находиться в одном из состоя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ероятности этих состоя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е распределение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тором состояния сис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два смежных момента времен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  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бозначим через                                           условную вероятность перехода системы из состоя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1 шаг. Если эти вероятности не зависят от номера ша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ретное фазовое пространство, то такая Марковская цепь называется однородной. Иначе она называется неоднор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3640" y="3141720"/>
                <a:ext cx="2521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722920" y="3789360"/>
                <a:ext cx="2665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ереходные вероятности Марковской це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69372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ь перехода будет больше нуля, если переход из состоя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можен за один шаг, в противном  случает вероятность = 0. Совокупность вероятностей перех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ют матрицу перехода, которую называют стохастической. По главной диагонали стоят задержки системы в том или и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смотрении Марковской системы удобно пользоваться размеченным графом состояний, на стрелках которого стоят переходные веро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56000" y="2276640"/>
                <a:ext cx="237636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68360" y="4724280"/>
                <a:ext cx="273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,8</m:t>
                              </m:r>
                            </m:e>
                            <m:e>
                              <m:r>
                                <m:t xml:space="preserve">0,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,1</m:t>
                              </m:r>
                            </m:e>
                            <m:e>
                              <m:r>
                                <m:t xml:space="preserve">0,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,9</m:t>
                              </m:r>
                            </m:e>
                            <m:e>
                              <m:r>
                                <m:t xml:space="preserve">0,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ереходные вероятности Марковской це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69372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чального вектора) и матрицы перех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проследить эволюц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шага вероятност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вероятности перехода меняются на каждом шаге, требуется задавать матрицу перехода на каждом шаге. Тогда вектор системы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аг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067280" y="1384200"/>
                <a:ext cx="1439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28720" y="1700280"/>
                <a:ext cx="40291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51160" y="2492280"/>
                <a:ext cx="2065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2720" y="620640"/>
                <a:ext cx="64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03640" y="4581360"/>
                <a:ext cx="2378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4:34:35Z</dcterms:created>
  <dc:creator>Rustam</dc:creator>
  <dc:description/>
  <dc:language>en-US</dc:language>
  <cp:lastModifiedBy>julivic</cp:lastModifiedBy>
  <dcterms:modified xsi:type="dcterms:W3CDTF">2007-09-24T11:55:58Z</dcterms:modified>
  <cp:revision>51</cp:revision>
  <dc:subject/>
  <dc:title>Слайд 1</dc:title>
</cp:coreProperties>
</file>