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2790-C25C-46CE-912C-2A61A17E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43F5-3E18-4E46-868C-BCF7DFE6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2FD4-B55E-49C1-BF60-50611B81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0516-8247-4174-B1A1-FCFA5631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F182-7231-4A9E-AE55-6AFB9706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D1C6-BC72-4DA8-92E6-5E1ED303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5F93-33BA-4DF3-AB01-802F152A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865A-B5EF-4D5E-A3D3-35379063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30DC-B253-4E0B-B762-8E142A6E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76DA-89B3-4B76-9858-FD93E638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9654-ED58-4708-8362-B8D63EA3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45ED-0B11-4228-85BD-71862366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D7C7-C966-4E63-966B-624048A359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</a:rPr>
              <a:t>Модел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Лекция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Примеры С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Одноканальная СМО с ожид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 для вероятности состояний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канальной СМО с ожиданием, окончате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т следующий ви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ероятность отка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носительная пропускная способ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бсолютная пропускная способ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реднее число заявок, находящееся в очеред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300720" y="692280"/>
                <a:ext cx="181944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ρ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ρ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700360" y="2781360"/>
                <a:ext cx="31687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тказа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219640" y="3686040"/>
                <a:ext cx="29354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тказа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4932360" y="4508640"/>
                <a:ext cx="180036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50920" y="5564160"/>
                <a:ext cx="48258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0" y="462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4920" y="6129360"/>
                <a:ext cx="9036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mρ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ρ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m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Одноканальная СМО с ожид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мер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дноканальная СМО – АТС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ферными каналами. Пришедший вызов, помещается с один из буферных каналов. Когда единственная линия освобождается, то вызов из буферного канала поступает на линию. Если все буферные каналы заняты, то вызов не обслуживается. Интенсивность потока вызовов λ=0,8 выз/мин. Среднее время обслуживание вызов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о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ин. Найти абсолютную (А) и относительную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ропускные способности, и вероятность отказ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о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971640" y="2951280"/>
                <a:ext cx="2376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,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6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982800" y="4581360"/>
                <a:ext cx="22827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тказ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971640" y="5181480"/>
                <a:ext cx="19256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920880" y="3726000"/>
                <a:ext cx="35002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тказа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8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Одноканальная СМО с ожид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вероятностью 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очереди будет одна заявка, с вероятностью 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очереди будет две заявки, с вероятностью 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очереди будет (k-1) заяв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реднее число заявок связанных с систе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ат. ожидание дискретной случайной величины числа заяв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627280" y="1341360"/>
                <a:ext cx="35290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ρ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0" y="217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484360" y="2133720"/>
                <a:ext cx="604836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mρ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mρ</m:t>
                            </m:r>
                          </m:e>
                        </m:d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796000" y="3068640"/>
                <a:ext cx="1224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755640" y="3500280"/>
                <a:ext cx="257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979640" y="3884760"/>
                <a:ext cx="169236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ρ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908000" y="5170320"/>
                <a:ext cx="305928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0</m:t>
                        </m:r>
                      </m:e>
                    </m:acc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0" y="519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908000" y="5965920"/>
                <a:ext cx="62643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ρ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ρ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Одноканальная СМО с ожид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едем выражение дл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реднего  времени ожидания заявки в очеред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заявка приходит в систему в какой–то момент времени, с вероятность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нал не будет занят, и заявка не будет стоять в очереди. С вероятность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явка придёт в систему в момент обслуживания какой-то заявки, но очереди не будет. Тогда она будет ожидать обслуживания в среднем 1/μ времени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роятность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очереди будет ещё одна заявка, соответственно  время ожидания будет 2/μ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роятность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очереди будет ещё одна, соответственно  время ожидания буд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μ . Пр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1 в очереди буд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явок, следовательно время ожидания новой заявки будет равно 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108000" y="4221000"/>
                <a:ext cx="89647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ж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βμ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ρ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kρ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m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ρ</m:t>
                                </m:r>
                              </m:e>
                            </m:d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ρ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0" y="349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826920" y="5070600"/>
                <a:ext cx="496908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ρ</m:t>
                            </m:r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ρ</m:t>
                                </m:r>
                              </m:e>
                            </m:d>
                          </m:num>
                          <m:den>
                            <m:r>
                              <m:t xml:space="preserve">μ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ж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ρμ</m:t>
                            </m:r>
                          </m:den>
                        </m:f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Формул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Литтл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Одноканальная СМО с ожид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реднее время пребывания заявки в сис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 – время ожидания заявки в очер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Θ – случайная величина, равная времени обслуживания заявки, если заявка обслуживается, и 0 если не обслуживается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124000" y="1125360"/>
                <a:ext cx="33130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ист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М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ж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М</m:t>
                    </m:r>
                    <m:r>
                      <m:t xml:space="preserve">[</m:t>
                    </m:r>
                    <m:r>
                      <m:t xml:space="preserve">Θ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908000" y="2924280"/>
                <a:ext cx="244800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М</m:t>
                        </m:r>
                        <m:r>
                          <m:t xml:space="preserve">[</m:t>
                        </m:r>
                        <m:r>
                          <m:t xml:space="preserve">Θ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б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  <m:e>
                        <m:r>
                          <m:t xml:space="preserve">M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б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ж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0" y="357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835280" y="4581360"/>
                <a:ext cx="6624360" cy="16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ист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ист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ρq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ρ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Одноканальная СМО с ожид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мер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дноканальная СМО – АТС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ферными каналами. Пришедший вызов, помещается с один из буферных каналов. Когда единственная линия освобождается, то вызов из буферного канала поступает на линию. Если все буферные каналы заняты, то вызов не обслуживается. Интенсивность потока вызовов λ=0,8 выз/мин. Среднее время обслуживание вызов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о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ин. Найти абсолютную (А) и относительную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ропускные способности, и вероятность отказ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о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971640" y="2951280"/>
                <a:ext cx="2376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,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6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900000" y="3716280"/>
                <a:ext cx="3816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mρ</m:t>
                            </m:r>
                          </m:e>
                        </m:d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900000" y="4653000"/>
                <a:ext cx="23004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900000" y="5516640"/>
                <a:ext cx="21877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5364000" y="2924280"/>
                <a:ext cx="17877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ж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5364000" y="3716280"/>
                <a:ext cx="18352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ист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8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Одноканальные СМО с ожиданием и неограниченной очередью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 m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&gt;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СМО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1/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 возможных состояний системы бесконеч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оятности состояний СМО с неограниченной очередью, получим путём предельного перехода пр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&gt;∞ из формулы (5). Знаменатель формул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ставляет собой сумму бесконечного числа членов арифметической прогрессии. Эта сумма сходится, только тогда когда прогрессия бесконечно убывающая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то условие при котором СМО с неограниченной  очередью существует предельный установившийся режим. Если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интенсивность заявок больше чем скорость обслуживания и очередь будет расти и система будет неэффективна. Предположим, что условие выполнено, предельный режим существу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57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258920" y="1557360"/>
            <a:ext cx="7165800" cy="1727280"/>
            <a:chOff x="1258920" y="1557360"/>
            <a:chExt cx="7165800" cy="1727280"/>
          </a:xfrm>
        </p:grpSpPr>
        <p:sp>
          <p:nvSpPr>
            <p:cNvPr id="283" name=""/>
            <p:cNvSpPr/>
            <p:nvPr/>
          </p:nvSpPr>
          <p:spPr>
            <a:xfrm>
              <a:off x="1258920" y="1557360"/>
              <a:ext cx="7165800" cy="172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730880" y="2251800"/>
              <a:ext cx="459000" cy="424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19520" y="2251800"/>
              <a:ext cx="459000" cy="424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35240" y="2251800"/>
              <a:ext cx="459000" cy="424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30760" y="2251800"/>
              <a:ext cx="459000" cy="424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71360" y="2142360"/>
              <a:ext cx="983520" cy="118080"/>
            </a:xfrm>
            <a:custGeom>
              <a:avLst/>
              <a:gdLst/>
              <a:ahLst/>
              <a:rect l="l" t="t" r="r" b="b"/>
              <a:pathLst>
                <a:path w="1350" h="312">
                  <a:moveTo>
                    <a:pt x="0" y="312"/>
                  </a:moveTo>
                  <a:cubicBezTo>
                    <a:pt x="241" y="156"/>
                    <a:pt x="483" y="0"/>
                    <a:pt x="708" y="0"/>
                  </a:cubicBezTo>
                  <a:cubicBezTo>
                    <a:pt x="933" y="0"/>
                    <a:pt x="1141" y="156"/>
                    <a:pt x="1350" y="3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191040" y="2164320"/>
              <a:ext cx="983880" cy="117720"/>
            </a:xfrm>
            <a:custGeom>
              <a:avLst/>
              <a:gdLst/>
              <a:ahLst/>
              <a:rect l="l" t="t" r="r" b="b"/>
              <a:pathLst>
                <a:path w="1350" h="312">
                  <a:moveTo>
                    <a:pt x="0" y="312"/>
                  </a:moveTo>
                  <a:cubicBezTo>
                    <a:pt x="241" y="156"/>
                    <a:pt x="483" y="0"/>
                    <a:pt x="708" y="0"/>
                  </a:cubicBezTo>
                  <a:cubicBezTo>
                    <a:pt x="933" y="0"/>
                    <a:pt x="1141" y="156"/>
                    <a:pt x="1350" y="3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2014920" y="2679840"/>
              <a:ext cx="983520" cy="118080"/>
            </a:xfrm>
            <a:custGeom>
              <a:avLst/>
              <a:gdLst/>
              <a:ahLst/>
              <a:rect l="l" t="t" r="r" b="b"/>
              <a:pathLst>
                <a:path w="1350" h="312">
                  <a:moveTo>
                    <a:pt x="0" y="312"/>
                  </a:moveTo>
                  <a:cubicBezTo>
                    <a:pt x="241" y="156"/>
                    <a:pt x="483" y="0"/>
                    <a:pt x="708" y="0"/>
                  </a:cubicBezTo>
                  <a:cubicBezTo>
                    <a:pt x="933" y="0"/>
                    <a:pt x="1141" y="156"/>
                    <a:pt x="1350" y="3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3138840" y="2635200"/>
              <a:ext cx="983520" cy="117720"/>
            </a:xfrm>
            <a:custGeom>
              <a:avLst/>
              <a:gdLst/>
              <a:ahLst/>
              <a:rect l="l" t="t" r="r" b="b"/>
              <a:pathLst>
                <a:path w="1350" h="312">
                  <a:moveTo>
                    <a:pt x="0" y="312"/>
                  </a:moveTo>
                  <a:cubicBezTo>
                    <a:pt x="241" y="156"/>
                    <a:pt x="483" y="0"/>
                    <a:pt x="708" y="0"/>
                  </a:cubicBezTo>
                  <a:cubicBezTo>
                    <a:pt x="933" y="0"/>
                    <a:pt x="1141" y="156"/>
                    <a:pt x="1350" y="3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15400" y="2631600"/>
              <a:ext cx="353880" cy="23184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89320" y="2631600"/>
              <a:ext cx="340560" cy="23184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5297760" y="2141640"/>
              <a:ext cx="387000" cy="21852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 rot="19099200">
              <a:off x="4437360" y="2136960"/>
              <a:ext cx="353880" cy="23184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 rot="19099200">
              <a:off x="6033240" y="2136960"/>
              <a:ext cx="353880" cy="23184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9099200">
              <a:off x="5333400" y="2574360"/>
              <a:ext cx="353880" cy="23184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95000" y="1849680"/>
              <a:ext cx="327960" cy="29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45280" y="1840680"/>
              <a:ext cx="327600" cy="29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93640" y="1897560"/>
              <a:ext cx="327960" cy="29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90680" y="2827800"/>
              <a:ext cx="327600" cy="29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484080" y="2783880"/>
              <a:ext cx="327600" cy="29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258080" y="2783880"/>
              <a:ext cx="327960" cy="29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38520" y="2770920"/>
              <a:ext cx="327600" cy="29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41880" y="2862720"/>
              <a:ext cx="327960" cy="29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76600" y="1882440"/>
              <a:ext cx="327960" cy="29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63560" y="1829880"/>
              <a:ext cx="327600" cy="29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932360" y="4797360"/>
                <a:ext cx="57636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067280" y="5407200"/>
                <a:ext cx="5760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Одноканальные СМО с ожиданием и неограниченной очередью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 m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&gt;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57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411280" y="981000"/>
                <a:ext cx="4087800" cy="56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ρ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ρ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ρ</m:t>
                                    </m:r>
                                  </m:e>
                                </m:d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ρ</m:t>
                                    </m:r>
                                  </m:e>
                                </m:d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</m:e>
                    </m:eqAr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λq</m:t>
                    </m:r>
                    <m:r>
                      <m:t xml:space="preserve">=</m:t>
                    </m:r>
                    <m:r>
                      <m:t xml:space="preserve">λ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→</m:t>
                    </m:r>
                    <m:r>
                      <m:t xml:space="preserve">∞</m:t>
                    </m:r>
                    <m:r>
                      <m:t xml:space="preserve">)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+</m:t>
                    </m:r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ж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ист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333399"/>
                </a:solidFill>
                <a:uFillTx/>
                <a:latin typeface="Arial"/>
              </a:rPr>
              <a:t>Многоканальные СМО с ожидание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канальную СМО с ожиданием поступает поток заявок интенсив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нтенсивность потока обслуживания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. Число мест в очереди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систем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им состояние такой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се каналы свобод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нят один кана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нят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налов, остальные свобод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няты все канал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няты все каналы и одна заявка стоит в очеред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няты все каналы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явок в очеред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няты все каналы и  нет мест в очеред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357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79280" y="4724280"/>
            <a:ext cx="8713800" cy="1695240"/>
            <a:chOff x="179280" y="4724280"/>
            <a:chExt cx="8713800" cy="1695240"/>
          </a:xfrm>
        </p:grpSpPr>
        <p:sp>
          <p:nvSpPr>
            <p:cNvPr id="334" name=""/>
            <p:cNvSpPr/>
            <p:nvPr/>
          </p:nvSpPr>
          <p:spPr>
            <a:xfrm>
              <a:off x="179280" y="5336640"/>
              <a:ext cx="567720" cy="543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3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21680" y="5311800"/>
              <a:ext cx="567720" cy="543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ru-RU" sz="12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63400" y="5311800"/>
              <a:ext cx="567720" cy="543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21160" y="5279760"/>
              <a:ext cx="809280" cy="543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n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 rot="10872600">
              <a:off x="393480" y="5082840"/>
              <a:ext cx="1331280" cy="60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8" y="7969"/>
                  </a:moveTo>
                  <a:arcTo wR="10800" hR="10800" stAng="-9888300" swAng="95062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8" y="7969"/>
                  </a:moveTo>
                  <a:arcTo wR="10800" hR="10800" stAng="-9888300" swAng="9506285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0727400">
              <a:off x="393480" y="5503680"/>
              <a:ext cx="1331280" cy="60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8" y="7969"/>
                  </a:moveTo>
                  <a:arcTo wR="10800" hR="10800" stAng="-9888300" swAng="95062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8" y="7969"/>
                  </a:moveTo>
                  <a:arcTo wR="10800" hR="10800" stAng="-9888300" swAng="9506285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 rot="10872600">
              <a:off x="1806840" y="5077080"/>
              <a:ext cx="1330200" cy="60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04" y="550"/>
                  </a:moveTo>
                  <a:arcTo wR="10800" hR="10800" stAng="-4297801" swAng="39157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04" y="550"/>
                  </a:moveTo>
                  <a:arcTo wR="10800" hR="10800" stAng="-4297801" swAng="3915786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0727400">
              <a:off x="1806840" y="5496480"/>
              <a:ext cx="1330200" cy="60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0" y="576"/>
                  </a:moveTo>
                  <a:arcTo wR="10800" hR="10800" stAng="-4272242" swAng="38902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0" y="576"/>
                  </a:moveTo>
                  <a:arcTo wR="10800" hR="10800" stAng="-4272242" swAng="3890226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81280" y="4724280"/>
              <a:ext cx="39492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780920" y="4803480"/>
              <a:ext cx="39492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8800" y="6073920"/>
              <a:ext cx="39492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01800" y="6036840"/>
              <a:ext cx="52920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609200" y="5051160"/>
              <a:ext cx="1342800" cy="1051200"/>
              <a:chOff x="1609200" y="5051160"/>
              <a:chExt cx="1342800" cy="1051200"/>
            </a:xfrm>
          </p:grpSpPr>
          <p:sp>
            <p:nvSpPr>
              <p:cNvPr id="347" name=""/>
              <p:cNvSpPr/>
              <p:nvPr/>
            </p:nvSpPr>
            <p:spPr>
              <a:xfrm flipH="1" rot="10872600">
                <a:off x="1615320" y="5482800"/>
                <a:ext cx="1330200" cy="605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04" y="550"/>
                    </a:moveTo>
                    <a:arcTo wR="10800" hR="10800" stAng="-4297801" swAng="39157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04" y="550"/>
                    </a:moveTo>
                    <a:arcTo wR="10800" hR="10800" stAng="-4297801" swAng="391578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 rot="10727400">
                <a:off x="1615320" y="5065200"/>
                <a:ext cx="1330200" cy="604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80" y="576"/>
                    </a:moveTo>
                    <a:arcTo wR="10800" hR="10800" stAng="-4272242" swAng="38902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80" y="576"/>
                    </a:moveTo>
                    <a:arcTo wR="10800" hR="10800" stAng="-4272242" swAng="389022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2643480" y="4845960"/>
              <a:ext cx="39492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48880" y="5904360"/>
              <a:ext cx="52884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25680" y="5299200"/>
              <a:ext cx="571320" cy="543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ru-RU" sz="12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10872600">
              <a:off x="3210840" y="5064840"/>
              <a:ext cx="1330200" cy="60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04" y="550"/>
                  </a:moveTo>
                  <a:arcTo wR="10800" hR="10800" stAng="-4297801" swAng="39157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04" y="550"/>
                  </a:moveTo>
                  <a:arcTo wR="10800" hR="10800" stAng="-4297801" swAng="3915786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84920" y="4766400"/>
              <a:ext cx="39492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981880" y="6024600"/>
              <a:ext cx="87300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k+1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3013560" y="5038560"/>
              <a:ext cx="1342800" cy="1050480"/>
              <a:chOff x="3013560" y="5038560"/>
              <a:chExt cx="1342800" cy="1050480"/>
            </a:xfrm>
          </p:grpSpPr>
          <p:sp>
            <p:nvSpPr>
              <p:cNvPr id="356" name=""/>
              <p:cNvSpPr/>
              <p:nvPr/>
            </p:nvSpPr>
            <p:spPr>
              <a:xfrm flipH="1" rot="10872600">
                <a:off x="3018960" y="5470200"/>
                <a:ext cx="1330200" cy="604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04" y="550"/>
                    </a:moveTo>
                    <a:arcTo wR="10800" hR="10800" stAng="-4297801" swAng="39157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04" y="550"/>
                    </a:moveTo>
                    <a:arcTo wR="10800" hR="10800" stAng="-4297801" swAng="391578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 flipV="1" rot="10727400">
                <a:off x="3019680" y="5052600"/>
                <a:ext cx="1330200" cy="604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80" y="576"/>
                    </a:moveTo>
                    <a:arcTo wR="10800" hR="10800" stAng="-4272242" swAng="38902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80" y="576"/>
                    </a:moveTo>
                    <a:arcTo wR="10800" hR="10800" stAng="-4272242" swAng="389022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4047480" y="4833360"/>
              <a:ext cx="39492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52880" y="5892120"/>
              <a:ext cx="52920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0727400">
              <a:off x="3186360" y="5515920"/>
              <a:ext cx="1330200" cy="60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0" y="576"/>
                  </a:moveTo>
                  <a:arcTo wR="10800" hR="10800" stAng="-4272242" swAng="38902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0" y="576"/>
                  </a:moveTo>
                  <a:arcTo wR="10800" hR="10800" stAng="-4272242" swAng="3890226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0872600">
              <a:off x="4547880" y="5040000"/>
              <a:ext cx="1330200" cy="60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04" y="550"/>
                  </a:moveTo>
                  <a:arcTo wR="10800" hR="10800" stAng="-4297801" swAng="39157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04" y="550"/>
                  </a:moveTo>
                  <a:arcTo wR="10800" hR="10800" stAng="-4297801" swAng="3915786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4345200" y="5029200"/>
              <a:ext cx="1342800" cy="1051200"/>
              <a:chOff x="4345200" y="5029200"/>
              <a:chExt cx="1342800" cy="1051200"/>
            </a:xfrm>
          </p:grpSpPr>
          <p:sp>
            <p:nvSpPr>
              <p:cNvPr id="363" name=""/>
              <p:cNvSpPr/>
              <p:nvPr/>
            </p:nvSpPr>
            <p:spPr>
              <a:xfrm flipH="1" rot="10872600">
                <a:off x="4351320" y="5460840"/>
                <a:ext cx="1330200" cy="605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04" y="550"/>
                    </a:moveTo>
                    <a:arcTo wR="10800" hR="10800" stAng="-4297801" swAng="39157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04" y="550"/>
                    </a:moveTo>
                    <a:arcTo wR="10800" hR="10800" stAng="-4297801" swAng="391578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flipV="1" rot="10727400">
                <a:off x="4351320" y="5043240"/>
                <a:ext cx="1330200" cy="604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80" y="576"/>
                    </a:moveTo>
                    <a:arcTo wR="10800" hR="10800" stAng="-4272242" swAng="38902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80" y="576"/>
                    </a:moveTo>
                    <a:arcTo wR="10800" hR="10800" stAng="-4272242" swAng="389022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 rot="10727400">
              <a:off x="4523400" y="5491080"/>
              <a:ext cx="1330200" cy="60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0" y="576"/>
                  </a:moveTo>
                  <a:arcTo wR="10800" hR="10800" stAng="-4272242" swAng="38902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0" y="576"/>
                  </a:moveTo>
                  <a:arcTo wR="10800" hR="10800" stAng="-4272242" swAng="3890226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45600" y="5274720"/>
              <a:ext cx="809640" cy="543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ru-RU" sz="1200" spc="-1" strike="noStrike" baseline="-25000">
                  <a:solidFill>
                    <a:srgbClr val="000000"/>
                  </a:solidFill>
                  <a:latin typeface="Arial"/>
                </a:rPr>
                <a:t>n+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 rot="10872600">
              <a:off x="5872680" y="5035320"/>
              <a:ext cx="1330200" cy="60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04" y="550"/>
                  </a:moveTo>
                  <a:arcTo wR="10800" hR="10800" stAng="-4297801" swAng="39157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04" y="550"/>
                  </a:moveTo>
                  <a:arcTo wR="10800" hR="10800" stAng="-4297801" swAng="3915786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5589000" y="5008680"/>
              <a:ext cx="1342800" cy="1050480"/>
              <a:chOff x="5589000" y="5008680"/>
              <a:chExt cx="1342800" cy="1050480"/>
            </a:xfrm>
          </p:grpSpPr>
          <p:sp>
            <p:nvSpPr>
              <p:cNvPr id="369" name=""/>
              <p:cNvSpPr/>
              <p:nvPr/>
            </p:nvSpPr>
            <p:spPr>
              <a:xfrm flipH="1" rot="10872600">
                <a:off x="5594400" y="5440320"/>
                <a:ext cx="1330200" cy="604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04" y="550"/>
                    </a:moveTo>
                    <a:arcTo wR="10800" hR="10800" stAng="-4297801" swAng="39157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04" y="550"/>
                    </a:moveTo>
                    <a:arcTo wR="10800" hR="10800" stAng="-4297801" swAng="391578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 flipV="1" rot="10727400">
                <a:off x="5595120" y="5022720"/>
                <a:ext cx="1330200" cy="604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80" y="576"/>
                    </a:moveTo>
                    <a:arcTo wR="10800" hR="10800" stAng="-4272242" swAng="38902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80" y="576"/>
                    </a:moveTo>
                    <a:arcTo wR="10800" hR="10800" stAng="-4272242" swAng="389022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 rot="10727400">
              <a:off x="5847840" y="5459400"/>
              <a:ext cx="1330200" cy="60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0" y="576"/>
                  </a:moveTo>
                  <a:arcTo wR="10800" hR="10800" stAng="-4272242" swAng="38902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0" y="576"/>
                  </a:moveTo>
                  <a:arcTo wR="10800" hR="10800" stAng="-4272242" swAng="3890226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005680" y="5274720"/>
              <a:ext cx="839520" cy="543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ru-RU" sz="1200" spc="-1" strike="noStrike" baseline="-25000">
                  <a:solidFill>
                    <a:srgbClr val="000000"/>
                  </a:solidFill>
                  <a:latin typeface="Arial"/>
                </a:rPr>
                <a:t>n+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 rot="10872600">
              <a:off x="7232760" y="5035320"/>
              <a:ext cx="1330200" cy="60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04" y="550"/>
                  </a:moveTo>
                  <a:arcTo wR="10800" hR="10800" stAng="-4297801" swAng="39157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04" y="550"/>
                  </a:moveTo>
                  <a:arcTo wR="10800" hR="10800" stAng="-4297801" swAng="3915786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6959520" y="5013000"/>
              <a:ext cx="1342800" cy="1050480"/>
              <a:chOff x="6959520" y="5013000"/>
              <a:chExt cx="1342800" cy="1050480"/>
            </a:xfrm>
          </p:grpSpPr>
          <p:sp>
            <p:nvSpPr>
              <p:cNvPr id="375" name=""/>
              <p:cNvSpPr/>
              <p:nvPr/>
            </p:nvSpPr>
            <p:spPr>
              <a:xfrm flipH="1" rot="10872600">
                <a:off x="6964920" y="5444640"/>
                <a:ext cx="1330200" cy="604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04" y="550"/>
                    </a:moveTo>
                    <a:arcTo wR="10800" hR="10800" stAng="-4297801" swAng="39157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04" y="550"/>
                    </a:moveTo>
                    <a:arcTo wR="10800" hR="10800" stAng="-4297801" swAng="391578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 flipV="1" rot="10727400">
                <a:off x="6965640" y="5027040"/>
                <a:ext cx="1330200" cy="604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80" y="576"/>
                    </a:moveTo>
                    <a:arcTo wR="10800" hR="10800" stAng="-4272242" swAng="38902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80" y="576"/>
                    </a:moveTo>
                    <a:arcTo wR="10800" hR="10800" stAng="-4272242" swAng="389022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 rot="10727400">
              <a:off x="7207920" y="5459400"/>
              <a:ext cx="1330200" cy="60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0" y="576"/>
                  </a:moveTo>
                  <a:arcTo wR="10800" hR="10800" stAng="-4272242" swAng="38902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0" y="576"/>
                  </a:moveTo>
                  <a:arcTo wR="10800" hR="10800" stAng="-4272242" swAng="3890226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020080" y="5828760"/>
              <a:ext cx="87300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42120" y="5871240"/>
              <a:ext cx="87300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554160" y="5871240"/>
              <a:ext cx="87300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81600" y="5855400"/>
              <a:ext cx="87300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1600" y="5844600"/>
              <a:ext cx="87300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80280" y="5907960"/>
              <a:ext cx="87300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95680" y="4860000"/>
              <a:ext cx="39492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72840" y="4727880"/>
              <a:ext cx="39492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92040" y="4860000"/>
              <a:ext cx="39492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85400" y="4743360"/>
              <a:ext cx="39492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109640" y="4923720"/>
              <a:ext cx="39492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771320" y="4817880"/>
              <a:ext cx="39492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333399"/>
                </a:solidFill>
                <a:uFillTx/>
                <a:latin typeface="Arial"/>
              </a:rPr>
              <a:t>Многоканальные СМО с ожидание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357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123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2050920" y="620640"/>
                <a:ext cx="5324760" cy="619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ρ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n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p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n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p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⋅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  <m:e/>
                            </m:d>
                          </m:e>
                        </m:eqArr>
                      </m:e>
                    </m:eqAr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ρ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m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ρ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ρ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ρ</m:t>
                                        </m:r>
                                        <m:r>
                                          <m:t xml:space="preserve">n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m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ρ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Одноканальные СМО с отказам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8424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МО состоит из одного канала, на который поступает пуассоновский поток заявок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(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явка, заставшая канал  занятым, получает отказ и покидает систем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служивание заявки продолжается  в течение случайного времен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распределённого по закону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(2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ип такой системы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/М/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Рассмотрим гра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шение систем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748040" y="1052640"/>
                <a:ext cx="12654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084720" y="2492280"/>
                <a:ext cx="1764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9" name=""/>
          <p:cNvGrpSpPr/>
          <p:nvPr/>
        </p:nvGrpSpPr>
        <p:grpSpPr>
          <a:xfrm>
            <a:off x="468360" y="3338280"/>
            <a:ext cx="2903040" cy="1079640"/>
            <a:chOff x="468360" y="3338280"/>
            <a:chExt cx="2903040" cy="1079640"/>
          </a:xfrm>
        </p:grpSpPr>
        <p:grpSp>
          <p:nvGrpSpPr>
            <p:cNvPr id="50" name=""/>
            <p:cNvGrpSpPr/>
            <p:nvPr/>
          </p:nvGrpSpPr>
          <p:grpSpPr>
            <a:xfrm>
              <a:off x="468360" y="3338280"/>
              <a:ext cx="2629080" cy="1079640"/>
              <a:chOff x="468360" y="3338280"/>
              <a:chExt cx="2629080" cy="1079640"/>
            </a:xfrm>
          </p:grpSpPr>
          <p:sp>
            <p:nvSpPr>
              <p:cNvPr id="51" name=""/>
              <p:cNvSpPr/>
              <p:nvPr/>
            </p:nvSpPr>
            <p:spPr>
              <a:xfrm>
                <a:off x="468360" y="3678120"/>
                <a:ext cx="571320" cy="507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535480" y="3634560"/>
                <a:ext cx="561960" cy="423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82480" y="3779640"/>
                <a:ext cx="342720" cy="28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640240" y="3678120"/>
                <a:ext cx="342720" cy="203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1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039680" y="3788280"/>
                <a:ext cx="15044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1039320" y="3968280"/>
                <a:ext cx="15044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087640" y="4148280"/>
                <a:ext cx="28584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58440" y="3518280"/>
                <a:ext cx="3175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58800" y="3338280"/>
                <a:ext cx="571320" cy="21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754360" y="3373200"/>
              <a:ext cx="617040" cy="22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924360" y="3357720"/>
                <a:ext cx="2092320" cy="11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012000" y="3116160"/>
                <a:ext cx="2952720" cy="17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79280" y="5013360"/>
                <a:ext cx="3349800" cy="14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500720" y="4508640"/>
            <a:ext cx="4463640" cy="2276280"/>
            <a:chOff x="4500720" y="4508640"/>
            <a:chExt cx="4463640" cy="2276280"/>
          </a:xfrm>
        </p:grpSpPr>
        <p:sp>
          <p:nvSpPr>
            <p:cNvPr id="70" name=""/>
            <p:cNvSpPr/>
            <p:nvPr/>
          </p:nvSpPr>
          <p:spPr>
            <a:xfrm>
              <a:off x="4626360" y="4508640"/>
              <a:ext cx="4338000" cy="22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901760" y="4856040"/>
              <a:ext cx="13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61720" y="4560840"/>
              <a:ext cx="284400" cy="27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039280" y="4682160"/>
              <a:ext cx="2160" cy="194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41440" y="6616800"/>
              <a:ext cx="29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41440" y="5029920"/>
              <a:ext cx="29386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41440" y="6419880"/>
              <a:ext cx="29386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41440" y="5029920"/>
              <a:ext cx="2798640" cy="1563480"/>
            </a:xfrm>
            <a:custGeom>
              <a:avLst/>
              <a:gdLst/>
              <a:ahLst/>
              <a:rect l="l" t="t" r="r" b="b"/>
              <a:pathLst>
                <a:path w="3600" h="1980">
                  <a:moveTo>
                    <a:pt x="0" y="1980"/>
                  </a:moveTo>
                  <a:cubicBezTo>
                    <a:pt x="330" y="1425"/>
                    <a:pt x="660" y="870"/>
                    <a:pt x="1260" y="540"/>
                  </a:cubicBezTo>
                  <a:cubicBezTo>
                    <a:pt x="1860" y="210"/>
                    <a:pt x="3180" y="60"/>
                    <a:pt x="360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5041440" y="4856040"/>
              <a:ext cx="2798640" cy="1563840"/>
            </a:xfrm>
            <a:custGeom>
              <a:avLst/>
              <a:gdLst/>
              <a:ahLst/>
              <a:rect l="l" t="t" r="r" b="b"/>
              <a:pathLst>
                <a:path w="3600" h="1980">
                  <a:moveTo>
                    <a:pt x="0" y="1980"/>
                  </a:moveTo>
                  <a:cubicBezTo>
                    <a:pt x="330" y="1425"/>
                    <a:pt x="660" y="870"/>
                    <a:pt x="1260" y="540"/>
                  </a:cubicBezTo>
                  <a:cubicBezTo>
                    <a:pt x="1860" y="210"/>
                    <a:pt x="3180" y="60"/>
                    <a:pt x="360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05040" y="4777920"/>
              <a:ext cx="538560" cy="52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00720" y="6188040"/>
              <a:ext cx="538560" cy="52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284720" y="6021360"/>
                <a:ext cx="649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μ</m:t>
                        </m:r>
                      </m:num>
                      <m:den>
                        <m:r>
                          <m:t xml:space="preserve">λ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356000" y="4797360"/>
                <a:ext cx="576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λ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333399"/>
                </a:solidFill>
                <a:uFillTx/>
                <a:latin typeface="Arial"/>
              </a:rPr>
              <a:t>Многоканальные СМО с ожидание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атели эффе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ее число заявок в очереди. Вычисляется как мат. ожидание дискретной случайной велич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357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691080" y="620640"/>
                <a:ext cx="24127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тказа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768840" y="1143000"/>
                <a:ext cx="3981240" cy="21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тказа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λq</m:t>
                        </m:r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Средне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занятых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аналов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08000" y="3789360"/>
                <a:ext cx="90360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ρ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ρ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ρ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7" name=""/>
          <p:cNvSpPr/>
          <p:nvPr/>
        </p:nvSpPr>
        <p:spPr>
          <a:xfrm>
            <a:off x="1042920" y="4137840"/>
            <a:ext cx="7207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æ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1619280" y="4292640"/>
                <a:ext cx="4176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187280" y="4869000"/>
                <a:ext cx="1152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2305440" y="5034960"/>
            <a:ext cx="26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[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2æ+3æ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…+mæ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m-1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187280" y="5516640"/>
                <a:ext cx="12240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3" name=""/>
          <p:cNvSpPr/>
          <p:nvPr/>
        </p:nvSpPr>
        <p:spPr>
          <a:xfrm>
            <a:off x="2378520" y="5733720"/>
            <a:ext cx="299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 1-2æ+3æ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…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æ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)/(1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æ)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1122480" y="6237360"/>
                <a:ext cx="17143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333399"/>
                </a:solidFill>
                <a:uFillTx/>
                <a:latin typeface="Arial"/>
              </a:rPr>
              <a:t>Многоканальные СМО с ожидание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ИЙ СМЫСЛ: Средние время ожидания заявки в очереди. Если  заявка застанет не все каналы занятыми, ей ждать не придётся. Если заявка приходит в момент, когда заняты вс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налов, но очереди нет, то ей придётся ждать в средне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Если заявка застанет все каналы занятыми и одну заявку в очереди ей придется ждать        . Если в очереди стои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явок, то врем ожидания заявк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р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ие время пребывания заявки в систем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357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012000" y="1557360"/>
                <a:ext cx="5047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n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1187280" y="2205000"/>
                <a:ext cx="503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1754280" y="2565360"/>
                <a:ext cx="514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539640" y="3060720"/>
                <a:ext cx="7488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ж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nμ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μ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nμ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  <m:r>
                          <m:t xml:space="preserve">μ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ρ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mρ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542880" y="3789360"/>
                <a:ext cx="13604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ρμ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ж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49360" y="5084640"/>
                <a:ext cx="4589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ж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nμ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КАППА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КАППА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КАППА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902200" y="5373720"/>
                <a:ext cx="187668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ист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ж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ист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333399"/>
                </a:solidFill>
                <a:uFillTx/>
                <a:latin typeface="Arial"/>
              </a:rPr>
              <a:t>Многоканальные СМО с неограниченной очередью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 такой систем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ρ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 1 - условие существования предельного режима в многоканальной СМО с неограниченной очередью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357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771640" y="692280"/>
            <a:ext cx="6265800" cy="1460160"/>
            <a:chOff x="2771640" y="692280"/>
            <a:chExt cx="6265800" cy="1460160"/>
          </a:xfrm>
        </p:grpSpPr>
        <p:grpSp>
          <p:nvGrpSpPr>
            <p:cNvPr id="459" name=""/>
            <p:cNvGrpSpPr/>
            <p:nvPr/>
          </p:nvGrpSpPr>
          <p:grpSpPr>
            <a:xfrm>
              <a:off x="7341120" y="936720"/>
              <a:ext cx="1156680" cy="905760"/>
              <a:chOff x="7341120" y="936720"/>
              <a:chExt cx="1156680" cy="905760"/>
            </a:xfrm>
          </p:grpSpPr>
          <p:sp>
            <p:nvSpPr>
              <p:cNvPr id="460" name=""/>
              <p:cNvSpPr/>
              <p:nvPr/>
            </p:nvSpPr>
            <p:spPr>
              <a:xfrm flipH="1" rot="10872600">
                <a:off x="7346520" y="1309680"/>
                <a:ext cx="1145520" cy="520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04" y="550"/>
                    </a:moveTo>
                    <a:arcTo wR="10800" hR="10800" stAng="-4297801" swAng="39157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04" y="550"/>
                    </a:moveTo>
                    <a:arcTo wR="10800" hR="10800" stAng="-4297801" swAng="391578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flipV="1" rot="10727400">
                <a:off x="7346880" y="947880"/>
                <a:ext cx="1145520" cy="52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80" y="576"/>
                    </a:moveTo>
                    <a:arcTo wR="10800" hR="10800" stAng="-4272242" swAng="38902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80" y="576"/>
                    </a:moveTo>
                    <a:arcTo wR="10800" hR="10800" stAng="-4272242" swAng="389022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2771640" y="692280"/>
              <a:ext cx="6265800" cy="1460160"/>
              <a:chOff x="2771640" y="692280"/>
              <a:chExt cx="6265800" cy="1460160"/>
            </a:xfrm>
          </p:grpSpPr>
          <p:sp>
            <p:nvSpPr>
              <p:cNvPr id="463" name=""/>
              <p:cNvSpPr/>
              <p:nvPr/>
            </p:nvSpPr>
            <p:spPr>
              <a:xfrm>
                <a:off x="2771640" y="1219320"/>
                <a:ext cx="488880" cy="46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3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46840" y="1198080"/>
                <a:ext cx="488880" cy="46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ru-RU" sz="1200" spc="-1" strike="noStrike" baseline="-25000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877200" y="1198080"/>
                <a:ext cx="488880" cy="46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199640" y="1170720"/>
                <a:ext cx="697320" cy="46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n+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 rot="10872600">
                <a:off x="2867040" y="1001160"/>
                <a:ext cx="1146240" cy="519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8" y="7969"/>
                    </a:moveTo>
                    <a:arcTo wR="10800" hR="10800" stAng="-9888300" swAng="95062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8" y="7969"/>
                    </a:moveTo>
                    <a:arcTo wR="10800" hR="10800" stAng="-9888300" swAng="9506285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10727400">
                <a:off x="2956680" y="1362960"/>
                <a:ext cx="1146240" cy="52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8" y="7969"/>
                    </a:moveTo>
                    <a:arcTo wR="10800" hR="10800" stAng="-9888300" swAng="95062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8" y="7969"/>
                    </a:moveTo>
                    <a:arcTo wR="10800" hR="10800" stAng="-9888300" swAng="9506285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 rot="10872600">
                <a:off x="4084200" y="996120"/>
                <a:ext cx="1145520" cy="52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04" y="550"/>
                    </a:moveTo>
                    <a:arcTo wR="10800" hR="10800" stAng="-4297801" swAng="39157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04" y="550"/>
                    </a:moveTo>
                    <a:arcTo wR="10800" hR="10800" stAng="-4297801" swAng="391578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10727400">
                <a:off x="4173840" y="1356480"/>
                <a:ext cx="1145520" cy="52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80" y="576"/>
                    </a:moveTo>
                    <a:arcTo wR="10800" hR="10800" stAng="-4272242" swAng="38902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80" y="576"/>
                    </a:moveTo>
                    <a:arcTo wR="10800" hR="10800" stAng="-4272242" swAng="389022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376080" y="692280"/>
                <a:ext cx="33984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061160" y="760680"/>
                <a:ext cx="33984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339360" y="1854720"/>
                <a:ext cx="34020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169160" y="1823040"/>
                <a:ext cx="45576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2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5" name=""/>
              <p:cNvGrpSpPr/>
              <p:nvPr/>
            </p:nvGrpSpPr>
            <p:grpSpPr>
              <a:xfrm>
                <a:off x="3913920" y="973080"/>
                <a:ext cx="1156680" cy="905760"/>
                <a:chOff x="3913920" y="973080"/>
                <a:chExt cx="1156680" cy="905760"/>
              </a:xfrm>
            </p:grpSpPr>
            <p:sp>
              <p:nvSpPr>
                <p:cNvPr id="476" name=""/>
                <p:cNvSpPr/>
                <p:nvPr/>
              </p:nvSpPr>
              <p:spPr>
                <a:xfrm flipH="1" rot="10872600">
                  <a:off x="3919320" y="1346040"/>
                  <a:ext cx="1145520" cy="520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204" y="550"/>
                      </a:moveTo>
                      <a:arcTo wR="10800" hR="10800" stAng="-4297801" swAng="391578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204" y="550"/>
                      </a:moveTo>
                      <a:arcTo wR="10800" hR="10800" stAng="-4297801" swAng="3915786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 flipV="1" rot="10727400">
                  <a:off x="3919680" y="984240"/>
                  <a:ext cx="1145520" cy="520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280" y="576"/>
                      </a:moveTo>
                      <a:arcTo wR="10800" hR="10800" stAng="-4272242" swAng="38902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280" y="576"/>
                      </a:moveTo>
                      <a:arcTo wR="10800" hR="10800" stAng="-4272242" swAng="3890226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8" name=""/>
              <p:cNvSpPr/>
              <p:nvPr/>
            </p:nvSpPr>
            <p:spPr>
              <a:xfrm>
                <a:off x="4893840" y="797040"/>
                <a:ext cx="33984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898160" y="1708920"/>
                <a:ext cx="45576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256440" y="1187640"/>
                <a:ext cx="491760" cy="46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ru-RU" sz="12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 rot="10872600">
                <a:off x="5293440" y="985320"/>
                <a:ext cx="1145520" cy="52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04" y="550"/>
                    </a:moveTo>
                    <a:arcTo wR="10800" hR="10800" stAng="-4297801" swAng="39157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04" y="550"/>
                    </a:moveTo>
                    <a:arcTo wR="10800" hR="10800" stAng="-4297801" swAng="391578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360040" y="728640"/>
                <a:ext cx="34020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185440" y="1812240"/>
                <a:ext cx="75168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k+1)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5123160" y="962640"/>
                <a:ext cx="1156680" cy="905760"/>
                <a:chOff x="5123160" y="962640"/>
                <a:chExt cx="1156680" cy="905760"/>
              </a:xfrm>
            </p:grpSpPr>
            <p:sp>
              <p:nvSpPr>
                <p:cNvPr id="485" name=""/>
                <p:cNvSpPr/>
                <p:nvPr/>
              </p:nvSpPr>
              <p:spPr>
                <a:xfrm flipH="1" rot="10872600">
                  <a:off x="5128560" y="1335600"/>
                  <a:ext cx="1145520" cy="520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204" y="550"/>
                      </a:moveTo>
                      <a:arcTo wR="10800" hR="10800" stAng="-4297801" swAng="391578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204" y="550"/>
                      </a:moveTo>
                      <a:arcTo wR="10800" hR="10800" stAng="-4297801" swAng="3915786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H="1" flipV="1" rot="10727400">
                  <a:off x="5128920" y="973800"/>
                  <a:ext cx="1145520" cy="520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280" y="576"/>
                      </a:moveTo>
                      <a:arcTo wR="10800" hR="10800" stAng="-4272242" swAng="38902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280" y="576"/>
                      </a:moveTo>
                      <a:arcTo wR="10800" hR="10800" stAng="-4272242" swAng="3890226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7" name=""/>
              <p:cNvSpPr/>
              <p:nvPr/>
            </p:nvSpPr>
            <p:spPr>
              <a:xfrm>
                <a:off x="6102720" y="786240"/>
                <a:ext cx="33984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107400" y="1698480"/>
                <a:ext cx="45576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10727400">
                <a:off x="5361840" y="1373400"/>
                <a:ext cx="1145520" cy="52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80" y="576"/>
                    </a:moveTo>
                    <a:arcTo wR="10800" hR="10800" stAng="-4272242" swAng="38902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80" y="576"/>
                    </a:moveTo>
                    <a:arcTo wR="10800" hR="10800" stAng="-4272242" swAng="389022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 rot="10872600">
                <a:off x="6535440" y="979560"/>
                <a:ext cx="839160" cy="522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" y="7821"/>
                    </a:moveTo>
                    <a:arcTo wR="10800" hR="10800" stAng="-9839148" swAng="94571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" y="7821"/>
                    </a:moveTo>
                    <a:arcTo wR="10800" hR="10800" stAng="-9839148" swAng="9457132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10727400">
                <a:off x="6513480" y="1353960"/>
                <a:ext cx="909000" cy="52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" y="9292"/>
                    </a:moveTo>
                    <a:arcTo wR="10800" hR="10800" stAng="-10318273" swAng="99362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" y="9292"/>
                    </a:moveTo>
                    <a:arcTo wR="10800" hR="10800" stAng="-10318273" swAng="9936258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340480" y="1166400"/>
                <a:ext cx="696960" cy="46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ru-RU" sz="1200" spc="-1" strike="noStrike" baseline="-25000">
                    <a:solidFill>
                      <a:srgbClr val="000000"/>
                    </a:solidFill>
                    <a:latin typeface="Arial"/>
                  </a:rPr>
                  <a:t>n+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 rot="10872600">
                <a:off x="7585920" y="959760"/>
                <a:ext cx="1145520" cy="52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04" y="550"/>
                    </a:moveTo>
                    <a:arcTo wR="10800" hR="10800" stAng="-4297801" swAng="39157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04" y="550"/>
                    </a:moveTo>
                    <a:arcTo wR="10800" hR="10800" stAng="-4297801" swAng="391578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10727400">
                <a:off x="7564680" y="1324800"/>
                <a:ext cx="1145520" cy="520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80" y="576"/>
                    </a:moveTo>
                    <a:arcTo wR="10800" hR="10800" stAng="-4272242" swAng="38902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80" y="576"/>
                    </a:moveTo>
                    <a:arcTo wR="10800" hR="10800" stAng="-4272242" swAng="389022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17800" y="1731960"/>
                <a:ext cx="45540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164720" y="1745280"/>
                <a:ext cx="45540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597800" y="1772640"/>
                <a:ext cx="45576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304120" y="1622520"/>
                <a:ext cx="45576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558480" y="705600"/>
                <a:ext cx="33984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187400" y="756000"/>
                <a:ext cx="33984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561440" y="778680"/>
                <a:ext cx="33984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222040" y="742320"/>
                <a:ext cx="34020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3708360" y="2565360"/>
                <a:ext cx="374508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ρ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3801960" y="3213000"/>
                <a:ext cx="1654200" cy="364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ρ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333399"/>
                </a:solidFill>
                <a:uFillTx/>
                <a:latin typeface="Arial"/>
              </a:rPr>
              <a:t>Многоканальные СМО с неограниченной очередью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отка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=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=λq=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357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273480" y="2351160"/>
                <a:ext cx="238104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из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κ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2916360" y="3716280"/>
                <a:ext cx="2376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0" y="38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3083040" y="4888080"/>
                <a:ext cx="38764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ж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nμn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κ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ρ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2633760" y="5905440"/>
                <a:ext cx="43146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ист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ж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СМО с нетерпеливыми заявкам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уют такие системы, в которых заявка, подождав некоторое время может  уйти из очереди, это так называемые не терпеливые заявки. Рассмотр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нальную СМО с ожиданием, в которой число мест в очереди не ограниченно, а время пребывания заявки в очереди ограниченно некоторым случайным сроком со среднем значением Т очереди, т.е. на каждую заявку, стоящую в очереди,  действует  поток уходов с интенсивност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се каналы свобод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нят один кан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няты вс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кан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няты вс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налов и одна заявка в очере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няты вс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налов и заявок  в очер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357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79280" y="4869000"/>
            <a:ext cx="8496360" cy="1712520"/>
            <a:chOff x="179280" y="4869000"/>
            <a:chExt cx="8496360" cy="1712520"/>
          </a:xfrm>
        </p:grpSpPr>
        <p:sp>
          <p:nvSpPr>
            <p:cNvPr id="532" name=""/>
            <p:cNvSpPr/>
            <p:nvPr/>
          </p:nvSpPr>
          <p:spPr>
            <a:xfrm>
              <a:off x="179280" y="5487480"/>
              <a:ext cx="613080" cy="54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3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32280" y="5462280"/>
              <a:ext cx="613080" cy="54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ru-RU" sz="12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565640" y="5462280"/>
              <a:ext cx="613080" cy="54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731200" y="5430240"/>
              <a:ext cx="874080" cy="54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n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 rot="10872600">
              <a:off x="411120" y="5231160"/>
              <a:ext cx="1437480" cy="610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8" y="7969"/>
                  </a:moveTo>
                  <a:arcTo wR="10800" hR="10800" stAng="-9888300" swAng="95062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8" y="7969"/>
                  </a:moveTo>
                  <a:arcTo wR="10800" hR="10800" stAng="-9888300" swAng="9506285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10727400">
              <a:off x="411480" y="5656680"/>
              <a:ext cx="1437480" cy="61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8" y="7969"/>
                  </a:moveTo>
                  <a:arcTo wR="10800" hR="10800" stAng="-9888300" swAng="95062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78" y="7969"/>
                  </a:moveTo>
                  <a:arcTo wR="10800" hR="10800" stAng="-9888300" swAng="9506285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 rot="10872600">
              <a:off x="1936800" y="5226120"/>
              <a:ext cx="1436040" cy="61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04" y="550"/>
                  </a:moveTo>
                  <a:arcTo wR="10800" hR="10800" stAng="-4297801" swAng="39157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04" y="550"/>
                  </a:moveTo>
                  <a:arcTo wR="10800" hR="10800" stAng="-4297801" swAng="3915786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10727400">
              <a:off x="1936800" y="5648760"/>
              <a:ext cx="1436040" cy="61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0" y="576"/>
                  </a:moveTo>
                  <a:arcTo wR="10800" hR="10800" stAng="-4272242" swAng="38902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0" y="576"/>
                  </a:moveTo>
                  <a:arcTo wR="10800" hR="10800" stAng="-4272242" swAng="3890226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37080" y="4869000"/>
              <a:ext cx="4266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908360" y="4948920"/>
              <a:ext cx="4266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91360" y="6232320"/>
              <a:ext cx="42624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931400" y="6194880"/>
              <a:ext cx="57132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1723680" y="5198400"/>
              <a:ext cx="1449360" cy="1062720"/>
              <a:chOff x="1723680" y="5198400"/>
              <a:chExt cx="1449360" cy="1062720"/>
            </a:xfrm>
          </p:grpSpPr>
          <p:sp>
            <p:nvSpPr>
              <p:cNvPr id="545" name=""/>
              <p:cNvSpPr/>
              <p:nvPr/>
            </p:nvSpPr>
            <p:spPr>
              <a:xfrm flipH="1" rot="10872600">
                <a:off x="1729800" y="5635080"/>
                <a:ext cx="1436760" cy="61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04" y="550"/>
                    </a:moveTo>
                    <a:arcTo wR="10800" hR="10800" stAng="-4297801" swAng="39157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04" y="550"/>
                    </a:moveTo>
                    <a:arcTo wR="10800" hR="10800" stAng="-4297801" swAng="391578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 flipV="1" rot="10727400">
                <a:off x="1729800" y="5212800"/>
                <a:ext cx="1436760" cy="610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80" y="576"/>
                    </a:moveTo>
                    <a:arcTo wR="10800" hR="10800" stAng="-4272242" swAng="38902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80" y="576"/>
                    </a:moveTo>
                    <a:arcTo wR="10800" hR="10800" stAng="-4272242" swAng="389022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2840040" y="4991760"/>
              <a:ext cx="42624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845440" y="6061320"/>
              <a:ext cx="57132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548240" y="5450040"/>
              <a:ext cx="616680" cy="54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ru-RU" sz="12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 rot="10872600">
              <a:off x="3452760" y="5213880"/>
              <a:ext cx="1436040" cy="610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04" y="550"/>
                  </a:moveTo>
                  <a:arcTo wR="10800" hR="10800" stAng="-4297801" swAng="39157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04" y="550"/>
                  </a:moveTo>
                  <a:arcTo wR="10800" hR="10800" stAng="-4297801" swAng="3915786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424320" y="4911840"/>
              <a:ext cx="4266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05440" y="6182640"/>
              <a:ext cx="94284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k+1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3240000" y="5185800"/>
              <a:ext cx="1448640" cy="1062720"/>
              <a:chOff x="3240000" y="5185800"/>
              <a:chExt cx="1448640" cy="1062720"/>
            </a:xfrm>
          </p:grpSpPr>
          <p:sp>
            <p:nvSpPr>
              <p:cNvPr id="554" name=""/>
              <p:cNvSpPr/>
              <p:nvPr/>
            </p:nvSpPr>
            <p:spPr>
              <a:xfrm flipH="1" rot="10872600">
                <a:off x="3246120" y="5622480"/>
                <a:ext cx="1436040" cy="61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04" y="550"/>
                    </a:moveTo>
                    <a:arcTo wR="10800" hR="10800" stAng="-4297801" swAng="39157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04" y="550"/>
                    </a:moveTo>
                    <a:arcTo wR="10800" hR="10800" stAng="-4297801" swAng="391578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 flipV="1" rot="10727400">
                <a:off x="3246120" y="5200200"/>
                <a:ext cx="1436040" cy="610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80" y="576"/>
                    </a:moveTo>
                    <a:arcTo wR="10800" hR="10800" stAng="-4272242" swAng="38902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80" y="576"/>
                    </a:moveTo>
                    <a:arcTo wR="10800" hR="10800" stAng="-4272242" swAng="389022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4356000" y="4979520"/>
              <a:ext cx="4266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361760" y="6049080"/>
              <a:ext cx="57096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10727400">
              <a:off x="3426120" y="5668200"/>
              <a:ext cx="1436040" cy="61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0" y="576"/>
                  </a:moveTo>
                  <a:arcTo wR="10800" hR="10800" stAng="-4272242" swAng="38902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0" y="576"/>
                  </a:moveTo>
                  <a:arcTo wR="10800" hR="10800" stAng="-4272242" swAng="3890226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 rot="10872600">
              <a:off x="5025960" y="5204520"/>
              <a:ext cx="1003680" cy="59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8" y="8846"/>
                  </a:moveTo>
                  <a:arcTo wR="10800" hR="10800" stAng="-10174483" swAng="97924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8" y="8846"/>
                  </a:moveTo>
                  <a:arcTo wR="10800" hR="10800" stAng="-10174483" swAng="9792468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10727400">
              <a:off x="4885200" y="5663520"/>
              <a:ext cx="1109520" cy="5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" y="10161"/>
                  </a:moveTo>
                  <a:arcTo wR="10800" hR="10800" stAng="-10596604" swAng="102145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" y="10161"/>
                  </a:moveTo>
                  <a:arcTo wR="10800" hR="10800" stAng="-10596604" swAng="10214588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161480" y="5424840"/>
              <a:ext cx="874080" cy="54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ru-RU" sz="1200" spc="-1" strike="noStrike" baseline="-25000">
                  <a:solidFill>
                    <a:srgbClr val="000000"/>
                  </a:solidFill>
                  <a:latin typeface="Arial"/>
                </a:rPr>
                <a:t>n+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 rot="10872600">
              <a:off x="6327000" y="5183640"/>
              <a:ext cx="1436040" cy="610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04" y="550"/>
                  </a:moveTo>
                  <a:arcTo wR="10800" hR="10800" stAng="-4297801" swAng="39157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04" y="550"/>
                  </a:moveTo>
                  <a:arcTo wR="10800" hR="10800" stAng="-4297801" swAng="3915786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6020640" y="5155560"/>
              <a:ext cx="1448640" cy="1062720"/>
              <a:chOff x="6020640" y="5155560"/>
              <a:chExt cx="1448640" cy="1062720"/>
            </a:xfrm>
          </p:grpSpPr>
          <p:sp>
            <p:nvSpPr>
              <p:cNvPr id="564" name=""/>
              <p:cNvSpPr/>
              <p:nvPr/>
            </p:nvSpPr>
            <p:spPr>
              <a:xfrm flipH="1" rot="10872600">
                <a:off x="6026760" y="5592240"/>
                <a:ext cx="1436040" cy="61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04" y="550"/>
                    </a:moveTo>
                    <a:arcTo wR="10800" hR="10800" stAng="-4297801" swAng="39157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04" y="550"/>
                    </a:moveTo>
                    <a:arcTo wR="10800" hR="10800" stAng="-4297801" swAng="391578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 flipV="1" rot="10727400">
                <a:off x="6026760" y="5169960"/>
                <a:ext cx="1436040" cy="610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80" y="576"/>
                    </a:moveTo>
                    <a:arcTo wR="10800" hR="10800" stAng="-4272242" swAng="38902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80" y="576"/>
                    </a:moveTo>
                    <a:arcTo wR="10800" hR="10800" stAng="-4272242" swAng="389022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 rot="10727400">
              <a:off x="6300000" y="5610600"/>
              <a:ext cx="1436040" cy="61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0" y="576"/>
                  </a:moveTo>
                  <a:arcTo wR="10800" hR="10800" stAng="-4272242" swAng="38902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0" y="576"/>
                  </a:moveTo>
                  <a:arcTo wR="10800" hR="10800" stAng="-4272242" swAng="3890226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62320" y="6070320"/>
              <a:ext cx="134064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μ+</a:t>
              </a:r>
              <a:r>
                <a:rPr b="0" lang="ru-RU" sz="1200" spc="-1" strike="noStrike">
                  <a:solidFill>
                    <a:srgbClr val="000000"/>
                  </a:solidFill>
                  <a:latin typeface="Book Antiqua"/>
                </a:rPr>
                <a:t>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245280" y="6139800"/>
              <a:ext cx="92916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μ+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1200" spc="-1" strike="noStrike">
                  <a:solidFill>
                    <a:srgbClr val="000000"/>
                  </a:solidFill>
                  <a:latin typeface="Book Antiqua"/>
                </a:rPr>
                <a:t>ν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232040" y="5991840"/>
              <a:ext cx="144360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+(r+1) </a:t>
              </a:r>
              <a:r>
                <a:rPr b="0" lang="ru-RU" sz="1200" spc="-1" strike="noStrike">
                  <a:solidFill>
                    <a:srgbClr val="000000"/>
                  </a:solidFill>
                  <a:latin typeface="Book Antiqua"/>
                </a:rPr>
                <a:t>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85160" y="4870800"/>
              <a:ext cx="4266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184440" y="4970520"/>
              <a:ext cx="42624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012800" y="4927680"/>
              <a:ext cx="4266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5724360" y="2492280"/>
                <a:ext cx="7207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ч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СМО с нетерпеливыми заявкам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357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144360" y="620640"/>
                <a:ext cx="8964720" cy="587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λ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λ</m:t>
                                        </m:r>
                                        <m:r>
                                          <m:t xml:space="preserve">/</m:t>
                                        </m:r>
                                        <m:r>
                                          <m:t xml:space="preserve">μ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λ</m:t>
                                        </m:r>
                                        <m:r>
                                          <m:t xml:space="preserve">/</m:t>
                                        </m:r>
                                        <m:r>
                                          <m:t xml:space="preserve">μ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λ</m:t>
                                        </m:r>
                                        <m:r>
                                          <m:t xml:space="preserve">/</m:t>
                                        </m:r>
                                        <m:r>
                                          <m:t xml:space="preserve">μ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λ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μ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ν</m:t>
                                    </m:r>
                                  </m:e>
                                </m:d>
                              </m:den>
                            </m:f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λ</m:t>
                                        </m:r>
                                        <m:r>
                                          <m:t xml:space="preserve">/</m:t>
                                        </m:r>
                                        <m:r>
                                          <m:t xml:space="preserve">μ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μ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ν</m:t>
                                    </m:r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μ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ν</m:t>
                                    </m:r>
                                  </m:e>
                                </m:d>
                              </m:den>
                            </m:f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λ</m:t>
                                        </m:r>
                                        <m:r>
                                          <m:t xml:space="preserve">/</m:t>
                                        </m:r>
                                        <m:r>
                                          <m:t xml:space="preserve">μ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p>
                                    <m:r>
                                      <m:t xml:space="preserve">r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μ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ν</m:t>
                                    </m:r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μ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ν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μ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ν</m:t>
                                    </m:r>
                                  </m:e>
                                </m:d>
                              </m:den>
                            </m:f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СМО с нетерпеливыми заявкам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МО с нетерпеливыми заявками установившийся режим достигается всег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е число заявок  в очереди вычисляется как мат. ожидание дискретной случайной вел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аждую из таких заявок, действует поток уходов с интенсивность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з среднего числа заяв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, в среднем будут уходить из очереди не дождавшись обслужива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о в единицу времени будет обслужен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яв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ее число занятых кан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ула (5) позволяет вычислить  среднее число заяво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е суммируя  бесконечный ряд (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менные характеристики определяются по формулам Литт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357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2987640" y="1484280"/>
                <a:ext cx="33130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7740720" y="2060640"/>
                <a:ext cx="1872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3043080" y="2276640"/>
                <a:ext cx="233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3492360" y="2533680"/>
                <a:ext cx="3589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4859280" y="2838600"/>
                <a:ext cx="163188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−</m:t>
                    </m:r>
                    <m:r>
                      <m:t xml:space="preserve">ν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539640" y="3141720"/>
                <a:ext cx="31035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ν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ν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4140360" y="3703680"/>
                <a:ext cx="34509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−</m:t>
                        </m:r>
                        <m:r>
                          <m:t xml:space="preserve">ν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−</m:t>
                    </m:r>
                    <m:r>
                      <m:t xml:space="preserve">ν</m:t>
                    </m:r>
                    <m:r>
                      <m:t xml:space="preserve">μ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4140360" y="4869000"/>
                <a:ext cx="225720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</m:num>
                      <m:den>
                        <m:r>
                          <m:t xml:space="preserve">ν</m:t>
                        </m:r>
                      </m:den>
                    </m:f>
                    <m:r>
                      <m:t xml:space="preserve">ρ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μ</m:t>
                        </m:r>
                      </m:num>
                      <m:den>
                        <m:r>
                          <m:t xml:space="preserve">ν</m:t>
                        </m:r>
                      </m:den>
                    </m:f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611280" y="5661000"/>
                <a:ext cx="7515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7074000" y="4581360"/>
                <a:ext cx="2347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Одноканальные СМО с отказ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856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носительная пропускная способност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ившееся значения вероятност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бсолютная пропускная способност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роятность отка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изический смыс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роятности отказа: средняя доля не обслуженных заявок среди подан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мер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канальная СМО – телефон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ция. Вызов пришедший, когда ли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нята, получает отказ. Интенсивность пото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овов λ=0,8 выз/мин. Среднее вре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луживание вызо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абсолютную (А) и относительную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ускные способ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ероятность отказ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Arial"/>
              </a:rPr>
              <a:t>отка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867280" y="476280"/>
                <a:ext cx="21607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</m:num>
                      <m:den>
                        <m:r>
                          <m:t xml:space="preserve">λ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22280" y="981000"/>
                <a:ext cx="181944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467320" y="2192400"/>
                <a:ext cx="35719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λ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λμ</m:t>
                        </m:r>
                      </m:num>
                      <m:den>
                        <m:r>
                          <m:t xml:space="preserve">λ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→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203640" y="2637000"/>
                <a:ext cx="28083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тказ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λ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840280" y="3930480"/>
                <a:ext cx="3268800" cy="288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t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от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,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67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54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λ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λμ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64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тказа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4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916360" y="5373720"/>
                <a:ext cx="13683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,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ми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5796000" y="414972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Многоканальная СМО с отказ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усть у системы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каналов. Будем формировать состояние системы по числу занятых каналов.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– все каналы свободны,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занят ровно один канал,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заняты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каналов,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заняты все канал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ва на право систему переводят в поток заявок с интенсивностью 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система находится в состоян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иходит заявка, то она переходит в состоя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м интенсивности событий переводящих систему по стрелкам с права нале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система находится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Когда оканчивается обслуживание заявки, занимающей этот канал, система переходит в состоя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нтенсивность равна 0. Если обслуживанием занят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налов, то поток обслуживаний, переводящих систему из состоя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будет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з интенсив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такой системы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/М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39640" y="1484280"/>
            <a:ext cx="8028000" cy="2117880"/>
            <a:chOff x="539640" y="1484280"/>
            <a:chExt cx="8028000" cy="2117880"/>
          </a:xfrm>
        </p:grpSpPr>
        <p:sp>
          <p:nvSpPr>
            <p:cNvPr id="104" name=""/>
            <p:cNvSpPr/>
            <p:nvPr/>
          </p:nvSpPr>
          <p:spPr>
            <a:xfrm>
              <a:off x="539640" y="1484280"/>
              <a:ext cx="8028000" cy="211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842400" y="1718280"/>
              <a:ext cx="6969960" cy="1554480"/>
              <a:chOff x="842400" y="1718280"/>
              <a:chExt cx="6969960" cy="1554480"/>
            </a:xfrm>
          </p:grpSpPr>
          <p:sp>
            <p:nvSpPr>
              <p:cNvPr id="106" name=""/>
              <p:cNvSpPr/>
              <p:nvPr/>
            </p:nvSpPr>
            <p:spPr>
              <a:xfrm>
                <a:off x="842400" y="2222280"/>
                <a:ext cx="521280" cy="519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078640" y="2222280"/>
                <a:ext cx="520920" cy="519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458520" y="2222280"/>
                <a:ext cx="520920" cy="519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270760" y="2222280"/>
                <a:ext cx="520920" cy="519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ru-RU" sz="1200" spc="-1" strike="noStrike" baseline="-25000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291440" y="2222280"/>
                <a:ext cx="520920" cy="519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ru-RU" sz="12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115280" y="2088000"/>
                <a:ext cx="1116720" cy="144720"/>
              </a:xfrm>
              <a:custGeom>
                <a:avLst/>
                <a:gdLst/>
                <a:ahLst/>
                <a:rect l="l" t="t" r="r" b="b"/>
                <a:pathLst>
                  <a:path w="1350" h="312">
                    <a:moveTo>
                      <a:pt x="0" y="312"/>
                    </a:moveTo>
                    <a:cubicBezTo>
                      <a:pt x="241" y="156"/>
                      <a:pt x="483" y="0"/>
                      <a:pt x="708" y="0"/>
                    </a:cubicBezTo>
                    <a:cubicBezTo>
                      <a:pt x="933" y="0"/>
                      <a:pt x="1141" y="156"/>
                      <a:pt x="1350" y="3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00560" y="2115000"/>
                <a:ext cx="1117080" cy="144360"/>
              </a:xfrm>
              <a:custGeom>
                <a:avLst/>
                <a:gdLst/>
                <a:ahLst/>
                <a:rect l="l" t="t" r="r" b="b"/>
                <a:pathLst>
                  <a:path w="1350" h="312">
                    <a:moveTo>
                      <a:pt x="0" y="312"/>
                    </a:moveTo>
                    <a:cubicBezTo>
                      <a:pt x="241" y="156"/>
                      <a:pt x="483" y="0"/>
                      <a:pt x="708" y="0"/>
                    </a:cubicBezTo>
                    <a:cubicBezTo>
                      <a:pt x="933" y="0"/>
                      <a:pt x="1141" y="156"/>
                      <a:pt x="1350" y="3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1164960" y="2746440"/>
                <a:ext cx="1116720" cy="144720"/>
              </a:xfrm>
              <a:custGeom>
                <a:avLst/>
                <a:gdLst/>
                <a:ahLst/>
                <a:rect l="l" t="t" r="r" b="b"/>
                <a:pathLst>
                  <a:path w="1350" h="312">
                    <a:moveTo>
                      <a:pt x="0" y="312"/>
                    </a:moveTo>
                    <a:cubicBezTo>
                      <a:pt x="241" y="156"/>
                      <a:pt x="483" y="0"/>
                      <a:pt x="708" y="0"/>
                    </a:cubicBezTo>
                    <a:cubicBezTo>
                      <a:pt x="933" y="0"/>
                      <a:pt x="1141" y="156"/>
                      <a:pt x="1350" y="3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flipV="1">
                <a:off x="2440800" y="2692440"/>
                <a:ext cx="1116720" cy="144360"/>
              </a:xfrm>
              <a:custGeom>
                <a:avLst/>
                <a:gdLst/>
                <a:ahLst/>
                <a:rect l="l" t="t" r="r" b="b"/>
                <a:pathLst>
                  <a:path w="1350" h="312">
                    <a:moveTo>
                      <a:pt x="0" y="312"/>
                    </a:moveTo>
                    <a:cubicBezTo>
                      <a:pt x="241" y="156"/>
                      <a:pt x="483" y="0"/>
                      <a:pt x="708" y="0"/>
                    </a:cubicBezTo>
                    <a:cubicBezTo>
                      <a:pt x="933" y="0"/>
                      <a:pt x="1141" y="156"/>
                      <a:pt x="1350" y="3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890520" y="2687760"/>
                <a:ext cx="401760" cy="284040"/>
              </a:xfrm>
              <a:custGeom>
                <a:avLst/>
                <a:gdLst/>
                <a:ahLst/>
                <a:rect l="l" t="t" r="r" b="b"/>
                <a:pathLst>
                  <a:path w="771" h="318">
                    <a:moveTo>
                      <a:pt x="771" y="318"/>
                    </a:moveTo>
                    <a:cubicBezTo>
                      <a:pt x="704" y="303"/>
                      <a:pt x="479" y="281"/>
                      <a:pt x="351" y="228"/>
                    </a:cubicBezTo>
                    <a:cubicBezTo>
                      <a:pt x="223" y="175"/>
                      <a:pt x="73" y="48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77920" y="2687760"/>
                <a:ext cx="387000" cy="284040"/>
              </a:xfrm>
              <a:custGeom>
                <a:avLst/>
                <a:gdLst/>
                <a:ahLst/>
                <a:rect l="l" t="t" r="r" b="b"/>
                <a:pathLst>
                  <a:path w="771" h="318">
                    <a:moveTo>
                      <a:pt x="771" y="318"/>
                    </a:moveTo>
                    <a:cubicBezTo>
                      <a:pt x="704" y="303"/>
                      <a:pt x="479" y="281"/>
                      <a:pt x="351" y="228"/>
                    </a:cubicBezTo>
                    <a:cubicBezTo>
                      <a:pt x="223" y="175"/>
                      <a:pt x="73" y="48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flipV="1">
                <a:off x="4893480" y="2088000"/>
                <a:ext cx="439200" cy="267840"/>
              </a:xfrm>
              <a:custGeom>
                <a:avLst/>
                <a:gdLst/>
                <a:ahLst/>
                <a:rect l="l" t="t" r="r" b="b"/>
                <a:pathLst>
                  <a:path w="771" h="318">
                    <a:moveTo>
                      <a:pt x="771" y="318"/>
                    </a:moveTo>
                    <a:cubicBezTo>
                      <a:pt x="704" y="303"/>
                      <a:pt x="479" y="281"/>
                      <a:pt x="351" y="228"/>
                    </a:cubicBezTo>
                    <a:cubicBezTo>
                      <a:pt x="223" y="175"/>
                      <a:pt x="73" y="48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flipV="1">
                <a:off x="6899400" y="2114280"/>
                <a:ext cx="429120" cy="225000"/>
              </a:xfrm>
              <a:custGeom>
                <a:avLst/>
                <a:gdLst/>
                <a:ahLst/>
                <a:rect l="l" t="t" r="r" b="b"/>
                <a:pathLst>
                  <a:path w="771" h="318">
                    <a:moveTo>
                      <a:pt x="771" y="318"/>
                    </a:moveTo>
                    <a:cubicBezTo>
                      <a:pt x="704" y="303"/>
                      <a:pt x="479" y="281"/>
                      <a:pt x="351" y="228"/>
                    </a:cubicBezTo>
                    <a:cubicBezTo>
                      <a:pt x="223" y="175"/>
                      <a:pt x="73" y="48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 flipV="1" rot="19099200">
                <a:off x="3915000" y="2081880"/>
                <a:ext cx="401760" cy="283680"/>
              </a:xfrm>
              <a:custGeom>
                <a:avLst/>
                <a:gdLst/>
                <a:ahLst/>
                <a:rect l="l" t="t" r="r" b="b"/>
                <a:pathLst>
                  <a:path w="771" h="318">
                    <a:moveTo>
                      <a:pt x="771" y="318"/>
                    </a:moveTo>
                    <a:cubicBezTo>
                      <a:pt x="704" y="303"/>
                      <a:pt x="479" y="281"/>
                      <a:pt x="351" y="228"/>
                    </a:cubicBezTo>
                    <a:cubicBezTo>
                      <a:pt x="223" y="175"/>
                      <a:pt x="73" y="48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 flipV="1" rot="19099200">
                <a:off x="5726880" y="2081520"/>
                <a:ext cx="402120" cy="284400"/>
              </a:xfrm>
              <a:custGeom>
                <a:avLst/>
                <a:gdLst/>
                <a:ahLst/>
                <a:rect l="l" t="t" r="r" b="b"/>
                <a:pathLst>
                  <a:path w="771" h="318">
                    <a:moveTo>
                      <a:pt x="771" y="318"/>
                    </a:moveTo>
                    <a:cubicBezTo>
                      <a:pt x="704" y="303"/>
                      <a:pt x="479" y="281"/>
                      <a:pt x="351" y="228"/>
                    </a:cubicBezTo>
                    <a:cubicBezTo>
                      <a:pt x="223" y="175"/>
                      <a:pt x="73" y="48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9099200">
                <a:off x="4933080" y="2617920"/>
                <a:ext cx="401760" cy="284040"/>
              </a:xfrm>
              <a:custGeom>
                <a:avLst/>
                <a:gdLst/>
                <a:ahLst/>
                <a:rect l="l" t="t" r="r" b="b"/>
                <a:pathLst>
                  <a:path w="771" h="318">
                    <a:moveTo>
                      <a:pt x="771" y="318"/>
                    </a:moveTo>
                    <a:cubicBezTo>
                      <a:pt x="704" y="303"/>
                      <a:pt x="479" y="281"/>
                      <a:pt x="351" y="228"/>
                    </a:cubicBezTo>
                    <a:cubicBezTo>
                      <a:pt x="223" y="175"/>
                      <a:pt x="73" y="48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9099200">
                <a:off x="6944040" y="2608200"/>
                <a:ext cx="401760" cy="284040"/>
              </a:xfrm>
              <a:custGeom>
                <a:avLst/>
                <a:gdLst/>
                <a:ahLst/>
                <a:rect l="l" t="t" r="r" b="b"/>
                <a:pathLst>
                  <a:path w="771" h="318">
                    <a:moveTo>
                      <a:pt x="771" y="318"/>
                    </a:moveTo>
                    <a:cubicBezTo>
                      <a:pt x="704" y="303"/>
                      <a:pt x="479" y="281"/>
                      <a:pt x="351" y="228"/>
                    </a:cubicBezTo>
                    <a:cubicBezTo>
                      <a:pt x="223" y="175"/>
                      <a:pt x="73" y="48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482840" y="1728720"/>
                <a:ext cx="372240" cy="36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902680" y="1718280"/>
                <a:ext cx="372240" cy="36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948720" y="1718280"/>
                <a:ext cx="372240" cy="36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82960" y="1787760"/>
                <a:ext cx="372240" cy="36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527480" y="2908440"/>
                <a:ext cx="372240" cy="36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892600" y="2881440"/>
                <a:ext cx="536040" cy="36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914160" y="2871000"/>
                <a:ext cx="545760" cy="36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Многоканальная СМО с отказ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8424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м уравнение Колмогорова для такой С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грирование системы (1) с заданными начальными условиями даёт выражение  для вероятности состояний. Пр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&gt;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341440" y="981000"/>
                <a:ext cx="5399280" cy="300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μ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λ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μ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r>
                              <m:t xml:space="preserve">kμ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λ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μ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124000" y="4375080"/>
                <a:ext cx="5327640" cy="23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μ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kμ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λ</m:t>
                                </m:r>
                                <m:r>
                                  <m:t xml:space="preserve">μ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Многоканальная СМО с отказ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856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едённая интенсивность - это средние число заявок, приходящих в СМО за среднее время обслуживания одной заявки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чётом этого обозначения формула (2) принимает следующий ви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заявка получает отказ от обслужив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заняты все  кана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носительная пропускная способ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абсолютная пропускная способ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реднее число занятых кан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042920" y="549360"/>
                <a:ext cx="8636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700360" y="1773360"/>
                <a:ext cx="424800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39640" y="3500280"/>
                <a:ext cx="208764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тказа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h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68360" y="4508640"/>
                <a:ext cx="2682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тказ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68360" y="5221440"/>
                <a:ext cx="2736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39640" y="5948280"/>
                <a:ext cx="3095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Многоканальная СМО с отказ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мер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ногоканальная СМО – мини-АТС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ниями. Вызов пришедший, когда все линии заняты, получает отказ. Интенсивность потока вызовов λ=2,4 выз/мин. Среднее время обслуживание вызов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о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ин. Найти абсолютную (А) и относительную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ропускные способности, и вероятность отказ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о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971640" y="3106800"/>
                <a:ext cx="20876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,4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6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,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826920" y="3754440"/>
                <a:ext cx="40323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ρ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324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826920" y="4640400"/>
                <a:ext cx="29545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тказа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h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826920" y="5445000"/>
                <a:ext cx="23050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тказ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3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55640" y="5994360"/>
                <a:ext cx="31687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Одноканальная СМО с ожидание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856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смотрим ОСМ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=1, на которую поступает поток заявок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 интенсивностью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работки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заявка становится в очередь и ожидает. Предположим, что число мест в очереди ограниченно число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Т.е. если заявка пришла в момент, когда в очереди уже стоя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заявок, она покидает СМО не обслуженн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ип такой СМО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/1/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анал свободен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анал занят очереди нет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анал занят, одна заявка в очереди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анал заня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заявок стоят в очеред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стрелкам слева на право поток заявок переводит систему с интенсивностью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а с права на лево, поток освобождения занятого канала с интенсивностью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96720" y="4230720"/>
            <a:ext cx="7920360" cy="1935000"/>
            <a:chOff x="396720" y="4230720"/>
            <a:chExt cx="7920360" cy="1935000"/>
          </a:xfrm>
        </p:grpSpPr>
        <p:sp>
          <p:nvSpPr>
            <p:cNvPr id="170" name=""/>
            <p:cNvSpPr/>
            <p:nvPr/>
          </p:nvSpPr>
          <p:spPr>
            <a:xfrm>
              <a:off x="396720" y="4230720"/>
              <a:ext cx="7920360" cy="193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4120" y="5033880"/>
              <a:ext cx="5140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63800" y="5033880"/>
              <a:ext cx="5140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25680" y="5033880"/>
              <a:ext cx="5140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13440" y="5033880"/>
              <a:ext cx="5140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07120" y="5033880"/>
              <a:ext cx="5144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13760" y="4911480"/>
              <a:ext cx="1101960" cy="132120"/>
            </a:xfrm>
            <a:custGeom>
              <a:avLst/>
              <a:gdLst/>
              <a:ahLst/>
              <a:rect l="l" t="t" r="r" b="b"/>
              <a:pathLst>
                <a:path w="1350" h="312">
                  <a:moveTo>
                    <a:pt x="0" y="312"/>
                  </a:moveTo>
                  <a:cubicBezTo>
                    <a:pt x="241" y="156"/>
                    <a:pt x="483" y="0"/>
                    <a:pt x="708" y="0"/>
                  </a:cubicBezTo>
                  <a:cubicBezTo>
                    <a:pt x="933" y="0"/>
                    <a:pt x="1141" y="156"/>
                    <a:pt x="1350" y="3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80320" y="4935960"/>
              <a:ext cx="1101960" cy="132120"/>
            </a:xfrm>
            <a:custGeom>
              <a:avLst/>
              <a:gdLst/>
              <a:ahLst/>
              <a:rect l="l" t="t" r="r" b="b"/>
              <a:pathLst>
                <a:path w="1350" h="312">
                  <a:moveTo>
                    <a:pt x="0" y="312"/>
                  </a:moveTo>
                  <a:cubicBezTo>
                    <a:pt x="241" y="156"/>
                    <a:pt x="483" y="0"/>
                    <a:pt x="708" y="0"/>
                  </a:cubicBezTo>
                  <a:cubicBezTo>
                    <a:pt x="933" y="0"/>
                    <a:pt x="1141" y="156"/>
                    <a:pt x="1350" y="3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1062000" y="5512320"/>
              <a:ext cx="1101960" cy="132120"/>
            </a:xfrm>
            <a:custGeom>
              <a:avLst/>
              <a:gdLst/>
              <a:ahLst/>
              <a:rect l="l" t="t" r="r" b="b"/>
              <a:pathLst>
                <a:path w="1350" h="312">
                  <a:moveTo>
                    <a:pt x="0" y="312"/>
                  </a:moveTo>
                  <a:cubicBezTo>
                    <a:pt x="241" y="156"/>
                    <a:pt x="483" y="0"/>
                    <a:pt x="708" y="0"/>
                  </a:cubicBezTo>
                  <a:cubicBezTo>
                    <a:pt x="933" y="0"/>
                    <a:pt x="1141" y="156"/>
                    <a:pt x="1350" y="3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2320920" y="5463720"/>
              <a:ext cx="1101960" cy="132120"/>
            </a:xfrm>
            <a:custGeom>
              <a:avLst/>
              <a:gdLst/>
              <a:ahLst/>
              <a:rect l="l" t="t" r="r" b="b"/>
              <a:pathLst>
                <a:path w="1350" h="312">
                  <a:moveTo>
                    <a:pt x="0" y="312"/>
                  </a:moveTo>
                  <a:cubicBezTo>
                    <a:pt x="241" y="156"/>
                    <a:pt x="483" y="0"/>
                    <a:pt x="708" y="0"/>
                  </a:cubicBezTo>
                  <a:cubicBezTo>
                    <a:pt x="933" y="0"/>
                    <a:pt x="1141" y="156"/>
                    <a:pt x="1350" y="3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51920" y="5459400"/>
              <a:ext cx="396720" cy="25956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15200" y="5459400"/>
              <a:ext cx="381600" cy="25956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4741200" y="4911480"/>
              <a:ext cx="433440" cy="24480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6719400" y="4935240"/>
              <a:ext cx="423720" cy="20556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 rot="19099200">
              <a:off x="3776400" y="4905720"/>
              <a:ext cx="396720" cy="25956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 rot="19099200">
              <a:off x="5564160" y="4905720"/>
              <a:ext cx="396720" cy="25956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9099200">
              <a:off x="4780440" y="5395680"/>
              <a:ext cx="396720" cy="25956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9099200">
              <a:off x="6764040" y="5386680"/>
              <a:ext cx="396720" cy="259560"/>
            </a:xfrm>
            <a:custGeom>
              <a:avLst/>
              <a:gdLst/>
              <a:ahLst/>
              <a:rect l="l" t="t" r="r" b="b"/>
              <a:pathLst>
                <a:path w="771" h="318">
                  <a:moveTo>
                    <a:pt x="771" y="318"/>
                  </a:moveTo>
                  <a:cubicBezTo>
                    <a:pt x="704" y="303"/>
                    <a:pt x="479" y="281"/>
                    <a:pt x="351" y="228"/>
                  </a:cubicBezTo>
                  <a:cubicBezTo>
                    <a:pt x="223" y="175"/>
                    <a:pt x="73" y="4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75920" y="4583160"/>
              <a:ext cx="36720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77040" y="4573440"/>
              <a:ext cx="36720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69080" y="4573440"/>
              <a:ext cx="36720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20240" y="4637160"/>
              <a:ext cx="36720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Одноканальная СМО с ожид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шем уравнение Колмогорова для  предельных вероятностей состоя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им (1) в (3), получи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мируя геометрическую прогрессию для 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учи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ем формула  (4) справедлива только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з 3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987560" y="981000"/>
                <a:ext cx="488952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λ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&gt;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λ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979640" y="2441520"/>
                <a:ext cx="3887640" cy="21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r>
                                      <m:t xml:space="preserve">μ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ρ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948360" y="4508640"/>
                <a:ext cx="20163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724360" y="5167440"/>
                <a:ext cx="6480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826920" y="5661000"/>
                <a:ext cx="6494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979640" y="5516640"/>
                <a:ext cx="12589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8:06:36Z</dcterms:created>
  <dc:creator>Rustam</dc:creator>
  <dc:description/>
  <dc:language>en-US</dc:language>
  <cp:lastModifiedBy>julivic</cp:lastModifiedBy>
  <dcterms:modified xsi:type="dcterms:W3CDTF">2006-10-27T04:21:32Z</dcterms:modified>
  <cp:revision>108</cp:revision>
  <dc:subject/>
  <dc:title>Моделирование</dc:title>
</cp:coreProperties>
</file>