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EDD9-7595-4873-9380-30DEA7D9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348D-9048-4BDE-8E49-39DCAF82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F052-A7E0-43E1-BC3E-D24F0368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203-F490-4047-B0AD-BF123A22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F8B-F5FC-4B27-A449-A96AA33E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2047-B43A-47EC-AC08-A2958A99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366-F226-4173-BF79-C04A9E15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070B-960A-476A-B52F-6A625D9B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DEA-6B1E-475A-AC67-EDE59B7F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41FD-808E-45B1-8394-F5DA1ADB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7444-3134-4361-8CCB-C236A6E5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F12-9FD1-42F7-B33D-D9A5155B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8179-747B-4BDC-A3FC-670B68BCBE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Лекция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Теория систем массового обслуж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редмет массового обслужи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507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СМО предназначена для исследования стохастических сложных систем, работа которых заключается в обслуживания поступающих на них потоков заявок. Заявки поступают в систему одна за другой в некоторые случайные моменты времени. Обслуживание поступившей заявки продолжается некоторое время, после чего система освобождается и готова к принятию следующей заявки. Каждая такая система может состоят  из нескольких  независимых единиц, которые называются каналами обслуживания, совокупность каналов обслуживания вместе с системой правил, устанавливающих организуют обслуживания, образуют систему массового обслуж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 ТСМО - это установление зависимости между характером потока заявок, числом каналов, их производительностью, правилами работы СМО и эффективностью обслуж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Классификация СМО их основные характеристи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3645000"/>
            <a:ext cx="85075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О с отказом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бсолютная пропускная способ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среднее число заявок, которое может обслужить система  в единицу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носительная пропускная способ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средняя доля поступивших заявок, обслуживаемых системой в единицу времени, т.е. отношение среднего числа заявок, обслуживаемое системой в единицу времени к среднему числу поступающих за это время заяв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роятность обслуживания поступившей зая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редние число занятых кан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187280" y="836640"/>
            <a:ext cx="6400800" cy="2592360"/>
            <a:chOff x="1187280" y="836640"/>
            <a:chExt cx="6400800" cy="2592360"/>
          </a:xfrm>
        </p:grpSpPr>
        <p:sp>
          <p:nvSpPr>
            <p:cNvPr id="48" name=""/>
            <p:cNvSpPr/>
            <p:nvPr/>
          </p:nvSpPr>
          <p:spPr>
            <a:xfrm>
              <a:off x="1187280" y="836640"/>
              <a:ext cx="6400800" cy="25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30200" y="966240"/>
              <a:ext cx="217188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М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44480" y="1873440"/>
              <a:ext cx="1485720" cy="6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М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 отказ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30200" y="2651400"/>
              <a:ext cx="1942920" cy="6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МО с неограниченным ожидание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59000" y="1743840"/>
              <a:ext cx="1714320" cy="6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М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 ожидание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16200" y="2651400"/>
              <a:ext cx="1828800" cy="6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МО с ограниченным ожидание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444400" y="1225440"/>
              <a:ext cx="68544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302080" y="1225440"/>
              <a:ext cx="685440" cy="51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616280" y="2262600"/>
              <a:ext cx="34272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73680" y="2133000"/>
              <a:ext cx="342720" cy="51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Классификация СМО их основные характеристи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507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О с неограниченным ожид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ие число заявок в очеред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ие число заявок в систе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е время ожидания заявки в очеред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е время пребывания заявки в систе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е число занятых кан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О с ограниченным временем ожи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ого типа СМО интерес представляют обе группы характеристик, как относительная  и абсолютная  пропускная способность, так и характеристики ожидания. Для анализа процесса протекающего в СМО, необходимо знать следующие параметры сист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исло канало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нсивность потока заяв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ительность каждого канала (средние число заявок в единицу времени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ловие образование очере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Классификация Канд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56908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ула Кандалла для СМО имеет пять по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/ G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/ n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/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ной информационный пот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ной информационный пот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приборов в систе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заявок в очереди сист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заявок, которые могут иметь место во входном пото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Ν, Μ = ∞, то эти поля можно опуст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ое распределение для рекурентного потока однородных событий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ым появлением групповых заяв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ое число заявок в группе. Если e = 1, то оно опуск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число линий обслуживаемых в приб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известного распределения в потоках вмес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ретные симво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экспоненциально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ассоновского) пот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(k)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распределения Эрланга k-го поряд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гиперэкспоненциального распределения 2-го поряд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Q(S)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кусочно-степенного распределения в потоке /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ксимальная степень полинома/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 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вырожденного пот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04:34:35Z</dcterms:created>
  <dc:creator>Rustam</dc:creator>
  <dc:description/>
  <dc:language>en-US</dc:language>
  <cp:lastModifiedBy>julivic</cp:lastModifiedBy>
  <dcterms:modified xsi:type="dcterms:W3CDTF">2006-10-26T13:51:54Z</dcterms:modified>
  <cp:revision>57</cp:revision>
  <dc:subject/>
  <dc:title>Слайд 1</dc:title>
</cp:coreProperties>
</file>