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138-26A6-4284-ACE5-BB928CCA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BFA-18F7-42BD-AF90-A5C0C88F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71A-44F7-4947-A97F-9C7D7DCA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A87-6CBF-41DA-9A72-5F2C9F1B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0EC-4350-4083-9A94-1ED3F29A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39E-5C52-40AB-AD71-EAB9355A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D2D-AC10-4C1E-8727-36F42114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E5B-0C7B-4101-A8BC-BB9BD1B2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78B-D269-47B8-B769-4338EB1A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1F2-37C2-4ECC-ADCA-84A02120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4EE-FA91-4794-98BB-3F860704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9D7-5A28-4E55-9BB6-C57A2500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C835-C121-4808-BDB1-CA4DE7D1B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екция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Динамически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Фазовые портреты линейных 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24080" y="961920"/>
            <a:ext cx="664056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Фазовые портреты линейных 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76280" y="771480"/>
            <a:ext cx="82501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Фазовые портреты линейных 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800360"/>
            <a:ext cx="82296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Изменение типа точки равнове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693880"/>
            <a:ext cx="9144000" cy="2336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080" y="1204920"/>
            <a:ext cx="8619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ейная система ОДУ размерности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параме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одит к изменению типа точки равновесия (0;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1=-0.16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a11=0.16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1=0.6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Устойчивость точки равнове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873000"/>
          <a:ext cx="9144000" cy="562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73000"/>
                    <a:ext cx="9144000" cy="56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Устойчивость точки равнове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947880"/>
          <a:ext cx="91440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47880"/>
                    <a:ext cx="91440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Устойчивость точки равнове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1090440"/>
          <a:ext cx="9144000" cy="41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0440"/>
                    <a:ext cx="9144000" cy="41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4214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Бифуркация одномерной динамической системы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x/dt = f(x,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= x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шение уравнени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фуркация – раздвоение ветвей кривой равнове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ловие существования точки бифурк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/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(x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/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∂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5040" y="4424400"/>
            <a:ext cx="22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79400" y="32713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2400" y="319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53200" y="435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92400" y="441792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137120" y="32655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40120" y="31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0200" y="4344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6200" y="6008760"/>
            <a:ext cx="22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90560" y="4855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560" y="4776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64360" y="593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2400" y="600876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137120" y="4855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40120" y="4776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0200" y="5935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1643400" y="2694960"/>
            <a:ext cx="1872000" cy="36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1643040" y="4286160"/>
            <a:ext cx="1872720" cy="36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9400" y="53658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27040" y="5365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27040" y="37749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9400" y="37749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5560" y="35528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5560" y="51498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63240" y="5942160"/>
            <a:ext cx="38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0640" y="4344840"/>
            <a:ext cx="38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1427040" y="5078160"/>
            <a:ext cx="1828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3" y="442"/>
                </a:moveTo>
                <a:arcTo wR="10800" hR="10800" stAng="-6386560" swAng="6386560"/>
                <a:lnTo>
                  <a:pt x="10800" y="10800"/>
                </a:lnTo>
                <a:close/>
              </a:path>
              <a:path fill="none" w="21600" h="21600">
                <a:moveTo>
                  <a:pt x="7743" y="442"/>
                </a:moveTo>
                <a:arcTo wR="10800" hR="10800" stAng="-6386560" swAng="638656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92480" y="348768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x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92480" y="478296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92480" y="52880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10600" y="35593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64120" y="37749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64120" y="53658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4120" y="57992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4143240" y="2982960"/>
            <a:ext cx="374256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 rot="10800000">
            <a:off x="4143600" y="3918960"/>
            <a:ext cx="374616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4143240" y="4719960"/>
            <a:ext cx="374256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 rot="10800000">
            <a:off x="4143600" y="5438520"/>
            <a:ext cx="388584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0800000">
            <a:off x="4143240" y="5510160"/>
            <a:ext cx="374256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32120" y="5072040"/>
            <a:ext cx="52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32120" y="5581800"/>
            <a:ext cx="52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10120" y="34099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010120" y="37810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10120" y="50101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10120" y="5362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257800" y="55436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5791320"/>
            <a:ext cx="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Типы точек бифур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507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вой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чка бифуркации – это точка, через которую проходят две гладкие кривы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x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кстрем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войная) точка бифуркации – это точка двойной бифуркации, у которой одна ветвь кривой равновесия имеет касательную, параллельную ос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лежит по одну сторону от этой касате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очка возвр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двойная точка бифуркации, для которой ветви имеют общую касательную в точк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ой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точка бифуркации – это точка, для которой имеется три ветви кривой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Типы точек бифур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320688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042920" y="14778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7080" y="1333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26160" y="3133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551196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042920" y="37828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7080" y="3638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26160" y="5438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3081240" y="160200"/>
            <a:ext cx="1828080" cy="561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227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95640" y="147780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2054160"/>
            <a:ext cx="45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3127320"/>
            <a:ext cx="45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372120" y="618840"/>
            <a:ext cx="938160" cy="329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" y="11343"/>
                </a:moveTo>
                <a:arcTo wR="10800" hR="10800" stAng="10626985" swAng="10973015"/>
                <a:lnTo>
                  <a:pt x="10800" y="10800"/>
                </a:lnTo>
                <a:close/>
              </a:path>
              <a:path fill="none" w="21600" h="21600">
                <a:moveTo>
                  <a:pt x="14" y="11343"/>
                </a:moveTo>
                <a:arcTo wR="10800" hR="10800" stAng="10626985" swAng="10973015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52720" y="169380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51280" y="240660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5120" y="4286160"/>
            <a:ext cx="45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4502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63840" y="5438880"/>
            <a:ext cx="45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27280" y="45021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92240" y="4502160"/>
            <a:ext cx="3022920" cy="107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7" y="7625"/>
                </a:moveTo>
                <a:arcTo wR="10800" hR="10800" stAng="-9774280" swAng="8904705"/>
                <a:lnTo>
                  <a:pt x="10800" y="10800"/>
                </a:lnTo>
                <a:close/>
              </a:path>
              <a:path fill="none" w="21600" h="21600">
                <a:moveTo>
                  <a:pt x="477" y="7625"/>
                </a:moveTo>
                <a:arcTo wR="10800" hR="10800" stAng="-9774280" swAng="8904705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1110600" y="3425760"/>
            <a:ext cx="3022920" cy="107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7" y="7625"/>
                </a:moveTo>
                <a:arcTo wR="10800" hR="10800" stAng="-9774280" swAng="8904705"/>
                <a:lnTo>
                  <a:pt x="10800" y="10800"/>
                </a:lnTo>
                <a:close/>
              </a:path>
              <a:path fill="none" w="21600" h="21600">
                <a:moveTo>
                  <a:pt x="477" y="7625"/>
                </a:moveTo>
                <a:arcTo wR="10800" hR="10800" stAng="-9774280" swAng="8904705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52720" y="370368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51280" y="47912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87960" y="1776240"/>
            <a:ext cx="34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тремальная точка бифур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62480" y="4062240"/>
            <a:ext cx="33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а 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24040" y="220968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724040" y="243792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943360" y="198072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43360" y="211464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733840" y="192420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33840" y="170496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09800" y="244800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809800" y="262872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419120" y="47052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19120" y="4476600"/>
            <a:ext cx="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5920" y="421956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285920" y="40194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81280" y="462924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81280" y="449532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848040" y="428580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48040" y="40766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боснование применения дифференциальных у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71080"/>
            <a:ext cx="85075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состояние системы в момент времен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ывается вектор-функцие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(t)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есть связь между состояниями в различные моменты времени, то говорят, что состояние в момент времен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пределяет состояние в момент времен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+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(t+h) = x(t) + A(t,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(t,h) = a(t)h + O(h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x/dt = a(t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 дифференциальные уравнения – естественный и традиционный способ прогноза будущего по настоящ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йрер Э., Нёрсетт С., Ваннер Г. Решение обыкновенных дифференциальных уравнений. Нежесткие задачи. – М.: Мир, 1990. 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82520" y="787320"/>
          <a:ext cx="8631360" cy="597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787320"/>
                    <a:ext cx="8631360" cy="59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10960" y="1239840"/>
          <a:ext cx="89330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239840"/>
                    <a:ext cx="89330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31840" y="1022400"/>
          <a:ext cx="8731080" cy="46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022400"/>
                    <a:ext cx="8731080" cy="46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Дифференциальные уравнения с параме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1084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состояние системы характеризуется значениям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x/dt = f(x,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шение системы, при котором не меняются ее компоненты во времени, называется стационарным равновес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x/dt = 0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ловие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,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0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равнение стационарн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Равновесие двумерной линей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686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/dt = a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b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/dt = c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g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ые числа матрицы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) уз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0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а устойчивая;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0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устойч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сед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0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не устойч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3440" y="1197000"/>
            <a:ext cx="71280" cy="647640"/>
          </a:xfrm>
          <a:custGeom>
            <a:avLst/>
            <a:gdLst>
              <a:gd name="textAreaLeft" fmla="*/ 20880 w 71280"/>
              <a:gd name="textAreaRight" fmla="*/ 71640 w 71280"/>
              <a:gd name="textAreaTop" fmla="*/ 27000 h 647640"/>
              <a:gd name="textAreaBottom" fmla="*/ 6210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32720" y="1197000"/>
            <a:ext cx="144360" cy="647640"/>
          </a:xfrm>
          <a:custGeom>
            <a:avLst/>
            <a:gdLst>
              <a:gd name="textAreaLeft" fmla="*/ 0 w 144360"/>
              <a:gd name="textAreaRight" fmla="*/ 101160 w 144360"/>
              <a:gd name="textAreaTop" fmla="*/ 27000 h 647640"/>
              <a:gd name="textAreaBottom" fmla="*/ 621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0200" y="2852640"/>
            <a:ext cx="13683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2205000"/>
            <a:ext cx="0" cy="122400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8100000">
            <a:off x="6064560" y="1853280"/>
            <a:ext cx="43128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6444000" y="1701000"/>
            <a:ext cx="43128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44000" y="1699920"/>
            <a:ext cx="43128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8900000">
            <a:off x="6822360" y="2699640"/>
            <a:ext cx="43056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0920" y="2852640"/>
            <a:ext cx="43128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 rot="2700000">
            <a:off x="6822360" y="1852920"/>
            <a:ext cx="43056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 rot="13500000">
            <a:off x="6135480" y="2700360"/>
            <a:ext cx="43128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 rot="10800000">
            <a:off x="6515280" y="2852640"/>
            <a:ext cx="43056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27640" y="2852640"/>
            <a:ext cx="1368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720" y="2205000"/>
            <a:ext cx="0" cy="1224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8100000">
            <a:off x="4481640" y="1853280"/>
            <a:ext cx="43128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861080" y="1701000"/>
            <a:ext cx="43056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61080" y="1699920"/>
            <a:ext cx="43128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8900000">
            <a:off x="5238720" y="2699640"/>
            <a:ext cx="43128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2852640"/>
            <a:ext cx="43128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 rot="2700000">
            <a:off x="5239080" y="1852560"/>
            <a:ext cx="43128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13500000">
            <a:off x="4552560" y="2699280"/>
            <a:ext cx="43056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 rot="10800000">
            <a:off x="4932720" y="2852640"/>
            <a:ext cx="43128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249228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8920" y="2852640"/>
            <a:ext cx="2160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70560" y="2852640"/>
            <a:ext cx="57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92280"/>
            <a:ext cx="0" cy="576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5280" y="2565360"/>
            <a:ext cx="0" cy="647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2852640"/>
            <a:ext cx="50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5280" y="234936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506920" y="2852640"/>
            <a:ext cx="1447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075280" y="3213000"/>
            <a:ext cx="0" cy="144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1280" y="234936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1280" y="2349360"/>
            <a:ext cx="0" cy="142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2349360"/>
            <a:ext cx="0" cy="142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930920" y="3284280"/>
            <a:ext cx="0" cy="73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218200" y="3284280"/>
            <a:ext cx="0" cy="73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440320" y="2988720"/>
            <a:ext cx="132840" cy="88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89280" y="2576880"/>
            <a:ext cx="106200" cy="1195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650480" y="2985480"/>
            <a:ext cx="128520" cy="950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7760" y="2625120"/>
            <a:ext cx="129960" cy="950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2200" y="2852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583160"/>
            <a:ext cx="0" cy="1224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3640" y="5230800"/>
            <a:ext cx="1440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724360" y="4726080"/>
            <a:ext cx="0" cy="288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54468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52308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082920" y="52308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5440" y="5302080"/>
            <a:ext cx="1005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796360" y="4294440"/>
            <a:ext cx="100584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45440" y="4293720"/>
            <a:ext cx="100584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 rot="10800000">
            <a:off x="5796360" y="5301720"/>
            <a:ext cx="1005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3800" y="5375160"/>
            <a:ext cx="100584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869440" y="4076280"/>
            <a:ext cx="100584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4572360" y="4078440"/>
            <a:ext cx="100620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98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9812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5869080" y="5373720"/>
            <a:ext cx="100620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98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9812"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6123960" y="318960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Действительные собствен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Равновесие двумерной линей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3) 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(Im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(Im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(Im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(Im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неустойч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фо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тойчивый фок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устойчив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1341360"/>
            <a:ext cx="914400" cy="914400"/>
          </a:xfrm>
          <a:prstGeom prst="donut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1198440"/>
            <a:ext cx="1224000" cy="12225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08720" y="1773000"/>
            <a:ext cx="0" cy="73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1773360"/>
            <a:ext cx="0" cy="73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4360" y="177336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093080" y="1557360"/>
            <a:ext cx="0" cy="71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3640" y="1773360"/>
            <a:ext cx="0" cy="73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877080" y="1630080"/>
            <a:ext cx="0" cy="73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1773360"/>
            <a:ext cx="0" cy="73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4880" y="4505400"/>
            <a:ext cx="1566720" cy="2100240"/>
          </a:xfrm>
          <a:custGeom>
            <a:avLst/>
            <a:gdLst/>
            <a:ahLst/>
            <a:rect l="l" t="t" r="r" b="b"/>
            <a:pathLst>
              <a:path w="987" h="1323">
                <a:moveTo>
                  <a:pt x="174" y="482"/>
                </a:moveTo>
                <a:cubicBezTo>
                  <a:pt x="151" y="471"/>
                  <a:pt x="66" y="451"/>
                  <a:pt x="39" y="415"/>
                </a:cubicBezTo>
                <a:cubicBezTo>
                  <a:pt x="12" y="379"/>
                  <a:pt x="0" y="320"/>
                  <a:pt x="11" y="266"/>
                </a:cubicBezTo>
                <a:cubicBezTo>
                  <a:pt x="22" y="212"/>
                  <a:pt x="46" y="133"/>
                  <a:pt x="106" y="89"/>
                </a:cubicBezTo>
                <a:cubicBezTo>
                  <a:pt x="166" y="45"/>
                  <a:pt x="274" y="0"/>
                  <a:pt x="371" y="1"/>
                </a:cubicBezTo>
                <a:cubicBezTo>
                  <a:pt x="468" y="2"/>
                  <a:pt x="598" y="34"/>
                  <a:pt x="689" y="96"/>
                </a:cubicBezTo>
                <a:cubicBezTo>
                  <a:pt x="780" y="158"/>
                  <a:pt x="871" y="254"/>
                  <a:pt x="919" y="374"/>
                </a:cubicBezTo>
                <a:cubicBezTo>
                  <a:pt x="967" y="494"/>
                  <a:pt x="987" y="686"/>
                  <a:pt x="974" y="815"/>
                </a:cubicBezTo>
                <a:cubicBezTo>
                  <a:pt x="961" y="944"/>
                  <a:pt x="892" y="1062"/>
                  <a:pt x="838" y="1147"/>
                </a:cubicBezTo>
                <a:cubicBezTo>
                  <a:pt x="784" y="1232"/>
                  <a:pt x="688" y="1286"/>
                  <a:pt x="648" y="1323"/>
                </a:cubicBez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3430200">
            <a:off x="6062400" y="4746240"/>
            <a:ext cx="1566720" cy="2100240"/>
          </a:xfrm>
          <a:custGeom>
            <a:avLst/>
            <a:gdLst/>
            <a:ahLst/>
            <a:rect l="l" t="t" r="r" b="b"/>
            <a:pathLst>
              <a:path w="987" h="1323">
                <a:moveTo>
                  <a:pt x="174" y="482"/>
                </a:moveTo>
                <a:cubicBezTo>
                  <a:pt x="151" y="471"/>
                  <a:pt x="66" y="451"/>
                  <a:pt x="39" y="415"/>
                </a:cubicBezTo>
                <a:cubicBezTo>
                  <a:pt x="12" y="379"/>
                  <a:pt x="0" y="320"/>
                  <a:pt x="11" y="266"/>
                </a:cubicBezTo>
                <a:cubicBezTo>
                  <a:pt x="22" y="212"/>
                  <a:pt x="46" y="133"/>
                  <a:pt x="106" y="89"/>
                </a:cubicBezTo>
                <a:cubicBezTo>
                  <a:pt x="166" y="45"/>
                  <a:pt x="274" y="0"/>
                  <a:pt x="371" y="1"/>
                </a:cubicBezTo>
                <a:cubicBezTo>
                  <a:pt x="468" y="2"/>
                  <a:pt x="598" y="34"/>
                  <a:pt x="689" y="96"/>
                </a:cubicBezTo>
                <a:cubicBezTo>
                  <a:pt x="780" y="158"/>
                  <a:pt x="871" y="254"/>
                  <a:pt x="919" y="374"/>
                </a:cubicBezTo>
                <a:cubicBezTo>
                  <a:pt x="967" y="494"/>
                  <a:pt x="987" y="686"/>
                  <a:pt x="974" y="815"/>
                </a:cubicBezTo>
                <a:cubicBezTo>
                  <a:pt x="961" y="944"/>
                  <a:pt x="892" y="1062"/>
                  <a:pt x="838" y="1147"/>
                </a:cubicBezTo>
                <a:cubicBezTo>
                  <a:pt x="784" y="1232"/>
                  <a:pt x="688" y="1286"/>
                  <a:pt x="648" y="1323"/>
                </a:cubicBez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7075200">
            <a:off x="5558760" y="4457520"/>
            <a:ext cx="1567080" cy="2100240"/>
          </a:xfrm>
          <a:custGeom>
            <a:avLst/>
            <a:gdLst/>
            <a:ahLst/>
            <a:rect l="l" t="t" r="r" b="b"/>
            <a:pathLst>
              <a:path w="987" h="1323">
                <a:moveTo>
                  <a:pt x="174" y="482"/>
                </a:moveTo>
                <a:cubicBezTo>
                  <a:pt x="151" y="471"/>
                  <a:pt x="66" y="451"/>
                  <a:pt x="39" y="415"/>
                </a:cubicBezTo>
                <a:cubicBezTo>
                  <a:pt x="12" y="379"/>
                  <a:pt x="0" y="320"/>
                  <a:pt x="11" y="266"/>
                </a:cubicBezTo>
                <a:cubicBezTo>
                  <a:pt x="22" y="212"/>
                  <a:pt x="46" y="133"/>
                  <a:pt x="106" y="89"/>
                </a:cubicBezTo>
                <a:cubicBezTo>
                  <a:pt x="166" y="45"/>
                  <a:pt x="274" y="0"/>
                  <a:pt x="371" y="1"/>
                </a:cubicBezTo>
                <a:cubicBezTo>
                  <a:pt x="468" y="2"/>
                  <a:pt x="598" y="34"/>
                  <a:pt x="689" y="96"/>
                </a:cubicBezTo>
                <a:cubicBezTo>
                  <a:pt x="780" y="158"/>
                  <a:pt x="871" y="254"/>
                  <a:pt x="919" y="374"/>
                </a:cubicBezTo>
                <a:cubicBezTo>
                  <a:pt x="967" y="494"/>
                  <a:pt x="987" y="686"/>
                  <a:pt x="974" y="815"/>
                </a:cubicBezTo>
                <a:cubicBezTo>
                  <a:pt x="961" y="944"/>
                  <a:pt x="892" y="1062"/>
                  <a:pt x="838" y="1147"/>
                </a:cubicBezTo>
                <a:cubicBezTo>
                  <a:pt x="784" y="1232"/>
                  <a:pt x="688" y="1286"/>
                  <a:pt x="648" y="1323"/>
                </a:cubicBez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311000">
            <a:off x="5508720" y="4005000"/>
            <a:ext cx="1566720" cy="2100240"/>
          </a:xfrm>
          <a:custGeom>
            <a:avLst/>
            <a:gdLst/>
            <a:ahLst/>
            <a:rect l="l" t="t" r="r" b="b"/>
            <a:pathLst>
              <a:path w="987" h="1323">
                <a:moveTo>
                  <a:pt x="174" y="482"/>
                </a:moveTo>
                <a:cubicBezTo>
                  <a:pt x="151" y="471"/>
                  <a:pt x="66" y="451"/>
                  <a:pt x="39" y="415"/>
                </a:cubicBezTo>
                <a:cubicBezTo>
                  <a:pt x="12" y="379"/>
                  <a:pt x="0" y="320"/>
                  <a:pt x="11" y="266"/>
                </a:cubicBezTo>
                <a:cubicBezTo>
                  <a:pt x="22" y="212"/>
                  <a:pt x="46" y="133"/>
                  <a:pt x="106" y="89"/>
                </a:cubicBezTo>
                <a:cubicBezTo>
                  <a:pt x="166" y="45"/>
                  <a:pt x="274" y="0"/>
                  <a:pt x="371" y="1"/>
                </a:cubicBezTo>
                <a:cubicBezTo>
                  <a:pt x="468" y="2"/>
                  <a:pt x="598" y="34"/>
                  <a:pt x="689" y="96"/>
                </a:cubicBezTo>
                <a:cubicBezTo>
                  <a:pt x="780" y="158"/>
                  <a:pt x="871" y="254"/>
                  <a:pt x="919" y="374"/>
                </a:cubicBezTo>
                <a:cubicBezTo>
                  <a:pt x="967" y="494"/>
                  <a:pt x="987" y="686"/>
                  <a:pt x="974" y="815"/>
                </a:cubicBezTo>
                <a:cubicBezTo>
                  <a:pt x="961" y="944"/>
                  <a:pt x="892" y="1062"/>
                  <a:pt x="838" y="1147"/>
                </a:cubicBezTo>
                <a:cubicBezTo>
                  <a:pt x="784" y="1232"/>
                  <a:pt x="688" y="1286"/>
                  <a:pt x="648" y="1323"/>
                </a:cubicBez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4413200">
            <a:off x="6062400" y="3666600"/>
            <a:ext cx="1567080" cy="2100240"/>
          </a:xfrm>
          <a:custGeom>
            <a:avLst/>
            <a:gdLst/>
            <a:ahLst/>
            <a:rect l="l" t="t" r="r" b="b"/>
            <a:pathLst>
              <a:path w="987" h="1323">
                <a:moveTo>
                  <a:pt x="174" y="482"/>
                </a:moveTo>
                <a:cubicBezTo>
                  <a:pt x="151" y="471"/>
                  <a:pt x="66" y="451"/>
                  <a:pt x="39" y="415"/>
                </a:cubicBezTo>
                <a:cubicBezTo>
                  <a:pt x="12" y="379"/>
                  <a:pt x="0" y="320"/>
                  <a:pt x="11" y="266"/>
                </a:cubicBezTo>
                <a:cubicBezTo>
                  <a:pt x="22" y="212"/>
                  <a:pt x="46" y="133"/>
                  <a:pt x="106" y="89"/>
                </a:cubicBezTo>
                <a:cubicBezTo>
                  <a:pt x="166" y="45"/>
                  <a:pt x="274" y="0"/>
                  <a:pt x="371" y="1"/>
                </a:cubicBezTo>
                <a:cubicBezTo>
                  <a:pt x="468" y="2"/>
                  <a:pt x="598" y="34"/>
                  <a:pt x="689" y="96"/>
                </a:cubicBezTo>
                <a:cubicBezTo>
                  <a:pt x="780" y="158"/>
                  <a:pt x="871" y="254"/>
                  <a:pt x="919" y="374"/>
                </a:cubicBezTo>
                <a:cubicBezTo>
                  <a:pt x="967" y="494"/>
                  <a:pt x="987" y="686"/>
                  <a:pt x="974" y="815"/>
                </a:cubicBezTo>
                <a:cubicBezTo>
                  <a:pt x="961" y="944"/>
                  <a:pt x="892" y="1062"/>
                  <a:pt x="838" y="1147"/>
                </a:cubicBezTo>
                <a:cubicBezTo>
                  <a:pt x="784" y="1232"/>
                  <a:pt x="688" y="1286"/>
                  <a:pt x="648" y="1323"/>
                </a:cubicBez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157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95640" y="4437000"/>
            <a:ext cx="1566720" cy="2100240"/>
          </a:xfrm>
          <a:custGeom>
            <a:avLst/>
            <a:gdLst/>
            <a:ahLst/>
            <a:rect l="l" t="t" r="r" b="b"/>
            <a:pathLst>
              <a:path w="987" h="1323">
                <a:moveTo>
                  <a:pt x="174" y="482"/>
                </a:moveTo>
                <a:cubicBezTo>
                  <a:pt x="151" y="471"/>
                  <a:pt x="66" y="451"/>
                  <a:pt x="39" y="415"/>
                </a:cubicBezTo>
                <a:cubicBezTo>
                  <a:pt x="12" y="379"/>
                  <a:pt x="0" y="320"/>
                  <a:pt x="11" y="266"/>
                </a:cubicBezTo>
                <a:cubicBezTo>
                  <a:pt x="22" y="212"/>
                  <a:pt x="46" y="133"/>
                  <a:pt x="106" y="89"/>
                </a:cubicBezTo>
                <a:cubicBezTo>
                  <a:pt x="166" y="45"/>
                  <a:pt x="274" y="0"/>
                  <a:pt x="371" y="1"/>
                </a:cubicBezTo>
                <a:cubicBezTo>
                  <a:pt x="468" y="2"/>
                  <a:pt x="598" y="34"/>
                  <a:pt x="689" y="96"/>
                </a:cubicBezTo>
                <a:cubicBezTo>
                  <a:pt x="780" y="158"/>
                  <a:pt x="871" y="254"/>
                  <a:pt x="919" y="374"/>
                </a:cubicBezTo>
                <a:cubicBezTo>
                  <a:pt x="967" y="494"/>
                  <a:pt x="987" y="686"/>
                  <a:pt x="974" y="815"/>
                </a:cubicBezTo>
                <a:cubicBezTo>
                  <a:pt x="961" y="944"/>
                  <a:pt x="892" y="1062"/>
                  <a:pt x="838" y="1147"/>
                </a:cubicBezTo>
                <a:cubicBezTo>
                  <a:pt x="784" y="1232"/>
                  <a:pt x="688" y="1286"/>
                  <a:pt x="648" y="1323"/>
                </a:cubicBezTo>
              </a:path>
            </a:pathLst>
          </a:custGeom>
          <a:noFill/>
          <a:ln w="1260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430200">
            <a:off x="1742760" y="4601880"/>
            <a:ext cx="1566720" cy="2100240"/>
          </a:xfrm>
          <a:custGeom>
            <a:avLst/>
            <a:gdLst/>
            <a:ahLst/>
            <a:rect l="l" t="t" r="r" b="b"/>
            <a:pathLst>
              <a:path w="987" h="1323">
                <a:moveTo>
                  <a:pt x="174" y="482"/>
                </a:moveTo>
                <a:cubicBezTo>
                  <a:pt x="151" y="471"/>
                  <a:pt x="66" y="451"/>
                  <a:pt x="39" y="415"/>
                </a:cubicBezTo>
                <a:cubicBezTo>
                  <a:pt x="12" y="379"/>
                  <a:pt x="0" y="320"/>
                  <a:pt x="11" y="266"/>
                </a:cubicBezTo>
                <a:cubicBezTo>
                  <a:pt x="22" y="212"/>
                  <a:pt x="46" y="133"/>
                  <a:pt x="106" y="89"/>
                </a:cubicBezTo>
                <a:cubicBezTo>
                  <a:pt x="166" y="45"/>
                  <a:pt x="274" y="0"/>
                  <a:pt x="371" y="1"/>
                </a:cubicBezTo>
                <a:cubicBezTo>
                  <a:pt x="468" y="2"/>
                  <a:pt x="598" y="34"/>
                  <a:pt x="689" y="96"/>
                </a:cubicBezTo>
                <a:cubicBezTo>
                  <a:pt x="780" y="158"/>
                  <a:pt x="871" y="254"/>
                  <a:pt x="919" y="374"/>
                </a:cubicBezTo>
                <a:cubicBezTo>
                  <a:pt x="967" y="494"/>
                  <a:pt x="987" y="686"/>
                  <a:pt x="974" y="815"/>
                </a:cubicBezTo>
                <a:cubicBezTo>
                  <a:pt x="961" y="944"/>
                  <a:pt x="892" y="1062"/>
                  <a:pt x="838" y="1147"/>
                </a:cubicBezTo>
                <a:cubicBezTo>
                  <a:pt x="784" y="1232"/>
                  <a:pt x="688" y="1286"/>
                  <a:pt x="648" y="1323"/>
                </a:cubicBezTo>
              </a:path>
            </a:pathLst>
          </a:custGeom>
          <a:noFill/>
          <a:ln w="1260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7075200">
            <a:off x="1310760" y="4384440"/>
            <a:ext cx="1567080" cy="2100240"/>
          </a:xfrm>
          <a:custGeom>
            <a:avLst/>
            <a:gdLst/>
            <a:ahLst/>
            <a:rect l="l" t="t" r="r" b="b"/>
            <a:pathLst>
              <a:path w="987" h="1323">
                <a:moveTo>
                  <a:pt x="174" y="482"/>
                </a:moveTo>
                <a:cubicBezTo>
                  <a:pt x="151" y="471"/>
                  <a:pt x="66" y="451"/>
                  <a:pt x="39" y="415"/>
                </a:cubicBezTo>
                <a:cubicBezTo>
                  <a:pt x="12" y="379"/>
                  <a:pt x="0" y="320"/>
                  <a:pt x="11" y="266"/>
                </a:cubicBezTo>
                <a:cubicBezTo>
                  <a:pt x="22" y="212"/>
                  <a:pt x="46" y="133"/>
                  <a:pt x="106" y="89"/>
                </a:cubicBezTo>
                <a:cubicBezTo>
                  <a:pt x="166" y="45"/>
                  <a:pt x="274" y="0"/>
                  <a:pt x="371" y="1"/>
                </a:cubicBezTo>
                <a:cubicBezTo>
                  <a:pt x="468" y="2"/>
                  <a:pt x="598" y="34"/>
                  <a:pt x="689" y="96"/>
                </a:cubicBezTo>
                <a:cubicBezTo>
                  <a:pt x="780" y="158"/>
                  <a:pt x="871" y="254"/>
                  <a:pt x="919" y="374"/>
                </a:cubicBezTo>
                <a:cubicBezTo>
                  <a:pt x="967" y="494"/>
                  <a:pt x="987" y="686"/>
                  <a:pt x="974" y="815"/>
                </a:cubicBezTo>
                <a:cubicBezTo>
                  <a:pt x="961" y="944"/>
                  <a:pt x="892" y="1062"/>
                  <a:pt x="838" y="1147"/>
                </a:cubicBezTo>
                <a:cubicBezTo>
                  <a:pt x="784" y="1232"/>
                  <a:pt x="688" y="1286"/>
                  <a:pt x="648" y="1323"/>
                </a:cubicBezTo>
              </a:path>
            </a:pathLst>
          </a:custGeom>
          <a:noFill/>
          <a:ln w="1260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0311000">
            <a:off x="1260000" y="3932280"/>
            <a:ext cx="1567080" cy="2100240"/>
          </a:xfrm>
          <a:custGeom>
            <a:avLst/>
            <a:gdLst/>
            <a:ahLst/>
            <a:rect l="l" t="t" r="r" b="b"/>
            <a:pathLst>
              <a:path w="987" h="1323">
                <a:moveTo>
                  <a:pt x="174" y="482"/>
                </a:moveTo>
                <a:cubicBezTo>
                  <a:pt x="151" y="471"/>
                  <a:pt x="66" y="451"/>
                  <a:pt x="39" y="415"/>
                </a:cubicBezTo>
                <a:cubicBezTo>
                  <a:pt x="12" y="379"/>
                  <a:pt x="0" y="320"/>
                  <a:pt x="11" y="266"/>
                </a:cubicBezTo>
                <a:cubicBezTo>
                  <a:pt x="22" y="212"/>
                  <a:pt x="46" y="133"/>
                  <a:pt x="106" y="89"/>
                </a:cubicBezTo>
                <a:cubicBezTo>
                  <a:pt x="166" y="45"/>
                  <a:pt x="274" y="0"/>
                  <a:pt x="371" y="1"/>
                </a:cubicBezTo>
                <a:cubicBezTo>
                  <a:pt x="468" y="2"/>
                  <a:pt x="598" y="34"/>
                  <a:pt x="689" y="96"/>
                </a:cubicBezTo>
                <a:cubicBezTo>
                  <a:pt x="780" y="158"/>
                  <a:pt x="871" y="254"/>
                  <a:pt x="919" y="374"/>
                </a:cubicBezTo>
                <a:cubicBezTo>
                  <a:pt x="967" y="494"/>
                  <a:pt x="987" y="686"/>
                  <a:pt x="974" y="815"/>
                </a:cubicBezTo>
                <a:cubicBezTo>
                  <a:pt x="961" y="944"/>
                  <a:pt x="892" y="1062"/>
                  <a:pt x="838" y="1147"/>
                </a:cubicBezTo>
                <a:cubicBezTo>
                  <a:pt x="784" y="1232"/>
                  <a:pt x="688" y="1286"/>
                  <a:pt x="648" y="1323"/>
                </a:cubicBezTo>
              </a:path>
            </a:pathLst>
          </a:custGeom>
          <a:noFill/>
          <a:ln w="1260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4413200">
            <a:off x="1814040" y="3593160"/>
            <a:ext cx="1567080" cy="2100600"/>
          </a:xfrm>
          <a:custGeom>
            <a:avLst/>
            <a:gdLst/>
            <a:ahLst/>
            <a:rect l="l" t="t" r="r" b="b"/>
            <a:pathLst>
              <a:path w="987" h="1323">
                <a:moveTo>
                  <a:pt x="174" y="482"/>
                </a:moveTo>
                <a:cubicBezTo>
                  <a:pt x="151" y="471"/>
                  <a:pt x="66" y="451"/>
                  <a:pt x="39" y="415"/>
                </a:cubicBezTo>
                <a:cubicBezTo>
                  <a:pt x="12" y="379"/>
                  <a:pt x="0" y="320"/>
                  <a:pt x="11" y="266"/>
                </a:cubicBezTo>
                <a:cubicBezTo>
                  <a:pt x="22" y="212"/>
                  <a:pt x="46" y="133"/>
                  <a:pt x="106" y="89"/>
                </a:cubicBezTo>
                <a:cubicBezTo>
                  <a:pt x="166" y="45"/>
                  <a:pt x="274" y="0"/>
                  <a:pt x="371" y="1"/>
                </a:cubicBezTo>
                <a:cubicBezTo>
                  <a:pt x="468" y="2"/>
                  <a:pt x="598" y="34"/>
                  <a:pt x="689" y="96"/>
                </a:cubicBezTo>
                <a:cubicBezTo>
                  <a:pt x="780" y="158"/>
                  <a:pt x="871" y="254"/>
                  <a:pt x="919" y="374"/>
                </a:cubicBezTo>
                <a:cubicBezTo>
                  <a:pt x="967" y="494"/>
                  <a:pt x="987" y="686"/>
                  <a:pt x="974" y="815"/>
                </a:cubicBezTo>
                <a:cubicBezTo>
                  <a:pt x="961" y="944"/>
                  <a:pt x="892" y="1062"/>
                  <a:pt x="838" y="1147"/>
                </a:cubicBezTo>
                <a:cubicBezTo>
                  <a:pt x="784" y="1232"/>
                  <a:pt x="688" y="1286"/>
                  <a:pt x="648" y="1323"/>
                </a:cubicBezTo>
              </a:path>
            </a:pathLst>
          </a:custGeom>
          <a:noFill/>
          <a:ln w="1260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508464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1728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6633000" y="306036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Комплексные собствен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Фазовые портреты линейных 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09520" y="808200"/>
            <a:ext cx="6604200" cy="58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8:39:20Z</dcterms:created>
  <dc:creator>Rustam</dc:creator>
  <dc:description/>
  <dc:language>en-US</dc:language>
  <cp:lastModifiedBy>Victor</cp:lastModifiedBy>
  <dcterms:modified xsi:type="dcterms:W3CDTF">2008-12-07T03:39:04Z</dcterms:modified>
  <cp:revision>86</cp:revision>
  <dc:subject/>
  <dc:title>Слайд 1</dc:title>
</cp:coreProperties>
</file>