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F304-379C-420B-A885-796E3A2B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A61E-AEE1-4ED6-A92A-772D48BC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71D-8B8E-46E7-A3F2-E03AA760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3508-9528-4162-8078-B681863A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BC7D-1C78-4E6C-93DF-590398E6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56A-672C-4468-8726-080E7203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DDA-1532-46BA-921A-F63D9663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D4F7-44EF-4FA9-A320-3208C955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F561-5576-4034-854B-6C5B7132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A0F2-D22F-41A7-8919-1AF4B2FB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1BF6-D1E0-464E-B8E2-FF4C6C0A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2DD3-1F9A-4D03-AC4F-514E79D6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B26F-FF1B-4AC0-BD15-51E7F9F1F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Лекция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Анализ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Пример двухфакторн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686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верна гипотеза H0 о независимости ожидаемых откликов от уровней факторов, то нормированным числом степеней свободы компонент можно представить в вид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619280" y="1701720"/>
          <a:ext cx="540072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701720"/>
                    <a:ext cx="54007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68360" y="2565360"/>
            <a:ext cx="8496360" cy="30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бщая дисперсия откликов, по предположению 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исит от уровня факт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лучайная величина, распределенная по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распределению c M степенями своб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R нормированных компонент должно быть подчинено рапределению Фишера с параметром F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J-1,J(J-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указанием пары степеней свободы. Если R&gt;r(p), (r(p) выбрано в зависимости от доверительной вероятности p), то рассматриваемый фактор яв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мым. В противном случае верна гипотеза H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Пример двухфакторн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197000"/>
          <a:ext cx="82296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97000"/>
                    <a:ext cx="82296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Процедура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AN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3628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узи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va.gps, ctlanova.t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-&gt;Create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-&gt;Custom…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CLUDE   "CTLANOVA.TXT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-&gt;SHOW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ANOVA(RESULTS,2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им результат примене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VA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модели парикмахерской: параметр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ut_Ti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существенным. Знач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аздо лучше, ч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5.0 среднее время ожида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8.59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ри 6.7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5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Планирование экспери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712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уровней каждого фактора обычно ограничивают 2-мя. Тогда объём полного эксперимента с k  факторами составит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го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я планирования эксперимента рассматривает проблему построения наиболее экономичных планов, позволяя получить оценивающие коэффициенты. Рациональный план содержит значительно меньше экспериментов, чем полный факторный эксперимен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обный экперимент: каждый прогон кодируется последовательностью латинских букв, обоназчаемую принимаемых максимальные значения факторов. Компоненты, заведомо включенные в план, называются генератором экспери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: все факторы принимают максимальные значени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 = ABC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ем назначается дробность эксперимента m и выбирается m*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1 факторов и их комбинации, эффект которых по результатам статистической обработки нужно различ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k=5 и m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получается m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*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1=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, B, C, D, E, AB, AC, AD, AE, BC, BD, BE, CD, CE,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71640" y="4724280"/>
          <a:ext cx="7488000" cy="20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4724280"/>
                    <a:ext cx="7488000" cy="20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Планирование экспери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686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: CE*ABCDE=AB(C*C)D(E*E)=ABD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ABC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убрать несущественные факторы и получить тоже самое (A=BCDE)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ь 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5-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1=7   A, B, C, D, D, E, AD, 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=ABC, CDE, AB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=BC=ACDE=B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=AC=BCDE=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=AB=DE=ABC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=ABCD=CE=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=ABCE=CD=A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D=BCD=ACE=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E=BCE=ACD=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ьмая 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5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1=3: A, B,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=ABC, ADE, CD, BCDE, B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=BC=DE=ACD=ABCDE=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=AC=ABDE=BCD=CDE=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=AB=ACDE=D=BDE=AB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Эксперимент над моде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6868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узи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.gps,oneway.g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-&gt;Create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-&gt;CONDUC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BestLines(1,4,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им результат эксперимента: для нормальной работы телефонной системы с заданным потоком заявок достаточно 3 ли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1 линии получаем среднее время ожида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79.795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2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2.79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ля 3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31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ля 4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01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-&gt;Simulation Window-&gt;Matrix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осмотра матрицы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Модель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Ethernet 10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явки возникают с промежутками времени, имеющими экспоненциальное распределение со средним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Intermessage_Tim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общения двух типов: длинные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Max_Ms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короткие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Min_Ms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оля коротких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Fraction_Short_Msg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общение передается со случайного узла из общего числа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Node_Coun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я необходимое для передачи вычисляется по форму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.0001#(Min_Msg+(RN1'G'Fraction_Short_Msgs)#(Max_Msg-Min_Ms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узел занят одним сообщением на время пока оно не будет передано или после нескольких коллизий объявлено об ошибке после этого узел освобожд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бщения – транзакты, узлы – устрой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Скрининг-экспери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3628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узи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Ether.g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-&gt;Insert Experiment-&gt;Screen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– Node_Co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- Min_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Max_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– Fraction_Short_Ms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ntermessage_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-&gt;Create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-&gt;CONDUCT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F1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ONDUCT SCREENETHERNE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показали: главные фактор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Оптимизирующий экспери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3628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рузи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Ether.g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-&gt;Insert Experiment-&gt;Optimiz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– Node_Cou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- Min_M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x_M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– Fraction_Short_Ms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ntermessage_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-&gt;Create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-&gt;CONDUCT…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F12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ONDU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S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показали: главные факто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Эксперименты над мод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774720"/>
            <a:ext cx="850752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роцессе имитационного эксперимента над моделью с учетом случайных исходов для каждого прогона нуж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ассифицировать факторы на существенные и несущ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делить и оценить количественное влияние факторов и их комбинаций на целевую функ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ти комбинации фак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этого существуют различного рода способ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сперсионный анал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грессионный и факторный анал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оды статистической оптим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18720"/>
            <a:ext cx="85075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ксперимент начинается с выбора одной или более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целевых функц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которые количественно оценивают полезность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Наблюд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измерение значений целевой функции, а всё их множество –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результ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ая задача – изучение влияния факторов на результат каждого повторного регулирования –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рого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заимодействие факто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влияние некоторых факторов зависимы от значения другого и не сводится к сумме влия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Репл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прогон, условия которого неизмен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Проверка гипот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071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дура статистической провер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инается с формулировки нулевой гипотез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нет статистически значимого различия) и альтернативной (конкурирующей) гипотез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меет место значимые различия). Затем проводится провер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сительн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 проверки – вывод о том, в скольких случаях на каждые 100 проведенных испытаний в предположении определенной гипотезы отклонение от модели можно считать случай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ы два рода ошиб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ошибка первого рода (отклонена истинная гипоте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ошибка второго рода (принята ложная гипоте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Общая метод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6868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истическая величина лежит в доверительном интервале от t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t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означает, что P(t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≤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≤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Также обозначается p=1-a, где (1-a) - коэффициент доверия, a - уровень значимости, выполняется в  (1-a) случа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роверки гипотез выборочно пространство W разделяют на две области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W-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зываемых критической и областью прин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известно распределение вероятностей, соответствующее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можно определить так, чтобы при выполнении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роятность отвергнуть эту гипотезу была равна уровню значим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{x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|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 = 1-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верительный уровень p=1-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щность критерия определяется как вероятность того, что критерий отклонит ложную нулевую гипоте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{x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W -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|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 = 1-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е 1-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мощность критер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Общая метод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6868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ировки результатов применения критер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0,05 - различия недостоверны, нулевая гипотеза об отсутствии различий может быть приня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 &lt; 0,01 - различия достоверны на уровне значимости 0,0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 &lt; 0,01 - различия достоверны на уровне значимости 0,0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 &lt; 0,005 - различия достоверны на уровне значимости 0,00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 &lt; 0,001 - различия достоверны на уровне значимости 0,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быть принята альтернативная гипотеза о наличии различий на указанном уровне знач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Проверка признака нормального рас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6868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статистические методы требуют соответствия нормальному распределению, поэтому предварительно нужно проверить данные на нормальное распределение. Существует три подх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о 3-х сиг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нормальном распределении 97,7% всех значений признака попадают в интерва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терий Колмогорова-Смирно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пирическая функция рас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етическая функция рас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568520" y="4836960"/>
                <a:ext cx="31338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</m:e>
                      <m:lim>
                        <m:r>
                          <m:t xml:space="preserve">x</m:t>
                        </m:r>
                      </m:lim>
                    </m:limLow>
                    <m:r>
                      <m:t xml:space="preserve">|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Дисперсионный ана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6868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большинству сложных систем применим принцип Парето, согласно которому 20% факторов определяют свойства системы на 8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ому первоочередной задачей исследования имитационн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ется отсев несущественных факторов, позволяющих оптимизирова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у исходной мод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ализ дисперс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Analysis of Variation -- ANOVA) оценивает отклонение наблюдений от общего среднего. Затем вариация разбивается на две части, каждая из которых имеет свою причину. Остаточная часть вариации (res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l), которую не удается связа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словиями считается его слуайной ошибкой. Ошибка оценивается в средне-квадратическом отклонении, т.е. эффекты, которые превышают величину среднего-квадратич. отклонения  считаются значимыми. Для значимости используется тест «F-статистика» (Критерий Фише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у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офакторн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one-way)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гофактор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multi-way) дисперсионный анал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Пример двухфакторн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74560" y="1413000"/>
          <a:ext cx="79948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560" y="1413000"/>
                    <a:ext cx="79948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68360" y="5877000"/>
            <a:ext cx="828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правка на число связей позволяет получить несмещенную оценку С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отсутствии других эфф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8:06:36Z</dcterms:created>
  <dc:creator>Rustam</dc:creator>
  <dc:description/>
  <dc:language>en-US</dc:language>
  <cp:lastModifiedBy>Victor</cp:lastModifiedBy>
  <dcterms:modified xsi:type="dcterms:W3CDTF">2008-10-13T03:37:03Z</dcterms:modified>
  <cp:revision>41</cp:revision>
  <dc:subject/>
  <dc:title>Моделирование</dc:title>
</cp:coreProperties>
</file>