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D0B-E91B-4FB2-B076-39A40077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D74-B586-4886-985F-BDC1B777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7D4-7C32-4FB9-997F-F8CE2AC3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5BD-001A-415C-9412-5FDE3C93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2FB-ED9C-4717-A1ED-705B6163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C25-C6E1-4155-A070-3F85D37C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78D-4976-4235-8439-A8EBF96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6BA-B769-470B-AE0B-EB9D937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590-A223-47FA-A705-720374F7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EA7-FDA3-4119-8F7B-484F449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0A6-241B-4047-806C-9EF1CF4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619-91E5-47C2-97C8-DC51B6AF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DD7C-7D9E-4D39-848F-9DE5515E8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Лекция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Примеры С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 для вероятности состояний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канальной СМО с ожиданием, оконча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т следующий 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роятность отк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носительная пропускная способ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бсолютная пропускная способ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е число заявок находящееся в очере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00720" y="692280"/>
                <a:ext cx="18194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ρ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00360" y="2781360"/>
                <a:ext cx="31687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219640" y="3686040"/>
                <a:ext cx="2935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32360" y="4508640"/>
                <a:ext cx="180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50920" y="5564160"/>
                <a:ext cx="48258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46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4920" y="6129360"/>
                <a:ext cx="9036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ρ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m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оканальная СМО – АТС с 6 буферными каналами. Пришедший вызов, помещается с один из буферных каналов. Когда единственная линия освобождается, то вызов из буферного канала поступает на линию. Если все буферные каналы заняты, то вызов не обслуживается. Интенсивность потока вызовов λ=0,8 выз/мин. Среднее время обслуживание вызо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н. Найти абсолютную (А) и относительну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опускные способности, и вероятность отказ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71640" y="2951280"/>
                <a:ext cx="208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,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71640" y="4581360"/>
                <a:ext cx="2305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00000" y="5229360"/>
                <a:ext cx="3168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900000" y="3726000"/>
                <a:ext cx="3541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ероятностью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одна заявка, с вероятностью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две заявки, с вероятностью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(k-1) зая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е число заявок связанных с сист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т. ожидание дискретной случайной величины числа зая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627280" y="1341360"/>
                <a:ext cx="3529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ρ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21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484360" y="2133720"/>
                <a:ext cx="518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ρ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mρ</m:t>
                            </m:r>
                          </m:e>
                        </m:d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796000" y="3068640"/>
                <a:ext cx="1224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55640" y="3500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79640" y="3884760"/>
                <a:ext cx="1692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47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908000" y="5170320"/>
                <a:ext cx="30592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519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908000" y="5965920"/>
                <a:ext cx="6264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ρ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дем выражение дл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го  времени ожидания заявки в очере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заявка приходит в систему в какой–то момент времени, с вероятн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 не будет занят, и заявка не будет стоять в очереди. С вероятн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явка придёт в систему в момент обслуживания какой-то заявки, но очереди не будет. Тогда она будет ожидать обслуживания в среднем 1/μ времен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оятн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ещё одна заявка, соответственно  время ожидания будет 2/μ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оятн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ещё одна, соответственно  время ожидания буд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μ .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1 в очереди буд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явок, следовательно время ожидания новой заявки будет равно 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8000" y="4221000"/>
                <a:ext cx="896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βμ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kρ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m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ρ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49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26920" y="5070600"/>
                <a:ext cx="4969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ρ</m:t>
                                </m:r>
                              </m:e>
                            </m:d>
                          </m:num>
                          <m:den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ρμ</m:t>
                            </m:r>
                          </m:den>
                        </m:f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ормул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иттл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е время пребывания заявки в сис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 – время ожидания заявки в 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Θ – случайная величина, равная времени обслуживания заявки, если заявка обслуживается, и 0 если не обслуживаетс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124000" y="1125360"/>
                <a:ext cx="3313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с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М</m:t>
                    </m:r>
                    <m:r>
                      <m:t xml:space="preserve">[</m:t>
                    </m:r>
                    <m:r>
                      <m:t xml:space="preserve">Θ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79640" y="2924280"/>
                <a:ext cx="252108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М</m:t>
                        </m:r>
                        <m:r>
                          <m:t xml:space="preserve">[</m:t>
                        </m:r>
                        <m:r>
                          <m:t xml:space="preserve">Θ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б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050920" y="465300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т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т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ρ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ые СМО с ожиданием и неограниченной очередью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m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&gt;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СМ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1/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возможных состояний системы бесконе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оятности состояний СМО с неограниченной очередью, получим путём предельного перехода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&gt;∞ из формулы (5). Знаменатель формул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ет собой сумму бесконечного числа членов арифметической прогрессии. Эта сумма сходится, только тогда когда прогрессия бесконечно убывающая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условие при котором СМО с неограниченной  очередью существует предельный установившийся режим. Если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интенсивность заявок больше чем скорость обслуживания и очередь будет расти и система будет неэффективна. Предположим, что условие выполнено, предельный режим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58920" y="1557360"/>
            <a:ext cx="7165800" cy="1727280"/>
            <a:chOff x="1258920" y="1557360"/>
            <a:chExt cx="7165800" cy="1727280"/>
          </a:xfrm>
        </p:grpSpPr>
        <p:sp>
          <p:nvSpPr>
            <p:cNvPr id="271" name=""/>
            <p:cNvSpPr/>
            <p:nvPr/>
          </p:nvSpPr>
          <p:spPr>
            <a:xfrm>
              <a:off x="1258920" y="1557360"/>
              <a:ext cx="7165800" cy="17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30880" y="2251800"/>
              <a:ext cx="45900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19520" y="2251800"/>
              <a:ext cx="45900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35240" y="2251800"/>
              <a:ext cx="45900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0760" y="2251800"/>
              <a:ext cx="45900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71360" y="2142360"/>
              <a:ext cx="983520" cy="11808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91040" y="2164320"/>
              <a:ext cx="983880" cy="1177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2014920" y="2679840"/>
              <a:ext cx="983520" cy="11808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3138840" y="2635200"/>
              <a:ext cx="983520" cy="1177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15400" y="2631600"/>
              <a:ext cx="35388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89320" y="2631600"/>
              <a:ext cx="34056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297760" y="2141640"/>
              <a:ext cx="387000" cy="21852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 rot="19099200">
              <a:off x="4437360" y="2136960"/>
              <a:ext cx="35388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 rot="19099200">
              <a:off x="6033240" y="2136960"/>
              <a:ext cx="35388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9099200">
              <a:off x="5333400" y="2574360"/>
              <a:ext cx="35388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95000" y="184968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45280" y="184068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93640" y="189756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90680" y="282780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84080" y="278388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58080" y="278388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38520" y="277092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1880" y="286272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6600" y="188244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3560" y="182988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932360" y="4797360"/>
                <a:ext cx="576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067280" y="5407200"/>
                <a:ext cx="5760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ые СМО с ожиданием и неограниченной очередью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m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&gt;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84360" y="1052640"/>
                <a:ext cx="4087800" cy="56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ρ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</m:eqAr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q</m:t>
                    </m:r>
                    <m:r>
                      <m:t xml:space="preserve">=</m:t>
                    </m:r>
                    <m:r>
                      <m:t xml:space="preserve">λ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с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канальную СМО с ожиданием поступает поток заявок интенсив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нсивность потока обслуживания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. Число мест в очеред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систем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состояние так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 каналы свобод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 один кан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, остальные свобод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кана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каналы и одна заявка стоит в очере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ы все каналы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явок в очере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ы все каналы и  нет мест в очеред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79280" y="4724280"/>
            <a:ext cx="8713800" cy="1695240"/>
            <a:chOff x="179280" y="4724280"/>
            <a:chExt cx="8713800" cy="1695240"/>
          </a:xfrm>
        </p:grpSpPr>
        <p:sp>
          <p:nvSpPr>
            <p:cNvPr id="322" name=""/>
            <p:cNvSpPr/>
            <p:nvPr/>
          </p:nvSpPr>
          <p:spPr>
            <a:xfrm>
              <a:off x="179280" y="5336640"/>
              <a:ext cx="5677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3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21680" y="5311800"/>
              <a:ext cx="5677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63400" y="5311800"/>
              <a:ext cx="5677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21160" y="5279760"/>
              <a:ext cx="80928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10872600">
              <a:off x="393480" y="5082840"/>
              <a:ext cx="1331280" cy="60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0727400">
              <a:off x="393480" y="5503680"/>
              <a:ext cx="1331280" cy="60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 rot="10872600">
              <a:off x="1806840" y="5077080"/>
              <a:ext cx="1330200" cy="60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0727400">
              <a:off x="1806840" y="549648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81280" y="472428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80920" y="480348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800" y="607392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01800" y="6036840"/>
              <a:ext cx="5292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609200" y="5051160"/>
              <a:ext cx="1342800" cy="1051200"/>
              <a:chOff x="1609200" y="5051160"/>
              <a:chExt cx="1342800" cy="1051200"/>
            </a:xfrm>
          </p:grpSpPr>
          <p:sp>
            <p:nvSpPr>
              <p:cNvPr id="335" name=""/>
              <p:cNvSpPr/>
              <p:nvPr/>
            </p:nvSpPr>
            <p:spPr>
              <a:xfrm flipH="1" rot="10872600">
                <a:off x="1615320" y="5482800"/>
                <a:ext cx="1330200" cy="60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 rot="10727400">
                <a:off x="1615320" y="506520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2643480" y="484596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48880" y="5904360"/>
              <a:ext cx="528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25680" y="5299200"/>
              <a:ext cx="5713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 rot="10872600">
              <a:off x="3210840" y="5064840"/>
              <a:ext cx="1330200" cy="60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84920" y="476640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81880" y="602460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k+1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013560" y="5038560"/>
              <a:ext cx="1342800" cy="1050480"/>
              <a:chOff x="3013560" y="5038560"/>
              <a:chExt cx="1342800" cy="1050480"/>
            </a:xfrm>
          </p:grpSpPr>
          <p:sp>
            <p:nvSpPr>
              <p:cNvPr id="344" name=""/>
              <p:cNvSpPr/>
              <p:nvPr/>
            </p:nvSpPr>
            <p:spPr>
              <a:xfrm flipH="1" rot="10872600">
                <a:off x="3018960" y="547020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 rot="10727400">
                <a:off x="3019680" y="505260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4047480" y="483336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52880" y="5892120"/>
              <a:ext cx="5292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727400">
              <a:off x="3186360" y="551592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10872600">
              <a:off x="4547880" y="5040000"/>
              <a:ext cx="1330200" cy="60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4345200" y="5029200"/>
              <a:ext cx="1342800" cy="1051200"/>
              <a:chOff x="4345200" y="5029200"/>
              <a:chExt cx="1342800" cy="1051200"/>
            </a:xfrm>
          </p:grpSpPr>
          <p:sp>
            <p:nvSpPr>
              <p:cNvPr id="351" name=""/>
              <p:cNvSpPr/>
              <p:nvPr/>
            </p:nvSpPr>
            <p:spPr>
              <a:xfrm flipH="1" rot="10872600">
                <a:off x="4351320" y="5460840"/>
                <a:ext cx="1330200" cy="60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 rot="10727400">
                <a:off x="4351320" y="504324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10727400">
              <a:off x="4523400" y="549108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45600" y="5274720"/>
              <a:ext cx="80964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+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10872600">
              <a:off x="5872680" y="503532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589000" y="5008680"/>
              <a:ext cx="1342800" cy="1050480"/>
              <a:chOff x="5589000" y="5008680"/>
              <a:chExt cx="1342800" cy="1050480"/>
            </a:xfrm>
          </p:grpSpPr>
          <p:sp>
            <p:nvSpPr>
              <p:cNvPr id="357" name=""/>
              <p:cNvSpPr/>
              <p:nvPr/>
            </p:nvSpPr>
            <p:spPr>
              <a:xfrm flipH="1" rot="10872600">
                <a:off x="5594400" y="544032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 rot="10727400">
                <a:off x="5595120" y="502272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rot="10727400">
              <a:off x="5847840" y="545940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5680" y="5274720"/>
              <a:ext cx="8395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+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0872600">
              <a:off x="7232760" y="503532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959520" y="5013000"/>
              <a:ext cx="1342800" cy="1050480"/>
              <a:chOff x="6959520" y="5013000"/>
              <a:chExt cx="1342800" cy="1050480"/>
            </a:xfrm>
          </p:grpSpPr>
          <p:sp>
            <p:nvSpPr>
              <p:cNvPr id="363" name=""/>
              <p:cNvSpPr/>
              <p:nvPr/>
            </p:nvSpPr>
            <p:spPr>
              <a:xfrm flipH="1" rot="10872600">
                <a:off x="6964920" y="544464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 rot="10727400">
                <a:off x="6965640" y="502704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rot="10727400">
              <a:off x="7207920" y="545940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20080" y="582876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42120" y="587124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4160" y="587124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81600" y="585540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1600" y="584460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80280" y="590796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5680" y="486000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72840" y="472788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92040" y="486000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85400" y="474336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09640" y="492372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71320" y="481788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050920" y="620640"/>
                <a:ext cx="5324760" cy="619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⋅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</m:eqArr>
                      </m:e>
                    </m:eqAr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m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ρ</m:t>
                                        </m:r>
                                        <m:r>
                                          <m:t xml:space="preserve">n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ели эфф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е число заявок в очереди. Вычисляется как мат. ожидание дискретной случайной вели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3691080" y="620640"/>
                <a:ext cx="24127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768840" y="1143000"/>
                <a:ext cx="3981240" cy="21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тказ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λq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няты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налов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08000" y="3789360"/>
                <a:ext cx="9036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1042920" y="4137840"/>
            <a:ext cx="720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æ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619280" y="4292640"/>
                <a:ext cx="417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187280" y="4869000"/>
                <a:ext cx="1152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2305440" y="5034960"/>
            <a:ext cx="26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2æ+3æ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…+mæ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m-1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187280" y="5516640"/>
                <a:ext cx="1224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378520" y="5733720"/>
            <a:ext cx="29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 1-2æ+3æ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…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æ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/(1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æ)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122480" y="6237360"/>
                <a:ext cx="1714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ые СМО с отказам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О состоит из одного канала, на который поступает пуассоновский поток заявок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явка, заставшая канал  занятым, получает отказ и покидает систе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служивание заявки продолжается  в течение случайного времен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спределённого по закону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(2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п такой системы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/М/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Рассмотрим 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е сист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748040" y="1052640"/>
                <a:ext cx="1265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84720" y="2492280"/>
                <a:ext cx="1764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" name=""/>
          <p:cNvGrpSpPr/>
          <p:nvPr/>
        </p:nvGrpSpPr>
        <p:grpSpPr>
          <a:xfrm>
            <a:off x="468360" y="3338280"/>
            <a:ext cx="2903040" cy="1079640"/>
            <a:chOff x="468360" y="3338280"/>
            <a:chExt cx="2903040" cy="1079640"/>
          </a:xfrm>
        </p:grpSpPr>
        <p:grpSp>
          <p:nvGrpSpPr>
            <p:cNvPr id="50" name=""/>
            <p:cNvGrpSpPr/>
            <p:nvPr/>
          </p:nvGrpSpPr>
          <p:grpSpPr>
            <a:xfrm>
              <a:off x="468360" y="3338280"/>
              <a:ext cx="2629080" cy="1079640"/>
              <a:chOff x="468360" y="3338280"/>
              <a:chExt cx="2629080" cy="1079640"/>
            </a:xfrm>
          </p:grpSpPr>
          <p:sp>
            <p:nvSpPr>
              <p:cNvPr id="51" name=""/>
              <p:cNvSpPr/>
              <p:nvPr/>
            </p:nvSpPr>
            <p:spPr>
              <a:xfrm>
                <a:off x="468360" y="3678120"/>
                <a:ext cx="571320" cy="50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535480" y="3634560"/>
                <a:ext cx="561960" cy="42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82480" y="3779640"/>
                <a:ext cx="342720" cy="28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640240" y="3678120"/>
                <a:ext cx="342720" cy="20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39680" y="3788280"/>
                <a:ext cx="15044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039320" y="3968280"/>
                <a:ext cx="15044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87640" y="4148280"/>
                <a:ext cx="28584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58440" y="3518280"/>
                <a:ext cx="3175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8800" y="3338280"/>
                <a:ext cx="571320" cy="21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754360" y="3373200"/>
              <a:ext cx="61704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924360" y="3357720"/>
                <a:ext cx="209232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012000" y="3116160"/>
                <a:ext cx="295272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9280" y="5013360"/>
                <a:ext cx="334980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500720" y="4508640"/>
            <a:ext cx="4463640" cy="2276280"/>
            <a:chOff x="4500720" y="4508640"/>
            <a:chExt cx="4463640" cy="2276280"/>
          </a:xfrm>
        </p:grpSpPr>
        <p:sp>
          <p:nvSpPr>
            <p:cNvPr id="70" name=""/>
            <p:cNvSpPr/>
            <p:nvPr/>
          </p:nvSpPr>
          <p:spPr>
            <a:xfrm>
              <a:off x="4626360" y="4508640"/>
              <a:ext cx="4338000" cy="22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01760" y="4856040"/>
              <a:ext cx="13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61720" y="4560840"/>
              <a:ext cx="28440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039280" y="4682160"/>
              <a:ext cx="2160" cy="19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41440" y="6616800"/>
              <a:ext cx="29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41440" y="5029920"/>
              <a:ext cx="29386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41440" y="6419880"/>
              <a:ext cx="29386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41440" y="5029920"/>
              <a:ext cx="2798640" cy="1563480"/>
            </a:xfrm>
            <a:custGeom>
              <a:avLst/>
              <a:gdLst/>
              <a:ahLst/>
              <a:rect l="l" t="t" r="r" b="b"/>
              <a:pathLst>
                <a:path w="3600" h="1980">
                  <a:moveTo>
                    <a:pt x="0" y="1980"/>
                  </a:moveTo>
                  <a:cubicBezTo>
                    <a:pt x="330" y="1425"/>
                    <a:pt x="660" y="870"/>
                    <a:pt x="1260" y="540"/>
                  </a:cubicBezTo>
                  <a:cubicBezTo>
                    <a:pt x="1860" y="210"/>
                    <a:pt x="3180" y="60"/>
                    <a:pt x="36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041440" y="4856040"/>
              <a:ext cx="2798640" cy="1563840"/>
            </a:xfrm>
            <a:custGeom>
              <a:avLst/>
              <a:gdLst/>
              <a:ahLst/>
              <a:rect l="l" t="t" r="r" b="b"/>
              <a:pathLst>
                <a:path w="3600" h="1980">
                  <a:moveTo>
                    <a:pt x="0" y="1980"/>
                  </a:moveTo>
                  <a:cubicBezTo>
                    <a:pt x="330" y="1425"/>
                    <a:pt x="660" y="870"/>
                    <a:pt x="1260" y="540"/>
                  </a:cubicBezTo>
                  <a:cubicBezTo>
                    <a:pt x="1860" y="210"/>
                    <a:pt x="3180" y="60"/>
                    <a:pt x="36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05040" y="4777920"/>
              <a:ext cx="538560" cy="52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00720" y="6188040"/>
              <a:ext cx="538560" cy="52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284720" y="6021360"/>
                <a:ext cx="649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356000" y="479736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Й СМЫСЛ: Средние время ожидания заявки в очереди. Если  заявка застанет не все каналы занятыми, ей ждать не придётся. Если заявка приходит в момент, когда заняты в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, но очереди нет, то ей придётся ждать в средне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заявка застанет все каналы занятыми и одну заявку в очереди ей придется ждать        . Если в очереди стои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явок, то врем ожидания заявк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время пребывания заявки в систем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12000" y="1557360"/>
                <a:ext cx="504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n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187280" y="2205000"/>
                <a:ext cx="503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754280" y="2565360"/>
                <a:ext cx="51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39640" y="3060720"/>
                <a:ext cx="748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nμ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μ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nμ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μ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42880" y="3789360"/>
                <a:ext cx="1360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ρ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49360" y="5084640"/>
                <a:ext cx="4589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μ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АППА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КАППА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КАППА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902200" y="5373720"/>
                <a:ext cx="18766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т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т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неограниченной очередь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такой систе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ρ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 1 - условие существования предельного режима в многоканальной СМО с неограниченной очеред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771640" y="692280"/>
            <a:ext cx="6265800" cy="1460160"/>
            <a:chOff x="2771640" y="692280"/>
            <a:chExt cx="6265800" cy="1460160"/>
          </a:xfrm>
        </p:grpSpPr>
        <p:grpSp>
          <p:nvGrpSpPr>
            <p:cNvPr id="447" name=""/>
            <p:cNvGrpSpPr/>
            <p:nvPr/>
          </p:nvGrpSpPr>
          <p:grpSpPr>
            <a:xfrm>
              <a:off x="7341120" y="936720"/>
              <a:ext cx="1156680" cy="905760"/>
              <a:chOff x="7341120" y="936720"/>
              <a:chExt cx="1156680" cy="905760"/>
            </a:xfrm>
          </p:grpSpPr>
          <p:sp>
            <p:nvSpPr>
              <p:cNvPr id="448" name=""/>
              <p:cNvSpPr/>
              <p:nvPr/>
            </p:nvSpPr>
            <p:spPr>
              <a:xfrm flipH="1" rot="10872600">
                <a:off x="7346520" y="1309680"/>
                <a:ext cx="1145520" cy="52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 rot="10727400">
                <a:off x="7346880" y="947880"/>
                <a:ext cx="114552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2771640" y="692280"/>
              <a:ext cx="6265800" cy="1460160"/>
              <a:chOff x="2771640" y="692280"/>
              <a:chExt cx="6265800" cy="1460160"/>
            </a:xfrm>
          </p:grpSpPr>
          <p:sp>
            <p:nvSpPr>
              <p:cNvPr id="451" name=""/>
              <p:cNvSpPr/>
              <p:nvPr/>
            </p:nvSpPr>
            <p:spPr>
              <a:xfrm>
                <a:off x="2771640" y="1219320"/>
                <a:ext cx="48888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3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46840" y="1198080"/>
                <a:ext cx="48888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77200" y="1198080"/>
                <a:ext cx="48888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199640" y="1170720"/>
                <a:ext cx="69732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n+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 rot="10872600">
                <a:off x="2867040" y="1001160"/>
                <a:ext cx="1146240" cy="51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8" y="7969"/>
                    </a:moveTo>
                    <a:arcTo wR="10800" hR="10800" stAng="-9888300" swAng="95062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8" y="7969"/>
                    </a:moveTo>
                    <a:arcTo wR="10800" hR="10800" stAng="-9888300" swAng="95062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0727400">
                <a:off x="2956680" y="1362960"/>
                <a:ext cx="114624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8" y="7969"/>
                    </a:moveTo>
                    <a:arcTo wR="10800" hR="10800" stAng="-9888300" swAng="95062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8" y="7969"/>
                    </a:moveTo>
                    <a:arcTo wR="10800" hR="10800" stAng="-9888300" swAng="95062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 rot="10872600">
                <a:off x="4084200" y="996120"/>
                <a:ext cx="114552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0727400">
                <a:off x="4173840" y="1356480"/>
                <a:ext cx="1145520" cy="52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76080" y="69228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061160" y="76068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339360" y="1854720"/>
                <a:ext cx="3402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169160" y="182304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2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913920" y="973080"/>
                <a:ext cx="1156680" cy="905760"/>
                <a:chOff x="3913920" y="973080"/>
                <a:chExt cx="1156680" cy="905760"/>
              </a:xfrm>
            </p:grpSpPr>
            <p:sp>
              <p:nvSpPr>
                <p:cNvPr id="464" name=""/>
                <p:cNvSpPr/>
                <p:nvPr/>
              </p:nvSpPr>
              <p:spPr>
                <a:xfrm flipH="1" rot="10872600">
                  <a:off x="3919320" y="1346040"/>
                  <a:ext cx="1145520" cy="520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04" y="550"/>
                      </a:moveTo>
                      <a:arcTo wR="10800" hR="10800" stAng="-4297801" swAng="39157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04" y="550"/>
                      </a:moveTo>
                      <a:arcTo wR="10800" hR="10800" stAng="-4297801" swAng="391578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 rot="10727400">
                  <a:off x="3919680" y="984240"/>
                  <a:ext cx="1145520" cy="52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0" y="576"/>
                      </a:moveTo>
                      <a:arcTo wR="10800" hR="10800" stAng="-4272242" swAng="38902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0" y="576"/>
                      </a:moveTo>
                      <a:arcTo wR="10800" hR="10800" stAng="-4272242" swAng="389022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4893840" y="79704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98160" y="170892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256440" y="1187640"/>
                <a:ext cx="49176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0872600">
                <a:off x="5293440" y="985320"/>
                <a:ext cx="114552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60040" y="728640"/>
                <a:ext cx="3402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85440" y="1812240"/>
                <a:ext cx="75168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k+1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5123160" y="962640"/>
                <a:ext cx="1156680" cy="905760"/>
                <a:chOff x="5123160" y="962640"/>
                <a:chExt cx="1156680" cy="905760"/>
              </a:xfrm>
            </p:grpSpPr>
            <p:sp>
              <p:nvSpPr>
                <p:cNvPr id="473" name=""/>
                <p:cNvSpPr/>
                <p:nvPr/>
              </p:nvSpPr>
              <p:spPr>
                <a:xfrm flipH="1" rot="10872600">
                  <a:off x="5128560" y="1335600"/>
                  <a:ext cx="1145520" cy="520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04" y="550"/>
                      </a:moveTo>
                      <a:arcTo wR="10800" hR="10800" stAng="-4297801" swAng="39157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04" y="550"/>
                      </a:moveTo>
                      <a:arcTo wR="10800" hR="10800" stAng="-4297801" swAng="391578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 rot="10727400">
                  <a:off x="5128920" y="973800"/>
                  <a:ext cx="1145520" cy="52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0" y="576"/>
                      </a:moveTo>
                      <a:arcTo wR="10800" hR="10800" stAng="-4272242" swAng="38902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0" y="576"/>
                      </a:moveTo>
                      <a:arcTo wR="10800" hR="10800" stAng="-4272242" swAng="389022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6102720" y="78624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107400" y="169848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0727400">
                <a:off x="5361840" y="1373400"/>
                <a:ext cx="1145520" cy="52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 rot="10872600">
                <a:off x="6535440" y="979560"/>
                <a:ext cx="839160" cy="5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" y="7821"/>
                    </a:moveTo>
                    <a:arcTo wR="10800" hR="10800" stAng="-9839148" swAng="94571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" y="7821"/>
                    </a:moveTo>
                    <a:arcTo wR="10800" hR="10800" stAng="-9839148" swAng="945713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0727400">
                <a:off x="6513480" y="1353960"/>
                <a:ext cx="90900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" y="9292"/>
                    </a:moveTo>
                    <a:arcTo wR="10800" hR="10800" stAng="-10318273" swAng="99362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" y="9292"/>
                    </a:moveTo>
                    <a:arcTo wR="10800" hR="10800" stAng="-10318273" swAng="993625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340480" y="1166400"/>
                <a:ext cx="69696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n+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 rot="10872600">
                <a:off x="7585920" y="959760"/>
                <a:ext cx="114552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0727400">
                <a:off x="7564680" y="1324800"/>
                <a:ext cx="1145520" cy="52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517800" y="1731960"/>
                <a:ext cx="4554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64720" y="1745280"/>
                <a:ext cx="4554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597800" y="177264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304120" y="162252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58480" y="70560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87400" y="75600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561440" y="77868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222040" y="742320"/>
                <a:ext cx="3402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708360" y="2565360"/>
                <a:ext cx="37450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3801960" y="3213000"/>
                <a:ext cx="1654200" cy="36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неограниченной очередь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отк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=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λq=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3273480" y="2351160"/>
                <a:ext cx="23810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κ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16360" y="3716280"/>
                <a:ext cx="2376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083040" y="4888080"/>
                <a:ext cx="38764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μ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κ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633760" y="5905440"/>
                <a:ext cx="4314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с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СМО с нетерпеливыми заяв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ют такие системы, в которых заявка, подождав некоторое время может  уйти из очереди, это так называемые не терпеливые заявки. Рассмотр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ьную СМО с ожиданием, в которой число мест в очереди не ограниченно, а время пребывания заявки в очереди ограниченно некоторым случайным сроком со среднем значением Т очереди, т.е. на каждую заявку, стоящую в очереди,  действует  поток уходов с интенсивн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се каналы свобод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 один кан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ан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 и одна заявка в очере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 и заявок  в 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79280" y="4869000"/>
            <a:ext cx="8496360" cy="1712520"/>
            <a:chOff x="179280" y="4869000"/>
            <a:chExt cx="8496360" cy="1712520"/>
          </a:xfrm>
        </p:grpSpPr>
        <p:sp>
          <p:nvSpPr>
            <p:cNvPr id="520" name=""/>
            <p:cNvSpPr/>
            <p:nvPr/>
          </p:nvSpPr>
          <p:spPr>
            <a:xfrm>
              <a:off x="179280" y="5487480"/>
              <a:ext cx="613080" cy="54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3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32280" y="5462280"/>
              <a:ext cx="613080" cy="54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65640" y="5462280"/>
              <a:ext cx="613080" cy="54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31200" y="5430240"/>
              <a:ext cx="874080" cy="54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 rot="10872600">
              <a:off x="411120" y="5231160"/>
              <a:ext cx="1437480" cy="61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0727400">
              <a:off x="411480" y="5656680"/>
              <a:ext cx="14374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 rot="10872600">
              <a:off x="1936800" y="5226120"/>
              <a:ext cx="1436040" cy="61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0727400">
              <a:off x="1936800" y="5648760"/>
              <a:ext cx="1436040" cy="61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37080" y="486900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08360" y="494892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91360" y="6232320"/>
              <a:ext cx="426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31400" y="6194880"/>
              <a:ext cx="5713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723680" y="5198400"/>
              <a:ext cx="1449360" cy="1062720"/>
              <a:chOff x="1723680" y="5198400"/>
              <a:chExt cx="1449360" cy="1062720"/>
            </a:xfrm>
          </p:grpSpPr>
          <p:sp>
            <p:nvSpPr>
              <p:cNvPr id="533" name=""/>
              <p:cNvSpPr/>
              <p:nvPr/>
            </p:nvSpPr>
            <p:spPr>
              <a:xfrm flipH="1" rot="10872600">
                <a:off x="1729800" y="5635080"/>
                <a:ext cx="1436760" cy="61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 rot="10727400">
                <a:off x="1729800" y="5212800"/>
                <a:ext cx="1436760" cy="61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2840040" y="4991760"/>
              <a:ext cx="426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45440" y="6061320"/>
              <a:ext cx="5713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48240" y="5450040"/>
              <a:ext cx="616680" cy="54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10872600">
              <a:off x="3452760" y="5213880"/>
              <a:ext cx="1436040" cy="61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24320" y="491184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05440" y="6182640"/>
              <a:ext cx="9428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k+1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240000" y="5185800"/>
              <a:ext cx="1448640" cy="1062720"/>
              <a:chOff x="3240000" y="5185800"/>
              <a:chExt cx="1448640" cy="1062720"/>
            </a:xfrm>
          </p:grpSpPr>
          <p:sp>
            <p:nvSpPr>
              <p:cNvPr id="542" name=""/>
              <p:cNvSpPr/>
              <p:nvPr/>
            </p:nvSpPr>
            <p:spPr>
              <a:xfrm flipH="1" rot="10872600">
                <a:off x="3246120" y="5622480"/>
                <a:ext cx="1436040" cy="61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 rot="10727400">
                <a:off x="3246120" y="5200200"/>
                <a:ext cx="1436040" cy="61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4356000" y="497952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61760" y="6049080"/>
              <a:ext cx="5709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0727400">
              <a:off x="3426120" y="5668200"/>
              <a:ext cx="1436040" cy="61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 rot="10872600">
              <a:off x="5025960" y="5204520"/>
              <a:ext cx="100368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8" y="8846"/>
                  </a:moveTo>
                  <a:arcTo wR="10800" hR="10800" stAng="-10174483" swAng="97924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8" y="8846"/>
                  </a:moveTo>
                  <a:arcTo wR="10800" hR="10800" stAng="-10174483" swAng="9792468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0727400">
              <a:off x="4885200" y="5663520"/>
              <a:ext cx="1109520" cy="5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" y="10161"/>
                  </a:moveTo>
                  <a:arcTo wR="10800" hR="10800" stAng="-10596604" swAng="10214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" y="10161"/>
                  </a:moveTo>
                  <a:arcTo wR="10800" hR="10800" stAng="-10596604" swAng="10214588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61480" y="5424840"/>
              <a:ext cx="874080" cy="54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+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10872600">
              <a:off x="6327000" y="5183640"/>
              <a:ext cx="1436040" cy="61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6020640" y="5155560"/>
              <a:ext cx="1448640" cy="1062720"/>
              <a:chOff x="6020640" y="5155560"/>
              <a:chExt cx="1448640" cy="1062720"/>
            </a:xfrm>
          </p:grpSpPr>
          <p:sp>
            <p:nvSpPr>
              <p:cNvPr id="552" name=""/>
              <p:cNvSpPr/>
              <p:nvPr/>
            </p:nvSpPr>
            <p:spPr>
              <a:xfrm flipH="1" rot="10872600">
                <a:off x="6026760" y="5592240"/>
                <a:ext cx="1436040" cy="61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 rot="10727400">
                <a:off x="6026760" y="5169960"/>
                <a:ext cx="1436040" cy="61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 rot="10727400">
              <a:off x="6300000" y="5610600"/>
              <a:ext cx="1436040" cy="61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62320" y="6070320"/>
              <a:ext cx="13406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+</a:t>
              </a:r>
              <a:r>
                <a:rPr b="0" lang="ru-RU" sz="1200" spc="-1" strike="noStrike">
                  <a:solidFill>
                    <a:srgbClr val="000000"/>
                  </a:solidFill>
                  <a:latin typeface="Book Antiqua"/>
                </a:rPr>
                <a:t>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45280" y="6139800"/>
              <a:ext cx="9291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+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Book Antiqua"/>
                </a:rPr>
                <a:t>ν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32040" y="5991840"/>
              <a:ext cx="144360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+(r+1) </a:t>
              </a:r>
              <a:r>
                <a:rPr b="0" lang="ru-RU" sz="1200" spc="-1" strike="noStrike">
                  <a:solidFill>
                    <a:srgbClr val="000000"/>
                  </a:solidFill>
                  <a:latin typeface="Book Antiqua"/>
                </a:rPr>
                <a:t>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85160" y="487080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84440" y="4970520"/>
              <a:ext cx="426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2800" y="492768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724360" y="2492280"/>
                <a:ext cx="7207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ч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СМО с нетерпеливыми заяв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144360" y="620640"/>
                <a:ext cx="8964720" cy="587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ν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СМО с нетерпеливыми заяв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МО с нетерпеливыми заявками установившийся режим достигается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е число заявок  в очереди вычисляется как мат. ожидание дискретной случайной вел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ждую из таких заявок, действует поток уходов с интенсивност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 среднего числа заяв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в среднем будут уходить из очереди не дождавшись обслужив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в единицу времени будет обслуже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е число занятых кан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а (5) позволяет вычислить  среднее число заяв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 суммируя  бесконечный ряд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нные характеристики определяются по формулам Литт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987640" y="1484280"/>
                <a:ext cx="3313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7740720" y="2060640"/>
                <a:ext cx="187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3043080" y="2276640"/>
                <a:ext cx="233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492360" y="2533680"/>
                <a:ext cx="3589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859280" y="2838600"/>
                <a:ext cx="16318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39640" y="3141720"/>
                <a:ext cx="3103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ν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140360" y="3703680"/>
                <a:ext cx="3450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μ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140360" y="4869000"/>
                <a:ext cx="22572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  <m:r>
                      <m:t xml:space="preserve">ρ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11280" y="5661000"/>
                <a:ext cx="7515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074000" y="4581360"/>
                <a:ext cx="234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ые СМО с отказ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носительная пропускная способно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вшееся значения вероятнос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солютная пропускная способно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оятность отка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изический смыс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оятности отказа: средняя доля не обслуженных заявок среди по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канальная СМО – телеф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ция. Вызов пришедший, когда ли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а, получает отказ. Интенсивность пот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ов λ=0,8 выз/мин. Средне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уживание вызо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абсолютную (А) и относительную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ные 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ероятность отказ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476280"/>
                <a:ext cx="21607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22280" y="981000"/>
                <a:ext cx="1819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467320" y="2192400"/>
                <a:ext cx="3571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μ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203640" y="2637000"/>
                <a:ext cx="2808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40280" y="3930480"/>
                <a:ext cx="3268800" cy="288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от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,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54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λ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λμ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4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тказ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16360" y="5373720"/>
                <a:ext cx="1368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и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796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ая СМО с отка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усть у систем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аналов. Будем формировать состояние системы по числу занятых каналов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все каналы свободны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занят ровно один канал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заня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аналов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заняты все канал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ва на право систему переводят в поток заявок с интенсивностью 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истема находится в состоя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иходит заявка, то она переходит в 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интенсивности событий переводящих систему по стрелкам с права на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система находитс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огда оканчивается обслуживание заявки, занимающей этот канал, система переходит в 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нтенсивность равна 0. Если обслуживанием заня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, то поток обслуживаний, переводящих систему из состоя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будет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 интенсив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такой системы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/М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1484280"/>
            <a:ext cx="8028000" cy="2117880"/>
            <a:chOff x="539640" y="1484280"/>
            <a:chExt cx="8028000" cy="2117880"/>
          </a:xfrm>
        </p:grpSpPr>
        <p:sp>
          <p:nvSpPr>
            <p:cNvPr id="104" name=""/>
            <p:cNvSpPr/>
            <p:nvPr/>
          </p:nvSpPr>
          <p:spPr>
            <a:xfrm>
              <a:off x="539640" y="1484280"/>
              <a:ext cx="8028000" cy="21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842400" y="1718280"/>
              <a:ext cx="6969960" cy="1554480"/>
              <a:chOff x="842400" y="1718280"/>
              <a:chExt cx="6969960" cy="1554480"/>
            </a:xfrm>
          </p:grpSpPr>
          <p:sp>
            <p:nvSpPr>
              <p:cNvPr id="106" name=""/>
              <p:cNvSpPr/>
              <p:nvPr/>
            </p:nvSpPr>
            <p:spPr>
              <a:xfrm>
                <a:off x="842400" y="2222280"/>
                <a:ext cx="52128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78640" y="2222280"/>
                <a:ext cx="52092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58520" y="2222280"/>
                <a:ext cx="52092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70760" y="2222280"/>
                <a:ext cx="52092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91440" y="2222280"/>
                <a:ext cx="52092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15280" y="2088000"/>
                <a:ext cx="1116720" cy="14472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00560" y="2115000"/>
                <a:ext cx="1117080" cy="14436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164960" y="2746440"/>
                <a:ext cx="1116720" cy="14472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2440800" y="2692440"/>
                <a:ext cx="1116720" cy="14436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90520" y="2687760"/>
                <a:ext cx="401760" cy="2840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77920" y="2687760"/>
                <a:ext cx="387000" cy="2840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4893480" y="2088000"/>
                <a:ext cx="439200" cy="2678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6899400" y="2114280"/>
                <a:ext cx="429120" cy="22500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 rot="19099200">
                <a:off x="3915000" y="2081880"/>
                <a:ext cx="401760" cy="2836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 rot="19099200">
                <a:off x="5726880" y="2081520"/>
                <a:ext cx="402120" cy="28440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9099200">
                <a:off x="4933080" y="2617920"/>
                <a:ext cx="401760" cy="2840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9099200">
                <a:off x="6944040" y="2608200"/>
                <a:ext cx="401760" cy="2840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82840" y="172872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02680" y="171828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48720" y="171828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82960" y="178776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27480" y="290844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92600" y="2881440"/>
                <a:ext cx="5360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14160" y="2871000"/>
                <a:ext cx="545760" cy="36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ая СМО с отка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м уравнение Колмогорова для такой С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ирование системы (1) с заданными начальными условиями даёт выражение  для вероятности состояний.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&gt;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341440" y="981000"/>
                <a:ext cx="5399280" cy="300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μ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λ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kμ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λ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μ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124000" y="4375080"/>
                <a:ext cx="5327640" cy="23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μ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ая СМО с отка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едённая интенсивность - это средние число заявок, приходящих в СМО за среднее время обслуживания одной заяв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ётом этого обозначения формула (2) принимает следующий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аявка получает отказ от обслужи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заняты все  кан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носительная пропускная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бсолютная пропускная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е число занятых кан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42920" y="549360"/>
                <a:ext cx="863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00360" y="1773360"/>
                <a:ext cx="42480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39640" y="3500280"/>
                <a:ext cx="208764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68360" y="4508640"/>
                <a:ext cx="2682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68360" y="5221440"/>
                <a:ext cx="273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39640" y="5948280"/>
                <a:ext cx="3095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ая СМО с отка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огоканальная СМО – мини-АТС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ми. Вызов пришедший, когда все линии заняты, получает отказ. Интенсивность потока вызовов λ=2,4 выз/мин. Среднее время обслуживание вызо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н. Найти абсолютную (А) и относительну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опускные способности, и вероятность отказ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71640" y="3106800"/>
                <a:ext cx="20876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4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26920" y="3754440"/>
                <a:ext cx="4032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2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4640400"/>
                <a:ext cx="2954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26920" y="5445000"/>
                <a:ext cx="2305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55640" y="5994360"/>
                <a:ext cx="3168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им ОСМ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1, на которую поступает поток заявок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интенсивность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ботки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заявка становится в очередь и ожидает. Предположим, что число мест в очереди ограниченно число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Т.е. если заявка пришла в момент, когда в очереди уже стоя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явок, она покидает СМО не обслуже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п такой СМО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/1/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нал свободен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нал занят очереди нет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нал занят, одна заявка в очереди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нал заня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явок стоят в очере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трелкам слева на право поток заявок переводит систему с интенсивностью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а с права на лево, поток освобождения занятого канала с интенсивностью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6720" y="4230720"/>
            <a:ext cx="7920360" cy="1935000"/>
            <a:chOff x="396720" y="4230720"/>
            <a:chExt cx="7920360" cy="1935000"/>
          </a:xfrm>
        </p:grpSpPr>
        <p:sp>
          <p:nvSpPr>
            <p:cNvPr id="170" name=""/>
            <p:cNvSpPr/>
            <p:nvPr/>
          </p:nvSpPr>
          <p:spPr>
            <a:xfrm>
              <a:off x="396720" y="4230720"/>
              <a:ext cx="7920360" cy="19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4120" y="5033880"/>
              <a:ext cx="5140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63800" y="5033880"/>
              <a:ext cx="5140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25680" y="5033880"/>
              <a:ext cx="5140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13440" y="5033880"/>
              <a:ext cx="5140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07120" y="5033880"/>
              <a:ext cx="5144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3760" y="4911480"/>
              <a:ext cx="1101960" cy="1321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0320" y="4935960"/>
              <a:ext cx="1101960" cy="1321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1062000" y="5512320"/>
              <a:ext cx="1101960" cy="1321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320920" y="5463720"/>
              <a:ext cx="1101960" cy="1321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1920" y="545940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15200" y="5459400"/>
              <a:ext cx="38160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741200" y="4911480"/>
              <a:ext cx="433440" cy="24480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6719400" y="4935240"/>
              <a:ext cx="423720" cy="205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 rot="19099200">
              <a:off x="3776400" y="490572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 rot="19099200">
              <a:off x="5564160" y="490572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099200">
              <a:off x="4780440" y="539568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9099200">
              <a:off x="6764040" y="538668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75920" y="4583160"/>
              <a:ext cx="3672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7040" y="4573440"/>
              <a:ext cx="3672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69080" y="4573440"/>
              <a:ext cx="3672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20240" y="4637160"/>
              <a:ext cx="3672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уравнение Колмогорова для  предельных вероятностей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(1) в (3)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ируя геометрическую прогрессию для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ем формула  (4) справедлива только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 3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87560" y="981000"/>
                <a:ext cx="48895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λ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λ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79640" y="2441520"/>
                <a:ext cx="3887640" cy="21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948360" y="4508640"/>
                <a:ext cx="2016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724360" y="5167440"/>
                <a:ext cx="648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826920" y="5661000"/>
                <a:ext cx="649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979640" y="5516640"/>
                <a:ext cx="1258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8:06:36Z</dcterms:created>
  <dc:creator>Rustam</dc:creator>
  <dc:description/>
  <dc:language>en-US</dc:language>
  <cp:lastModifiedBy>korobitsin</cp:lastModifiedBy>
  <dcterms:modified xsi:type="dcterms:W3CDTF">2006-10-26T11:19:45Z</dcterms:modified>
  <cp:revision>97</cp:revision>
  <dc:subject/>
  <dc:title>Моделирование</dc:title>
</cp:coreProperties>
</file>