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24B-CE36-445A-A36F-D0C56361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281-582D-4A85-B405-7AB09DCF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396-1D22-468A-8A45-13964305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039-E031-48AA-8AA6-84B154EA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3790-FA39-4FDB-AC3E-59255980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267E-55A4-4039-9082-69C038EC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7F1C-6B8C-4B11-BF9B-78C5920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8B8-1558-4C1D-98F1-64F79C7B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817-0AF2-4FE9-A487-458D761F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6A5F-7895-4956-B22D-40A7116A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CA1-794A-4D50-95BA-B98FA49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586-56E8-4917-8373-8339D05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2131-2FC3-44BF-BAF4-43150D9C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9064-5033-418E-B271-574894B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56CC-9C22-4DB2-BAA0-940678B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7E48-C2C4-4B69-8B91-B5D050A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B8D1-FE69-4D72-9FB5-A996A5AB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369-06BF-4C56-AC06-6AE712E6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54E-BA00-4262-932D-8EC516A2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E86-E099-4899-8C05-E4D7C7A9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2A0-AD4E-480B-99DC-925B1D7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E40-118F-4F1A-968E-1B473C8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5AC-7DA6-4C3F-BEFE-C9850B2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E56-50A7-4FE0-B863-2A0754D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33B2-3D6C-4174-9191-D3F4BE007E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977-6ADC-4CD4-A000-BDD0018BFC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циальных 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бицын В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Математическая модель экосистемы</a:t>
            </a:r>
            <a:br>
              <a:rPr sz="33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бщенное уравнение Лотки-Вольтер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9690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, y, z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тность популяц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ителей, потребителей и хищ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ь роста произ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местимость ландша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при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ь отми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нос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81480" y="2314440"/>
            <a:ext cx="3783240" cy="28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7A7-9DEA-4FC2-B0B4-5900757CC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Равновес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36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7720" indent="-387720">
              <a:lnSpc>
                <a:spcPct val="80000"/>
              </a:lnSpc>
              <a:spcBef>
                <a:spcPts val="28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0, 0,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ет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lnSpc>
                <a:spcPct val="80000"/>
              </a:lnSpc>
              <a:spcBef>
                <a:spcPts val="28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, 0,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потребители и хищники погиб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lnSpc>
                <a:spcPct val="80000"/>
              </a:lnSpc>
              <a:spcBef>
                <a:spcPts val="28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r(K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/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,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хищ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lnSpc>
                <a:spcPct val="80000"/>
              </a:lnSpc>
              <a:spcBef>
                <a:spcPts val="28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(1-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r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, 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(K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1-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r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-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/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бильная жизнеспособ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доми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один вид погибает, то все виды на более высоких трофических уровнях также погиб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52E-68F6-40DD-AF46-C1E5F8809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Arial"/>
              </a:rPr>
              <a:t>Динамика популяц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73280" y="1603440"/>
            <a:ext cx="7043400" cy="41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5B8-0066-42D6-AEDF-5DD8A95FAD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гентно-базовая модель экосистем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5146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74320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819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124080"/>
            <a:ext cx="182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5160" y="1662120"/>
            <a:ext cx="712152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215-A28D-42C4-87EC-46DE97D2C1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Устойчивые экосист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1924200"/>
            <a:ext cx="8076960" cy="2019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4095720"/>
            <a:ext cx="8076960" cy="201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135-AAC0-4802-A784-586D1C6DC5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ценарии затух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924200"/>
            <a:ext cx="8153280" cy="2019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4095720"/>
            <a:ext cx="8153280" cy="201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F4D-63B6-4EDC-AE11-3B8BA1DA7B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одели экосистем. Вывод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924200"/>
            <a:ext cx="8439120" cy="42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ентно-базовое моделирование иллюстрирует механизмы устойчивого развития слож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гентно-базовой модели взаимодействие индивидов основано на простых биологических правилах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й эффект индивидуальных взаимодействий формирует характер взаимодействий популяц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E12-E1D9-4C43-B6AC-7DE4CAEF34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одель гендерных отноше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452600"/>
            <a:ext cx="3816360" cy="2539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Коэффициент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гендерного взаимодейств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G= Cf / F : Cm / 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де F и M - количество мужчин и женщин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Cf, Cm - число взаимодействующих мужчин, женщин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493720" cy="26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E69-54DF-41E8-8C83-806FDB028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одель гендерных отношений. Выво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обенность моделирования гендерного общения состоит в выделении двух типов агентов, то есть разделение людей на мужчин и женщи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уществует три типа гендерных взаимодействий, определяющих стабильность отношений партнеров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стабильный, 2) краткосрочный, 3) мультиконтактны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770580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69B-8C0E-4782-AF1B-A0F7C27259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одель этнического по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нос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естественно сложившийся на основе оригинального стереотипа поведения коллектив людей, существующий как энергетическая система, противопоставляющая себя другим таким же коллективам, исходя из ощущ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мплиментар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ническое по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оле, обеспечивающее взаимодействие членов этноса и регулирующее их совместную целенаправленную деятельность. Этническое поле формируется за сч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ссионарной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056-BC1C-48F5-8B41-84080FA88C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К., Коробицы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., Лапт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А., Паут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о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системы. Формализация и компьютерное моделирова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е пособие. - Омск:  Омск. гос. ун-т, 20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К., Коробицы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., Лапт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А., Паут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о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е модели социальных систем: Учебное пособ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мск:  Омск. гос. ун-т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К., Коробицы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., Лапт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А., Паут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о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е моделирование. Инструменты для исследования социаль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: Учебное пособ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мск:  Омск. гос. ун-т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7E7-7C64-4B8D-AE0D-54DC53CBF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ui(x,y,t) – функция плотности пассионарной энергии i-го этноса, εi, φi, βi, γi, ui0 – функции, описывающие состояние ландшафта и скорость изменения энергии этнического п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9640" y="1681200"/>
                <a:ext cx="8280360" cy="26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  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∂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BBA-FCDA-4F8F-B457-71B344BEF5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трех реальных суперэт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9640" y="1409760"/>
          <a:ext cx="36291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09760"/>
                    <a:ext cx="36291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155736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Terri «Моделирование этнических пол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637000"/>
            <a:ext cx="37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эксперимента -выяснение зависимости разделения территорий между некомплиментарными этническими системами от типа ландшаф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761-6681-4BA5-BCB3-C36C30FB19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татистический результат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348000" y="1413000"/>
          <a:ext cx="561672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13000"/>
                    <a:ext cx="561672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79280" y="1484280"/>
          <a:ext cx="302436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02436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79280" y="6021360"/>
            <a:ext cx="878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ссии: I - римско-католическая, II - православ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I - мусульманская, IV - друг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581360"/>
            <a:ext cx="39243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ерэтн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западно-европейск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восточно-славянск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малоазиатский, 4 -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650-7445-4CB6-8D5F-D51C447B5D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одель этнического поля. Выводы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территорий между этносами действительно зависит от ландшаф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ые вероятностные характеристики показывают соотношение долей, населяющих данный город людей по этническому призна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может служить инструментом для выявления на этнической карте наиболее опасных мест, с точки зрения этнических кризи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наглядно демонстрирует как могут расселяться народы и что влияет на их расс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показывает, что ситуации распределения этносов могут быть различными, но в реальной жизни они распределяются наиболее вероятн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AF2-B101-4269-BDEA-2D1CAC285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аю благодарность сотрудникам лаборатории социокибернети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ору Гуцу Александру Константинович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центу Фроловой Юлии Владимировн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центу Паутовой Ларисе Александров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C62-3ECB-4EE1-9984-A482E80F9A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м процесс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следовательное изменение состояний или элементов социальной системы, л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любая поддающаяся идентификации, повторяющаяся модель социальных взаимо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отображение результатов мышления в точных понятиях и утверж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 в социолог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метод исследования социальных явлений и процессов на их модел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решения задачи анализа или синтеза сложной системы на основе использования ее компьютерной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390-6116-44CC-A9DD-6D296AC35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дходы к построению мод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4800" y="2060640"/>
            <a:ext cx="1944720" cy="1368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63720" y="4365720"/>
            <a:ext cx="1224000" cy="1152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5440" y="570384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Лок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84360" y="3429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1413000"/>
            <a:ext cx="0" cy="49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133720"/>
            <a:ext cx="1944720" cy="1368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45320" y="4438800"/>
            <a:ext cx="1223640" cy="1152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32520" y="5805360"/>
            <a:ext cx="17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Глоб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465960" y="35020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0000" y="47721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8000" y="25653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4922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47973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933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7FB-7A2F-431C-A165-DF494667E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Этапы моделиро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7236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48C-0D12-41BD-8D39-B6F9A2B2A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сновные методы компьютерного моделир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ромоделир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льти-агентное модел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клеточных автом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очере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моделир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динамически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экспертных сис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729-893F-4573-A27F-6AC67F1CF2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етыре модели сложных систе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2468520"/>
            <a:ext cx="1008000" cy="528840"/>
          </a:xfrm>
          <a:custGeom>
            <a:avLst/>
            <a:gdLst/>
            <a:ahLst/>
            <a:rect l="l" t="t" r="r" b="b"/>
            <a:pathLst>
              <a:path w="635" h="333">
                <a:moveTo>
                  <a:pt x="635" y="333"/>
                </a:moveTo>
                <a:cubicBezTo>
                  <a:pt x="593" y="268"/>
                  <a:pt x="552" y="204"/>
                  <a:pt x="499" y="151"/>
                </a:cubicBezTo>
                <a:cubicBezTo>
                  <a:pt x="446" y="98"/>
                  <a:pt x="400" y="30"/>
                  <a:pt x="317" y="15"/>
                </a:cubicBezTo>
                <a:cubicBezTo>
                  <a:pt x="234" y="0"/>
                  <a:pt x="117" y="30"/>
                  <a:pt x="0" y="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22200" y="2637000"/>
            <a:ext cx="397080" cy="647640"/>
          </a:xfrm>
          <a:custGeom>
            <a:avLst/>
            <a:gdLst/>
            <a:ahLst/>
            <a:rect l="l" t="t" r="r" b="b"/>
            <a:pathLst>
              <a:path w="250" h="408">
                <a:moveTo>
                  <a:pt x="114" y="0"/>
                </a:moveTo>
                <a:cubicBezTo>
                  <a:pt x="57" y="56"/>
                  <a:pt x="0" y="113"/>
                  <a:pt x="23" y="181"/>
                </a:cubicBezTo>
                <a:cubicBezTo>
                  <a:pt x="46" y="249"/>
                  <a:pt x="148" y="328"/>
                  <a:pt x="25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068640"/>
            <a:ext cx="792000" cy="396720"/>
          </a:xfrm>
          <a:custGeom>
            <a:avLst/>
            <a:gdLst/>
            <a:ahLst/>
            <a:rect l="l" t="t" r="r" b="b"/>
            <a:pathLst>
              <a:path w="499" h="250">
                <a:moveTo>
                  <a:pt x="0" y="136"/>
                </a:moveTo>
                <a:cubicBezTo>
                  <a:pt x="117" y="193"/>
                  <a:pt x="234" y="250"/>
                  <a:pt x="317" y="227"/>
                </a:cubicBezTo>
                <a:cubicBezTo>
                  <a:pt x="400" y="204"/>
                  <a:pt x="449" y="102"/>
                  <a:pt x="4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120" y="1989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Лотки-Вольтер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933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офическая пирамида Элт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565360"/>
            <a:ext cx="217440" cy="21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3213000"/>
            <a:ext cx="217440" cy="21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2781360"/>
            <a:ext cx="217440" cy="21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98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гендер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2997360"/>
            <a:ext cx="216000" cy="21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2708280"/>
            <a:ext cx="215640" cy="21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867280" y="2781360"/>
            <a:ext cx="1081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940000" y="2924280"/>
            <a:ext cx="10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3789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нические 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65920" y="4529160"/>
            <a:ext cx="2060640" cy="1484280"/>
          </a:xfrm>
          <a:custGeom>
            <a:avLst/>
            <a:gdLst/>
            <a:ahLst/>
            <a:rect l="l" t="t" r="r" b="b"/>
            <a:pathLst>
              <a:path w="1298" h="935">
                <a:moveTo>
                  <a:pt x="658" y="0"/>
                </a:moveTo>
                <a:cubicBezTo>
                  <a:pt x="567" y="11"/>
                  <a:pt x="608" y="1"/>
                  <a:pt x="530" y="27"/>
                </a:cubicBezTo>
                <a:cubicBezTo>
                  <a:pt x="521" y="30"/>
                  <a:pt x="503" y="36"/>
                  <a:pt x="503" y="36"/>
                </a:cubicBezTo>
                <a:cubicBezTo>
                  <a:pt x="498" y="41"/>
                  <a:pt x="469" y="67"/>
                  <a:pt x="466" y="73"/>
                </a:cubicBezTo>
                <a:cubicBezTo>
                  <a:pt x="461" y="81"/>
                  <a:pt x="463" y="93"/>
                  <a:pt x="457" y="100"/>
                </a:cubicBezTo>
                <a:cubicBezTo>
                  <a:pt x="450" y="109"/>
                  <a:pt x="438" y="111"/>
                  <a:pt x="429" y="118"/>
                </a:cubicBezTo>
                <a:cubicBezTo>
                  <a:pt x="403" y="139"/>
                  <a:pt x="389" y="153"/>
                  <a:pt x="356" y="164"/>
                </a:cubicBezTo>
                <a:cubicBezTo>
                  <a:pt x="269" y="150"/>
                  <a:pt x="184" y="155"/>
                  <a:pt x="100" y="182"/>
                </a:cubicBezTo>
                <a:cubicBezTo>
                  <a:pt x="94" y="191"/>
                  <a:pt x="89" y="202"/>
                  <a:pt x="82" y="210"/>
                </a:cubicBezTo>
                <a:cubicBezTo>
                  <a:pt x="68" y="226"/>
                  <a:pt x="36" y="256"/>
                  <a:pt x="36" y="256"/>
                </a:cubicBezTo>
                <a:cubicBezTo>
                  <a:pt x="26" y="286"/>
                  <a:pt x="10" y="308"/>
                  <a:pt x="0" y="338"/>
                </a:cubicBezTo>
                <a:cubicBezTo>
                  <a:pt x="3" y="356"/>
                  <a:pt x="5" y="375"/>
                  <a:pt x="9" y="393"/>
                </a:cubicBezTo>
                <a:cubicBezTo>
                  <a:pt x="11" y="402"/>
                  <a:pt x="16" y="411"/>
                  <a:pt x="18" y="420"/>
                </a:cubicBezTo>
                <a:cubicBezTo>
                  <a:pt x="25" y="450"/>
                  <a:pt x="36" y="512"/>
                  <a:pt x="36" y="512"/>
                </a:cubicBezTo>
                <a:cubicBezTo>
                  <a:pt x="33" y="545"/>
                  <a:pt x="25" y="579"/>
                  <a:pt x="27" y="612"/>
                </a:cubicBezTo>
                <a:cubicBezTo>
                  <a:pt x="32" y="706"/>
                  <a:pt x="120" y="778"/>
                  <a:pt x="192" y="822"/>
                </a:cubicBezTo>
                <a:cubicBezTo>
                  <a:pt x="232" y="846"/>
                  <a:pt x="272" y="869"/>
                  <a:pt x="311" y="896"/>
                </a:cubicBezTo>
                <a:cubicBezTo>
                  <a:pt x="329" y="908"/>
                  <a:pt x="365" y="932"/>
                  <a:pt x="365" y="932"/>
                </a:cubicBezTo>
                <a:cubicBezTo>
                  <a:pt x="399" y="929"/>
                  <a:pt x="434" y="935"/>
                  <a:pt x="466" y="923"/>
                </a:cubicBezTo>
                <a:cubicBezTo>
                  <a:pt x="500" y="910"/>
                  <a:pt x="516" y="870"/>
                  <a:pt x="530" y="841"/>
                </a:cubicBezTo>
                <a:cubicBezTo>
                  <a:pt x="544" y="769"/>
                  <a:pt x="514" y="685"/>
                  <a:pt x="594" y="658"/>
                </a:cubicBezTo>
                <a:cubicBezTo>
                  <a:pt x="710" y="667"/>
                  <a:pt x="778" y="675"/>
                  <a:pt x="896" y="667"/>
                </a:cubicBezTo>
                <a:cubicBezTo>
                  <a:pt x="940" y="634"/>
                  <a:pt x="977" y="586"/>
                  <a:pt x="1024" y="557"/>
                </a:cubicBezTo>
                <a:cubicBezTo>
                  <a:pt x="1059" y="536"/>
                  <a:pt x="1143" y="530"/>
                  <a:pt x="1143" y="530"/>
                </a:cubicBezTo>
                <a:cubicBezTo>
                  <a:pt x="1175" y="508"/>
                  <a:pt x="1206" y="469"/>
                  <a:pt x="1243" y="457"/>
                </a:cubicBezTo>
                <a:cubicBezTo>
                  <a:pt x="1280" y="445"/>
                  <a:pt x="1262" y="451"/>
                  <a:pt x="1298" y="438"/>
                </a:cubicBezTo>
                <a:cubicBezTo>
                  <a:pt x="1293" y="415"/>
                  <a:pt x="1284" y="356"/>
                  <a:pt x="1271" y="338"/>
                </a:cubicBezTo>
                <a:cubicBezTo>
                  <a:pt x="1227" y="273"/>
                  <a:pt x="1167" y="256"/>
                  <a:pt x="1106" y="210"/>
                </a:cubicBezTo>
                <a:cubicBezTo>
                  <a:pt x="1033" y="155"/>
                  <a:pt x="947" y="110"/>
                  <a:pt x="859" y="82"/>
                </a:cubicBezTo>
                <a:cubicBezTo>
                  <a:pt x="814" y="52"/>
                  <a:pt x="764" y="43"/>
                  <a:pt x="713" y="27"/>
                </a:cubicBezTo>
                <a:cubicBezTo>
                  <a:pt x="697" y="22"/>
                  <a:pt x="658" y="21"/>
                  <a:pt x="658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53200" y="4281480"/>
            <a:ext cx="1450800" cy="1312920"/>
          </a:xfrm>
          <a:custGeom>
            <a:avLst/>
            <a:gdLst/>
            <a:ahLst/>
            <a:rect l="l" t="t" r="r" b="b"/>
            <a:pathLst>
              <a:path w="914" h="827">
                <a:moveTo>
                  <a:pt x="722" y="9"/>
                </a:moveTo>
                <a:cubicBezTo>
                  <a:pt x="727" y="11"/>
                  <a:pt x="772" y="25"/>
                  <a:pt x="777" y="28"/>
                </a:cubicBezTo>
                <a:cubicBezTo>
                  <a:pt x="878" y="96"/>
                  <a:pt x="728" y="16"/>
                  <a:pt x="841" y="73"/>
                </a:cubicBezTo>
                <a:cubicBezTo>
                  <a:pt x="855" y="87"/>
                  <a:pt x="875" y="95"/>
                  <a:pt x="887" y="110"/>
                </a:cubicBezTo>
                <a:cubicBezTo>
                  <a:pt x="893" y="117"/>
                  <a:pt x="891" y="129"/>
                  <a:pt x="896" y="137"/>
                </a:cubicBezTo>
                <a:cubicBezTo>
                  <a:pt x="900" y="145"/>
                  <a:pt x="908" y="150"/>
                  <a:pt x="914" y="156"/>
                </a:cubicBezTo>
                <a:cubicBezTo>
                  <a:pt x="906" y="187"/>
                  <a:pt x="901" y="254"/>
                  <a:pt x="869" y="274"/>
                </a:cubicBezTo>
                <a:cubicBezTo>
                  <a:pt x="782" y="329"/>
                  <a:pt x="616" y="317"/>
                  <a:pt x="539" y="320"/>
                </a:cubicBezTo>
                <a:cubicBezTo>
                  <a:pt x="499" y="347"/>
                  <a:pt x="513" y="358"/>
                  <a:pt x="485" y="393"/>
                </a:cubicBezTo>
                <a:cubicBezTo>
                  <a:pt x="465" y="418"/>
                  <a:pt x="448" y="433"/>
                  <a:pt x="439" y="466"/>
                </a:cubicBezTo>
                <a:cubicBezTo>
                  <a:pt x="436" y="478"/>
                  <a:pt x="434" y="491"/>
                  <a:pt x="430" y="503"/>
                </a:cubicBezTo>
                <a:cubicBezTo>
                  <a:pt x="424" y="522"/>
                  <a:pt x="411" y="558"/>
                  <a:pt x="411" y="558"/>
                </a:cubicBezTo>
                <a:cubicBezTo>
                  <a:pt x="419" y="628"/>
                  <a:pt x="432" y="684"/>
                  <a:pt x="448" y="750"/>
                </a:cubicBezTo>
                <a:cubicBezTo>
                  <a:pt x="429" y="827"/>
                  <a:pt x="427" y="815"/>
                  <a:pt x="338" y="805"/>
                </a:cubicBezTo>
                <a:cubicBezTo>
                  <a:pt x="299" y="795"/>
                  <a:pt x="268" y="778"/>
                  <a:pt x="229" y="768"/>
                </a:cubicBezTo>
                <a:cubicBezTo>
                  <a:pt x="214" y="753"/>
                  <a:pt x="198" y="737"/>
                  <a:pt x="183" y="722"/>
                </a:cubicBezTo>
                <a:cubicBezTo>
                  <a:pt x="174" y="713"/>
                  <a:pt x="155" y="695"/>
                  <a:pt x="155" y="695"/>
                </a:cubicBezTo>
                <a:cubicBezTo>
                  <a:pt x="136" y="657"/>
                  <a:pt x="122" y="634"/>
                  <a:pt x="91" y="604"/>
                </a:cubicBezTo>
                <a:cubicBezTo>
                  <a:pt x="71" y="543"/>
                  <a:pt x="20" y="500"/>
                  <a:pt x="0" y="439"/>
                </a:cubicBezTo>
                <a:cubicBezTo>
                  <a:pt x="7" y="388"/>
                  <a:pt x="8" y="352"/>
                  <a:pt x="37" y="311"/>
                </a:cubicBezTo>
                <a:cubicBezTo>
                  <a:pt x="59" y="246"/>
                  <a:pt x="124" y="197"/>
                  <a:pt x="183" y="165"/>
                </a:cubicBezTo>
                <a:cubicBezTo>
                  <a:pt x="185" y="164"/>
                  <a:pt x="326" y="83"/>
                  <a:pt x="329" y="82"/>
                </a:cubicBezTo>
                <a:cubicBezTo>
                  <a:pt x="413" y="56"/>
                  <a:pt x="508" y="55"/>
                  <a:pt x="594" y="46"/>
                </a:cubicBezTo>
                <a:cubicBezTo>
                  <a:pt x="634" y="36"/>
                  <a:pt x="643" y="22"/>
                  <a:pt x="677" y="0"/>
                </a:cubicBezTo>
                <a:cubicBezTo>
                  <a:pt x="692" y="3"/>
                  <a:pt x="722" y="9"/>
                  <a:pt x="722" y="9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5229360"/>
            <a:ext cx="1882800" cy="1035000"/>
          </a:xfrm>
          <a:custGeom>
            <a:avLst/>
            <a:gdLst/>
            <a:ahLst/>
            <a:rect l="l" t="t" r="r" b="b"/>
            <a:pathLst>
              <a:path w="1186" h="652">
                <a:moveTo>
                  <a:pt x="38" y="74"/>
                </a:moveTo>
                <a:cubicBezTo>
                  <a:pt x="84" y="30"/>
                  <a:pt x="142" y="16"/>
                  <a:pt x="203" y="1"/>
                </a:cubicBezTo>
                <a:cubicBezTo>
                  <a:pt x="236" y="4"/>
                  <a:pt x="271" y="0"/>
                  <a:pt x="303" y="10"/>
                </a:cubicBezTo>
                <a:cubicBezTo>
                  <a:pt x="312" y="13"/>
                  <a:pt x="308" y="29"/>
                  <a:pt x="313" y="37"/>
                </a:cubicBezTo>
                <a:cubicBezTo>
                  <a:pt x="335" y="76"/>
                  <a:pt x="359" y="105"/>
                  <a:pt x="386" y="138"/>
                </a:cubicBezTo>
                <a:cubicBezTo>
                  <a:pt x="394" y="147"/>
                  <a:pt x="409" y="177"/>
                  <a:pt x="422" y="184"/>
                </a:cubicBezTo>
                <a:cubicBezTo>
                  <a:pt x="478" y="213"/>
                  <a:pt x="545" y="207"/>
                  <a:pt x="605" y="211"/>
                </a:cubicBezTo>
                <a:cubicBezTo>
                  <a:pt x="665" y="240"/>
                  <a:pt x="663" y="269"/>
                  <a:pt x="706" y="312"/>
                </a:cubicBezTo>
                <a:cubicBezTo>
                  <a:pt x="723" y="329"/>
                  <a:pt x="751" y="336"/>
                  <a:pt x="770" y="348"/>
                </a:cubicBezTo>
                <a:cubicBezTo>
                  <a:pt x="829" y="383"/>
                  <a:pt x="871" y="417"/>
                  <a:pt x="934" y="440"/>
                </a:cubicBezTo>
                <a:lnTo>
                  <a:pt x="1007" y="476"/>
                </a:lnTo>
                <a:cubicBezTo>
                  <a:pt x="1007" y="476"/>
                  <a:pt x="1007" y="476"/>
                  <a:pt x="1007" y="476"/>
                </a:cubicBezTo>
                <a:cubicBezTo>
                  <a:pt x="1051" y="506"/>
                  <a:pt x="1094" y="542"/>
                  <a:pt x="1145" y="558"/>
                </a:cubicBezTo>
                <a:cubicBezTo>
                  <a:pt x="1186" y="601"/>
                  <a:pt x="1175" y="612"/>
                  <a:pt x="1135" y="650"/>
                </a:cubicBezTo>
                <a:cubicBezTo>
                  <a:pt x="1117" y="649"/>
                  <a:pt x="920" y="652"/>
                  <a:pt x="843" y="632"/>
                </a:cubicBezTo>
                <a:cubicBezTo>
                  <a:pt x="763" y="612"/>
                  <a:pt x="687" y="574"/>
                  <a:pt x="605" y="558"/>
                </a:cubicBezTo>
                <a:cubicBezTo>
                  <a:pt x="534" y="544"/>
                  <a:pt x="426" y="544"/>
                  <a:pt x="358" y="504"/>
                </a:cubicBezTo>
                <a:cubicBezTo>
                  <a:pt x="242" y="436"/>
                  <a:pt x="168" y="322"/>
                  <a:pt x="57" y="248"/>
                </a:cubicBezTo>
                <a:cubicBezTo>
                  <a:pt x="39" y="213"/>
                  <a:pt x="14" y="184"/>
                  <a:pt x="2" y="147"/>
                </a:cubicBezTo>
                <a:cubicBezTo>
                  <a:pt x="13" y="89"/>
                  <a:pt x="0" y="112"/>
                  <a:pt x="38" y="74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961800">
            <a:off x="1258560" y="4508640"/>
            <a:ext cx="1295280" cy="1439640"/>
          </a:xfrm>
          <a:prstGeom prst="triangle">
            <a:avLst>
              <a:gd name="adj" fmla="val 5602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174400">
            <a:off x="1964880" y="4510080"/>
            <a:ext cx="1008000" cy="1441440"/>
          </a:xfrm>
          <a:prstGeom prst="triangle">
            <a:avLst>
              <a:gd name="adj" fmla="val 50000"/>
            </a:avLst>
          </a:prstGeom>
          <a:solidFill>
            <a:srgbClr val="d9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7A2-8602-434C-879C-277E2220D8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Arial"/>
              </a:rPr>
              <a:t>Цепь пит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904000" cy="51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E70-D8E8-4D1B-8987-2E04B2D86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00"/>
                </a:solidFill>
                <a:latin typeface="Arial"/>
              </a:rPr>
              <a:t>Пирамида Элтона</a:t>
            </a:r>
            <a:br>
              <a:rPr sz="2700"/>
            </a:b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(Charles Elton, 192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66680" y="1649520"/>
            <a:ext cx="670572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3C3-116E-46E6-9D7E-B753CEBCB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5:06:57Z</dcterms:created>
  <dc:creator>Юлия и Виктор</dc:creator>
  <dc:description/>
  <dc:language>en-US</dc:language>
  <cp:lastModifiedBy>Юлия и Виктор</cp:lastModifiedBy>
  <dcterms:modified xsi:type="dcterms:W3CDTF">2005-02-07T13:16:21Z</dcterms:modified>
  <cp:revision>59</cp:revision>
  <dc:subject/>
  <dc:title>Моделирование социальных систем</dc:title>
</cp:coreProperties>
</file>