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D8E-8B34-4BD0-97AA-DCB6CC58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972-ECFD-4FC8-AAD5-E3DB1C3D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155-8EF0-41F6-8EF3-98568BDD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8E4-2414-4153-8122-3E1CFDEB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12D-2F7B-4768-AFD2-EB8C271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1D6-23C9-41D3-BDF5-FC91CBAB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A36-44EF-4CD9-B54F-17AAB623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AE6-D487-42E0-8D6B-1721DDB8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DC5-5D03-49A7-A2EE-BEFC6536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912-C6F5-4A59-9753-A7468B9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433-B9A9-4FCF-970C-401732E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174-314E-405A-9D02-68E7476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B2D1-C60C-43DE-A269-8D30D3A2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имеры 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истемы массового обслуживания со взаимопомощью между кана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исло канал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могут помогать друг другу, не превосход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интенсивность обслуживания заявок несколькими каналами будет пропорциональна числу ка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помощь «Все как один». При появлении одной заявки, её начинают обслуживать в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ов сразу. И остаются занятыми, пока не закончится обслуживание этой заявки, затем в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ов переключаются на обслуживание другой заявки, если она есть, или ждут её появления. В этом случае в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ов работают как один, СМО становится одноканальной, но с более высокой интенсивностью обслу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истемы массового обслуживания со взаимопомощью между кана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24000" y="1341360"/>
          <a:ext cx="856908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56908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едении взаимопомощи, пропускная способности уменьшается, это объясняется увеличением вероятности отказа. За то время, пока все три канала заняты обслуживанием  одной заявки, могут в систему поступить другие и получить отказ. Чего не произойдёт в многоканальной СМО. Если время пребывания заявки в системе является критическим, тогда введение взаимопомощи целесообразно. Если пребывание в СМО опасно для заявки, то объединять каналы в один является выгодны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истемы массового обслуживания с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заимопомощью между каналами с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жидани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случай неограниченной очереди. Влияние взаимопомощи на пропускную способность не будет, так как будет обслужанны все заявки в оч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24000" y="2492280"/>
          <a:ext cx="8569080" cy="32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56908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истемы массового обслуживания с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заимопомощью между каналами с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жидани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ебывание в СМО опасно для заявки, то объединять каналы в один является выг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вномерная взаимо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аявка приходит в момент когда все каналы свободны, в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ов принимаются за её обслуживания. Если  в момент обслуживания заявки приходит ещё одна, часть каналов переключается  на её обслуживания,  и так до тех пор пока число каналов не будет равно числу каналов. В этом случае вновь пришедшая заявка получает отказ в СМО с отказом или становится в очередь в СМО с ожиданием. Есл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) линейна, то всё равно какую часть каналов выделить на  обработку новой заявки, то все равно сколько каналов выделять. Если кривая  выпукла вверх, то надо распределять каналы, как можно более равном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О с отк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нумеровать состояние СМО по числу заявок находящихся в состоянии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МО свобод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дна заявка обслуживается вс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вок обсужива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истемы массового обслуживания с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заимопомощью между каналами с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жидани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граф совпадает с одноканальной СМО имеющ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 мест в оче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95280" y="1484280"/>
            <a:ext cx="8280360" cy="1873440"/>
            <a:chOff x="395280" y="1484280"/>
            <a:chExt cx="8280360" cy="1873440"/>
          </a:xfrm>
        </p:grpSpPr>
        <p:grpSp>
          <p:nvGrpSpPr>
            <p:cNvPr id="404" name=""/>
            <p:cNvGrpSpPr/>
            <p:nvPr/>
          </p:nvGrpSpPr>
          <p:grpSpPr>
            <a:xfrm>
              <a:off x="395280" y="1484280"/>
              <a:ext cx="8280360" cy="1873440"/>
              <a:chOff x="395280" y="1484280"/>
              <a:chExt cx="8280360" cy="1873440"/>
            </a:xfrm>
          </p:grpSpPr>
          <p:sp>
            <p:nvSpPr>
              <p:cNvPr id="405" name=""/>
              <p:cNvSpPr/>
              <p:nvPr/>
            </p:nvSpPr>
            <p:spPr>
              <a:xfrm>
                <a:off x="395280" y="1484280"/>
                <a:ext cx="8280360" cy="187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8520" y="2261880"/>
                <a:ext cx="537480" cy="45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33640" y="2261880"/>
                <a:ext cx="537480" cy="45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57440" y="2261880"/>
                <a:ext cx="537480" cy="45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26560" y="2261880"/>
                <a:ext cx="537480" cy="45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10600" y="2261880"/>
                <a:ext cx="537840" cy="45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40040" y="2143440"/>
                <a:ext cx="1152000" cy="12816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68880" y="2167200"/>
                <a:ext cx="1152000" cy="12780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1091520" y="2725920"/>
                <a:ext cx="1152000" cy="12816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2407680" y="2678040"/>
                <a:ext cx="1152000" cy="12780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03120" y="2673720"/>
                <a:ext cx="414720" cy="2512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46320" y="2673720"/>
                <a:ext cx="399240" cy="2512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4936680" y="2143440"/>
                <a:ext cx="453240" cy="2368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7005960" y="2166480"/>
                <a:ext cx="442800" cy="1990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 rot="19099200">
                <a:off x="3927600" y="2137680"/>
                <a:ext cx="414720" cy="2512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 rot="19099200">
                <a:off x="5796720" y="2137680"/>
                <a:ext cx="414720" cy="2512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099200">
                <a:off x="4978440" y="2611800"/>
                <a:ext cx="414720" cy="2512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099200">
                <a:off x="7052040" y="2603160"/>
                <a:ext cx="414720" cy="2512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19120" y="1825560"/>
                <a:ext cx="384120" cy="32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83600" y="1816200"/>
                <a:ext cx="384120" cy="32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57440" y="1816200"/>
                <a:ext cx="383760" cy="32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51360" y="1877760"/>
                <a:ext cx="383760" cy="32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383480" y="2722320"/>
              <a:ext cx="59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60840" y="2693520"/>
              <a:ext cx="599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54240" y="2826360"/>
              <a:ext cx="599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1320" y="2698200"/>
              <a:ext cx="59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82320" y="2778840"/>
              <a:ext cx="59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41960" y="2674800"/>
              <a:ext cx="599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059280" y="3789360"/>
                <a:ext cx="218736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nμ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κ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к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κ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κ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sSup>
                              <m:e>
                                <m:r>
                                  <m:t xml:space="preserve">κ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κ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κ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…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.СМО с очере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мест в очереди ограниченно числ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истема своб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1 заявка обслужива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вок обслужива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вок  обсуживаю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ами 1 заявка в оч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вок  обсуживаю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вок в оче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796000" y="476280"/>
                <a:ext cx="1476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217440" y="2781360"/>
            <a:ext cx="8717040" cy="1555560"/>
            <a:chOff x="217440" y="2781360"/>
            <a:chExt cx="8717040" cy="1555560"/>
          </a:xfrm>
        </p:grpSpPr>
        <p:sp>
          <p:nvSpPr>
            <p:cNvPr id="462" name=""/>
            <p:cNvSpPr/>
            <p:nvPr/>
          </p:nvSpPr>
          <p:spPr>
            <a:xfrm>
              <a:off x="217440" y="3258720"/>
              <a:ext cx="598320" cy="55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19840" y="3259800"/>
              <a:ext cx="598680" cy="55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19800" y="3242880"/>
              <a:ext cx="598320" cy="55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29800" y="3225600"/>
              <a:ext cx="598680" cy="55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0640" y="3117240"/>
              <a:ext cx="997200" cy="15264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50120" y="3128760"/>
              <a:ext cx="843480" cy="18684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87160" y="3818160"/>
              <a:ext cx="968760" cy="1519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1910160" y="3767040"/>
              <a:ext cx="883440" cy="13464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89680" y="3681360"/>
              <a:ext cx="46152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25520" y="3704400"/>
              <a:ext cx="44460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3950280" y="3082320"/>
              <a:ext cx="504360" cy="2847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 rot="19099200">
              <a:off x="3305880" y="3111480"/>
              <a:ext cx="46116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 rot="19099200">
              <a:off x="4970520" y="3094200"/>
              <a:ext cx="46116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9099200">
              <a:off x="3973680" y="3647160"/>
              <a:ext cx="461520" cy="30168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440" y="278136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95280" y="278136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55480" y="286668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33440" y="3242880"/>
              <a:ext cx="911880" cy="55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n+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42720" y="3692880"/>
              <a:ext cx="44460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7199280" y="3099600"/>
              <a:ext cx="504360" cy="2847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 rot="19099200">
              <a:off x="8430480" y="3094200"/>
              <a:ext cx="46116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9099200">
              <a:off x="7245720" y="3663360"/>
              <a:ext cx="461520" cy="30168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81080" y="280404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11920" y="3225600"/>
              <a:ext cx="598320" cy="55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9200" y="3720600"/>
              <a:ext cx="44460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5478840" y="3082320"/>
              <a:ext cx="504000" cy="2847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 rot="19099200">
              <a:off x="6435720" y="3077280"/>
              <a:ext cx="46116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9099200">
              <a:off x="5524200" y="3646080"/>
              <a:ext cx="461880" cy="3020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76280" y="282672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25520" y="278136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2360" y="278136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42560" y="286668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63720" y="2826720"/>
              <a:ext cx="427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440" y="3863880"/>
              <a:ext cx="5698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95280" y="3863880"/>
              <a:ext cx="684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55480" y="3949560"/>
              <a:ext cx="684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81080" y="3886560"/>
              <a:ext cx="6555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76280" y="3909600"/>
              <a:ext cx="695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25520" y="3863880"/>
              <a:ext cx="5814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8080" y="3949560"/>
              <a:ext cx="6382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42560" y="3949560"/>
              <a:ext cx="6436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63720" y="3909600"/>
              <a:ext cx="6724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484360" y="4292640"/>
                <a:ext cx="352764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явка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череди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тμ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к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æ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МО с очере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личии равномерной взаимопомощи большинство характеристик меняется лучшую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сделать вывод что это вид взаимопомощи предпочтительнее, чем взаимопомощь «все как один». Однако, такая взаимопомощь осуществима не для всех видов С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124000" y="549360"/>
                <a:ext cx="4316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æ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æ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-1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æ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æ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æ-æ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æ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МО с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которых СМО могут иметь место ошибки в обслуживании. В результате чего, некоторые заявки, прошедшие СМО и якобы обслуженные, в действительности остаются не обслуженными из-за брака работы в СМО. Учёт ошибок в разомкнутых и замкнутых СМО производится по 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ОМКНУ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омкнутых СМО появление ошибки в обслуживании практически не сказывается на потоке заявок. Число источников заявок так велико, что интенсивность потока заявок вследствие ошибки практически не меняется. Поэтому для разомкнутых СМО учет ошибок в обслуживании сводится к тому что уменьшается вероятность безошибочного обслу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ругие характеристики ошибки не сказы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МКНУ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ка, обслуженная с ошибкой, вновь становится в очередь на обслуживание и следовательно увеличивает загрузку СМО, поэтому при расчёте таких систем вместо параметра интенсивности μ. Вводится параметр безошибочного обслуживанию рμ. Далее все расчёты СМО с ошибками проводятся по формулам замкнутой системы  с вышеуказанной замен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619280" y="3500280"/>
                <a:ext cx="1547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МО с непуасоновскими потоками собы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856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МО с отказ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ьную СМО с отказами поступает простейший поток заявок с интенсивностью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ремя обслуживания имеет произвольное распреде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но что в данном случае формулы для вероятности состояний для аналогичной СМО типа М/М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 отказами) остаются справедлив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79720" y="1916280"/>
                <a:ext cx="29685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2050920" y="3789360"/>
                <a:ext cx="423720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МО с непуасоновскими потоками собы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дноканальное СМО с ожида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/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меется одноканальное СМО с бесконечной очередью, на её вход поступает  простейший поток заявок с интенсивностью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кон рас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и обслуживания произвольный с мат ожид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коэффициентом вариации обслуж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коэффициент показывает, на сколько велик разброс времени обслуживания, относительно его среднего значения. Доказано, что для одноканальной СМО с постоянным потоком заявок и произвольно распределенным временем обслужи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ы (3) и (4) называются формулами Полячека-Хинч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6516720" y="1557360"/>
                <a:ext cx="719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8172360" y="170028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1260360" y="2125800"/>
                <a:ext cx="863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Об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340000" y="3670200"/>
                <a:ext cx="25192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кнутой называется такая система массового обслуживания, в которой интенсивность потока поступивших заявок, зависит от состояний самой С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ий обслужив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нков, каждый станок в любой момент времени  может выйти из строя и потребовать обслуживания со стороны рабочего. Интенсивность потока неисправности каждого станка равн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шедший из строя станок – останавливается. Если в данный момент рабочий свободен, он берётся за наладку станка  и тратит на это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 в момент выхода станка из строя рабочий занят, станок становится в очередь на обслуживание, и ждёт пока рабочий не освобод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кой СМО источником заявок являются станки, которые имеются в ограниченном количестве и характерной особенностью данной СМО является наличие ограниченного числа источников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476600" y="3575160"/>
                <a:ext cx="984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МО с непуасоновскими потоками собы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856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казательного распредел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случае формулы (3) и (4) превращаются в формулы одноканальной СМО  с бесконечной очередью, которые были выведены ра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случай, ко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случайно, т.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; ν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формулы (3) и (4) 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число заявок в очереди  и среднее время ожидания, при строго постоянном времени обслуживания в двое меньше чем при случайном времени обслуживания распределенном по показательному зак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987640" y="3624120"/>
                <a:ext cx="2952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292720" y="3068640"/>
                <a:ext cx="1042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124000" y="2328840"/>
                <a:ext cx="352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859280" y="620640"/>
                <a:ext cx="12952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t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об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об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8928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99"/>
                </a:solidFill>
                <a:uFillTx/>
                <a:latin typeface="Arial"/>
              </a:rPr>
              <a:t>Приближенное сведение не Марковских процессов к Марковским. Метод псевдосостоя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некоторую систе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который протекает случайный процесс, направляемый не пуассоновскими потоками соб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для этого процесса, уравнение Колмогорова  записать нельзя. Поскольку для Марковской системы мы вычисляли вероятность того что в мом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а будет в состоя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читывая только то, в каком состояний система был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учитывая сколько времени она была в этом состоянии, для не Марковской системы этот приём не пригоден. Вычисляя вероятность перехода из одного состояния в другое за время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учитывать, сколько времени система провела в данном состоянии. Однако в некоторых случаях представляется возможным свести не Марковский процесс к Марковским, а именно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Число состояний системы конеч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тличающиеся от простейших потоки событий, участвующие в задачи,  представляют собой потоки Эрланга . Водя в схему возможных состояний системы, некоторые фиктивные псевдо состояния   удаётся свести не Марковские процессы к Марковским и описать их уравнениями Колмого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8000" y="58680"/>
            <a:ext cx="8928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99"/>
                </a:solidFill>
                <a:uFillTx/>
                <a:latin typeface="Arial"/>
              </a:rPr>
              <a:t>Приближенное сведение не Марковских процессов к Марковским. Метод псевдосостоя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892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на прим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меетс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ехническое устройство, которое может выходить из строя под влиянием простейшего потока неисправностей с интенсивностью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казавшее устройство немедленно начинает восстанавливаться. Время восстановления распределено по закону Эрланга третье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свести не Марковский процесс к Марковскому и найти предельные вероятности состояни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T1+T2+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403280" y="2492280"/>
                <a:ext cx="1873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μ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12" name=""/>
          <p:cNvGrpSpPr/>
          <p:nvPr/>
        </p:nvGrpSpPr>
        <p:grpSpPr>
          <a:xfrm>
            <a:off x="34920" y="3498840"/>
            <a:ext cx="6985080" cy="2729880"/>
            <a:chOff x="34920" y="3498840"/>
            <a:chExt cx="6985080" cy="2729880"/>
          </a:xfrm>
        </p:grpSpPr>
        <p:grpSp>
          <p:nvGrpSpPr>
            <p:cNvPr id="713" name=""/>
            <p:cNvGrpSpPr/>
            <p:nvPr/>
          </p:nvGrpSpPr>
          <p:grpSpPr>
            <a:xfrm>
              <a:off x="34920" y="3498840"/>
              <a:ext cx="6985080" cy="1801800"/>
              <a:chOff x="34920" y="3498840"/>
              <a:chExt cx="6985080" cy="1801800"/>
            </a:xfrm>
          </p:grpSpPr>
          <p:sp>
            <p:nvSpPr>
              <p:cNvPr id="714" name=""/>
              <p:cNvSpPr/>
              <p:nvPr/>
            </p:nvSpPr>
            <p:spPr>
              <a:xfrm>
                <a:off x="34920" y="3498840"/>
                <a:ext cx="6985080" cy="180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8400" y="3897000"/>
                <a:ext cx="460440" cy="39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028240" y="3897000"/>
                <a:ext cx="636120" cy="39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39160" y="4638600"/>
                <a:ext cx="636480" cy="39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080" y="4617720"/>
                <a:ext cx="636120" cy="39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59680" y="4001400"/>
                <a:ext cx="12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867600" y="4181760"/>
                <a:ext cx="119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220480" y="4273920"/>
                <a:ext cx="259560" cy="39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1298880" y="4839840"/>
                <a:ext cx="43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 flipV="1">
                <a:off x="637560" y="4294800"/>
                <a:ext cx="14652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21280" y="4299120"/>
                <a:ext cx="5148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41800" y="4768560"/>
                <a:ext cx="5148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03640" y="4383000"/>
                <a:ext cx="5148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253520" y="3741840"/>
                <a:ext cx="5148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093840" y="4127040"/>
              <a:ext cx="3486240" cy="2101680"/>
              <a:chOff x="3093840" y="4127040"/>
              <a:chExt cx="3486240" cy="2101680"/>
            </a:xfrm>
          </p:grpSpPr>
          <p:sp>
            <p:nvSpPr>
              <p:cNvPr id="729" name=""/>
              <p:cNvSpPr/>
              <p:nvPr/>
            </p:nvSpPr>
            <p:spPr>
              <a:xfrm rot="21394800">
                <a:off x="3153240" y="4161960"/>
                <a:ext cx="1238400" cy="203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42" y="2802"/>
                    </a:moveTo>
                    <a:arcTo wR="10800" hR="10800" stAng="-7933279" swAng="5348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42" y="2802"/>
                    </a:moveTo>
                    <a:arcTo wR="10800" hR="10800" stAng="-7933279" swAng="53485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1444000">
                <a:off x="4012920" y="4163040"/>
                <a:ext cx="1238400" cy="203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42" y="2802"/>
                    </a:moveTo>
                    <a:arcTo wR="10800" hR="10800" stAng="-7933279" swAng="5348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42" y="2802"/>
                    </a:moveTo>
                    <a:arcTo wR="10800" hR="10800" stAng="-7933279" swAng="53485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444000">
                <a:off x="4884120" y="4161240"/>
                <a:ext cx="1238400" cy="203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42" y="2802"/>
                    </a:moveTo>
                    <a:arcTo wR="10800" hR="10800" stAng="-7933279" swAng="5348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42" y="2802"/>
                    </a:moveTo>
                    <a:arcTo wR="10800" hR="10800" stAng="-7933279" swAng="53485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2" name=""/>
              <p:cNvGrpSpPr/>
              <p:nvPr/>
            </p:nvGrpSpPr>
            <p:grpSpPr>
              <a:xfrm>
                <a:off x="3150360" y="4401000"/>
                <a:ext cx="3429720" cy="439560"/>
                <a:chOff x="3150360" y="4401000"/>
                <a:chExt cx="3429720" cy="43956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313440" y="4456080"/>
                  <a:ext cx="28810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552120" y="4417560"/>
                  <a:ext cx="75240" cy="5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795120" y="4401000"/>
                  <a:ext cx="54360" cy="83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138560" y="4413600"/>
                  <a:ext cx="5436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013720" y="4421880"/>
                  <a:ext cx="54360" cy="83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31600" y="4404960"/>
                  <a:ext cx="5436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662000" y="4409280"/>
                  <a:ext cx="5436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298840" y="4409280"/>
                  <a:ext cx="5400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541480" y="4417560"/>
                  <a:ext cx="5436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880600" y="4417560"/>
                  <a:ext cx="5436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301200" y="4404960"/>
                  <a:ext cx="54360" cy="83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50360" y="4438440"/>
                  <a:ext cx="46908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430800" y="4438440"/>
                  <a:ext cx="4687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690720" y="4442760"/>
                  <a:ext cx="46872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079880" y="4417560"/>
                  <a:ext cx="4687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111000" y="4404960"/>
                  <a:ext cx="46908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556000" y="4869000"/>
                <a:ext cx="302400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λ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μ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μ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λ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μ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μ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227640" y="4869000"/>
                <a:ext cx="2808360" cy="18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003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8928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99"/>
                </a:solidFill>
                <a:uFillTx/>
                <a:latin typeface="Arial"/>
              </a:rPr>
              <a:t>Приближенное сведение не Марковских процессов к Марковским. Метод псевдосостоя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ить размеченный граф состояний для одноканальной СМО с очередью из двух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ход поступает простейший поток заявок с интенсивностью λ. Время обслуживания распределено по закону Эрланга 2-го порядка с мат. ожиданием 1/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читая вероятности состояний известными определить вероятности от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20680" y="3156120"/>
            <a:ext cx="4782960" cy="3466080"/>
            <a:chOff x="220680" y="3156120"/>
            <a:chExt cx="4782960" cy="3466080"/>
          </a:xfrm>
        </p:grpSpPr>
        <p:sp>
          <p:nvSpPr>
            <p:cNvPr id="780" name=""/>
            <p:cNvSpPr/>
            <p:nvPr/>
          </p:nvSpPr>
          <p:spPr>
            <a:xfrm>
              <a:off x="522720" y="3760560"/>
              <a:ext cx="36309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1394800">
              <a:off x="317520" y="3284640"/>
              <a:ext cx="1560600" cy="329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1444000">
              <a:off x="1412640" y="3284640"/>
              <a:ext cx="1561320" cy="329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1444000">
              <a:off x="2510640" y="3281400"/>
              <a:ext cx="1560600" cy="329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1394800">
              <a:off x="952560" y="3536280"/>
              <a:ext cx="773280" cy="15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1394800">
              <a:off x="453960" y="3501360"/>
              <a:ext cx="721800" cy="15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42" y="2802"/>
                  </a:moveTo>
                  <a:arcTo wR="10800" hR="10800" stAng="-7933279" swAng="534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42" y="2802"/>
                  </a:moveTo>
                  <a:arcTo wR="10800" hR="10800" stAng="-7933279" swAng="53485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7240" y="3726720"/>
              <a:ext cx="73800" cy="8820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92520" y="3672360"/>
              <a:ext cx="73800" cy="8820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46560" y="3726720"/>
              <a:ext cx="73800" cy="8820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0400" y="3726720"/>
              <a:ext cx="73800" cy="8820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68840" y="3713040"/>
              <a:ext cx="73800" cy="8820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7960" y="3746880"/>
              <a:ext cx="10026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/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02880" y="3651840"/>
              <a:ext cx="10026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/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88520" y="3156120"/>
              <a:ext cx="10026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=1/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01040" y="3651840"/>
              <a:ext cx="10026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3068640"/>
                <a:ext cx="30956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μ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7" name=""/>
          <p:cNvGrpSpPr/>
          <p:nvPr/>
        </p:nvGrpSpPr>
        <p:grpSpPr>
          <a:xfrm>
            <a:off x="395280" y="4437000"/>
            <a:ext cx="8280360" cy="2232000"/>
            <a:chOff x="395280" y="4437000"/>
            <a:chExt cx="8280360" cy="2232000"/>
          </a:xfrm>
        </p:grpSpPr>
        <p:sp>
          <p:nvSpPr>
            <p:cNvPr id="798" name=""/>
            <p:cNvSpPr/>
            <p:nvPr/>
          </p:nvSpPr>
          <p:spPr>
            <a:xfrm>
              <a:off x="395280" y="4437000"/>
              <a:ext cx="828036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07200" y="4714200"/>
              <a:ext cx="697320" cy="56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58080" y="4737240"/>
              <a:ext cx="711360" cy="56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1280" y="4764960"/>
              <a:ext cx="711360" cy="56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97760" y="4820400"/>
              <a:ext cx="711360" cy="56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32520" y="5684760"/>
              <a:ext cx="711360" cy="56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57920" y="5652360"/>
              <a:ext cx="711360" cy="56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24200" y="5666040"/>
              <a:ext cx="711360" cy="56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56280" y="484344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095280" y="482040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37800" y="484344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133000" y="5259600"/>
              <a:ext cx="47124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849840" y="5347440"/>
              <a:ext cx="47124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268240" y="5398200"/>
              <a:ext cx="47124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88160" y="5268600"/>
              <a:ext cx="30276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71160" y="5222520"/>
              <a:ext cx="30276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24200" y="5199480"/>
              <a:ext cx="30276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29480" y="609120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53720" y="615132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5421240"/>
              <a:ext cx="81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58040" y="5157720"/>
              <a:ext cx="81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87560" y="5328720"/>
              <a:ext cx="81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24080" y="5176440"/>
              <a:ext cx="81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66040" y="5231880"/>
              <a:ext cx="8172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26680" y="5213160"/>
              <a:ext cx="8172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67960" y="4566240"/>
              <a:ext cx="8172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81680" y="4561560"/>
              <a:ext cx="81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21480" y="4598640"/>
              <a:ext cx="8172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99120" y="5823360"/>
              <a:ext cx="81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09760" y="5887800"/>
              <a:ext cx="8172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44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состояние СМО, которое включает рабочего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нков, нумеровать состояние такой системы будем по числу неисправных станк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907920"/>
            <a:ext cx="3934800" cy="1231920"/>
            <a:chOff x="4788000" y="907920"/>
            <a:chExt cx="3934800" cy="1231920"/>
          </a:xfrm>
        </p:grpSpPr>
        <p:sp>
          <p:nvSpPr>
            <p:cNvPr id="68" name=""/>
            <p:cNvSpPr/>
            <p:nvPr/>
          </p:nvSpPr>
          <p:spPr>
            <a:xfrm>
              <a:off x="5283000" y="1860480"/>
              <a:ext cx="380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788000" y="907920"/>
              <a:ext cx="3934800" cy="1231920"/>
              <a:chOff x="4788000" y="907920"/>
              <a:chExt cx="3934800" cy="1231920"/>
            </a:xfrm>
          </p:grpSpPr>
          <p:sp>
            <p:nvSpPr>
              <p:cNvPr id="70" name=""/>
              <p:cNvSpPr/>
              <p:nvPr/>
            </p:nvSpPr>
            <p:spPr>
              <a:xfrm>
                <a:off x="4788000" y="1386720"/>
                <a:ext cx="483840" cy="39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3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039800" y="1368720"/>
                <a:ext cx="483840" cy="39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82400" y="1368720"/>
                <a:ext cx="483840" cy="39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 rot="10872600">
                <a:off x="4971240" y="1204560"/>
                <a:ext cx="1134000" cy="4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0727400">
                <a:off x="4971600" y="1507320"/>
                <a:ext cx="113400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85960" y="945720"/>
                <a:ext cx="45072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4480" y="907920"/>
                <a:ext cx="8114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n-1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54800" y="1891080"/>
                <a:ext cx="45072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236080" y="1359720"/>
                <a:ext cx="486720" cy="391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 rot="10872600">
                <a:off x="7371720" y="1191600"/>
                <a:ext cx="1133280" cy="4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7203240" y="1171440"/>
                <a:ext cx="1142280" cy="758520"/>
                <a:chOff x="7203240" y="1171440"/>
                <a:chExt cx="1142280" cy="758520"/>
              </a:xfrm>
            </p:grpSpPr>
            <p:sp>
              <p:nvSpPr>
                <p:cNvPr id="81" name=""/>
                <p:cNvSpPr/>
                <p:nvPr/>
              </p:nvSpPr>
              <p:spPr>
                <a:xfrm flipH="1" rot="10872600">
                  <a:off x="7207200" y="1482840"/>
                  <a:ext cx="1133280" cy="43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04" y="550"/>
                      </a:moveTo>
                      <a:arcTo wR="10800" hR="10800" stAng="-4297801" swAng="39157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04" y="550"/>
                      </a:moveTo>
                      <a:arcTo wR="10800" hR="10800" stAng="-4297801" swAng="391578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flipV="1" rot="10727400">
                  <a:off x="7207200" y="1183320"/>
                  <a:ext cx="1133280" cy="43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0" y="576"/>
                      </a:moveTo>
                      <a:arcTo wR="10800" hR="10800" stAng="-4272242" swAng="38902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0" y="576"/>
                      </a:moveTo>
                      <a:arcTo wR="10800" hR="10800" stAng="-4272242" swAng="389022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8084520" y="1024560"/>
                <a:ext cx="33660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88840" y="1786680"/>
                <a:ext cx="45072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0727400">
                <a:off x="7350840" y="1514520"/>
                <a:ext cx="1133280" cy="4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0872600">
                <a:off x="6132960" y="1177200"/>
                <a:ext cx="113400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0727400">
                <a:off x="6133320" y="1479240"/>
                <a:ext cx="113400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38960" y="907920"/>
                <a:ext cx="8114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n-2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93600" y="1848960"/>
                <a:ext cx="45072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250920" y="2133720"/>
            <a:ext cx="864216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се станки исправны – рабочий свобод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станок неисправен, рабочий занят его налад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станок неисправен, рабочий занят его наладкой, один стоит в очере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се станки неисправны, один налаживается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 стоит в оч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такой систем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1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у переводит поток неисправности всех работающих станк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 состоя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ток неисправносте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) работающих ст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а налево систему переводит поток с интенсивностью 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95280" y="4724280"/>
                <a:ext cx="52563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ρ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абсолютной пропускной способностью будем понимать среднее количество неисправностей исправленных рабочим в единицу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бочий занят, то он ликвидирует μ неисправностей в единицу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ая пропускная 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того, что рабочий будет свобо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работающий станок, порождает поток неисправностей с интенсивностью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СМО в среднем работ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ков, порождаемый ими поток неисправн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эти неисправности устраняются рабочи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1268280"/>
                <a:ext cx="22320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59280" y="1989000"/>
                <a:ext cx="216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59280" y="2708280"/>
                <a:ext cx="2808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воб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11640" y="4944960"/>
                <a:ext cx="6476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5199120"/>
                <a:ext cx="863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734080"/>
                <a:ext cx="2736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&gt;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м среднее число станков ожидающих наладки в очереди. Общее число станков связанных с обслуживанием скалывается из числа станков  в  очереди и числа станков в обслужи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число станков ожидающих обслуживания в оч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потеря производительности группы станков в единицу времени  за счёт неисправ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исправного станка за единицу врем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87320" y="1628640"/>
                <a:ext cx="2673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839880" y="3005280"/>
                <a:ext cx="5734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&gt;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967120" y="4181400"/>
                <a:ext cx="7617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l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игада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служива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се станки работают, рабочие не заня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станок остановился, один рабочий заня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ва станка остановились, два рабочих заня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се станки остановились  все рабочие заня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1 станок остановился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лаживается, один в очере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се станки остановилис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лаживаю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 в оче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имеет в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/M/m/n-m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1280" y="4292640"/>
            <a:ext cx="6913080" cy="1728720"/>
            <a:chOff x="611280" y="4292640"/>
            <a:chExt cx="6913080" cy="1728720"/>
          </a:xfrm>
        </p:grpSpPr>
        <p:sp>
          <p:nvSpPr>
            <p:cNvPr id="163" name=""/>
            <p:cNvSpPr/>
            <p:nvPr/>
          </p:nvSpPr>
          <p:spPr>
            <a:xfrm>
              <a:off x="611280" y="4946400"/>
              <a:ext cx="65952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0640" y="4921920"/>
              <a:ext cx="72324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02760" y="4921920"/>
              <a:ext cx="65952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84040" y="4890240"/>
              <a:ext cx="940320" cy="5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0872600">
              <a:off x="861120" y="4694040"/>
              <a:ext cx="1546560" cy="5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727400">
              <a:off x="861120" y="5111640"/>
              <a:ext cx="1546560" cy="5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0872600">
              <a:off x="2502720" y="4689360"/>
              <a:ext cx="15454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727400">
              <a:off x="2502720" y="5103360"/>
              <a:ext cx="15454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26680" y="4339080"/>
              <a:ext cx="997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n-1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71760" y="4417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n-2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77720" y="5678280"/>
              <a:ext cx="6717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6240" y="5641560"/>
              <a:ext cx="614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273400" y="4662000"/>
              <a:ext cx="1557720" cy="1045440"/>
              <a:chOff x="2273400" y="4662000"/>
              <a:chExt cx="1557720" cy="1045440"/>
            </a:xfrm>
          </p:grpSpPr>
          <p:sp>
            <p:nvSpPr>
              <p:cNvPr id="176" name=""/>
              <p:cNvSpPr/>
              <p:nvPr/>
            </p:nvSpPr>
            <p:spPr>
              <a:xfrm flipH="1" rot="10872600">
                <a:off x="2278800" y="5090760"/>
                <a:ext cx="1545480" cy="60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 rot="10727400">
                <a:off x="2278800" y="4677480"/>
                <a:ext cx="1545480" cy="60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479760" y="5510160"/>
              <a:ext cx="708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39800" y="4909680"/>
              <a:ext cx="1014120" cy="5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m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10872600">
              <a:off x="5811840" y="4623840"/>
              <a:ext cx="15454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582520" y="4595760"/>
              <a:ext cx="1557720" cy="1045440"/>
              <a:chOff x="5582520" y="4595760"/>
              <a:chExt cx="1557720" cy="1045440"/>
            </a:xfrm>
          </p:grpSpPr>
          <p:sp>
            <p:nvSpPr>
              <p:cNvPr id="182" name=""/>
              <p:cNvSpPr/>
              <p:nvPr/>
            </p:nvSpPr>
            <p:spPr>
              <a:xfrm flipH="1" rot="10872600">
                <a:off x="5587920" y="5024520"/>
                <a:ext cx="1545480" cy="60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 rot="10727400">
                <a:off x="5587920" y="4611240"/>
                <a:ext cx="1545480" cy="60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442840" y="4292640"/>
              <a:ext cx="1260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n-m-1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727400">
              <a:off x="5783400" y="5069160"/>
              <a:ext cx="15454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6560" y="4331160"/>
              <a:ext cx="458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ельные вероятности состояний для С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8360" y="1125360"/>
                <a:ext cx="8207280" cy="36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ρ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!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!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68360" y="4869000"/>
                <a:ext cx="80643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522936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е число станков обслуживаемое бригадой в единицу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е число неисправных с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68360" y="5661000"/>
                <a:ext cx="1476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859280" y="5950080"/>
                <a:ext cx="1657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мкнутые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аналогии с (9) найдём число станков в очере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е потеря производительности станков в единицу времени за счёт неиспра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22160" y="1085760"/>
                <a:ext cx="35942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57360" y="2284560"/>
                <a:ext cx="992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l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95280" y="27010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оизводительность исправного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58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истемы массового обслуживания со взаимопомощью между кана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такие СМО, в которых  одна и та же заявка, может обслуживаться двумя или более каналами. Вышедший из строя станок  может обслуживаться сразу двумя рабочими. Такая взаимопомощь может быть как в открытых так и закрытых СМО. Если предположить,  что на заявку работа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лов, то интенсивность потока обслуживания, будет представлять собой некоторую не убывающую фу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ём при некотором значе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итическое, дальнейшее увеличение числа  занятых каналов, уже не повышает интенсивности обслуживания. Для того чтобы проанализировать работу СМО необходимо задаться видом функции μ(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11280" y="4221000"/>
            <a:ext cx="4608360" cy="2303640"/>
            <a:chOff x="611280" y="4221000"/>
            <a:chExt cx="4608360" cy="2303640"/>
          </a:xfrm>
        </p:grpSpPr>
        <p:grpSp>
          <p:nvGrpSpPr>
            <p:cNvPr id="271" name=""/>
            <p:cNvGrpSpPr/>
            <p:nvPr/>
          </p:nvGrpSpPr>
          <p:grpSpPr>
            <a:xfrm>
              <a:off x="611280" y="4221000"/>
              <a:ext cx="4608360" cy="2303640"/>
              <a:chOff x="611280" y="4221000"/>
              <a:chExt cx="4608360" cy="2303640"/>
            </a:xfrm>
          </p:grpSpPr>
          <p:sp>
            <p:nvSpPr>
              <p:cNvPr id="272" name=""/>
              <p:cNvSpPr/>
              <p:nvPr/>
            </p:nvSpPr>
            <p:spPr>
              <a:xfrm>
                <a:off x="611280" y="4221000"/>
                <a:ext cx="4608360" cy="230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58760" y="4364640"/>
                <a:ext cx="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43280" y="6055920"/>
                <a:ext cx="396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58760" y="5169600"/>
                <a:ext cx="3281400" cy="886320"/>
              </a:xfrm>
              <a:custGeom>
                <a:avLst/>
                <a:gdLst/>
                <a:ahLst/>
                <a:rect l="l" t="t" r="r" b="b"/>
                <a:pathLst>
                  <a:path w="2508" h="942">
                    <a:moveTo>
                      <a:pt x="0" y="942"/>
                    </a:moveTo>
                    <a:cubicBezTo>
                      <a:pt x="32" y="786"/>
                      <a:pt x="65" y="630"/>
                      <a:pt x="120" y="510"/>
                    </a:cubicBezTo>
                    <a:cubicBezTo>
                      <a:pt x="175" y="390"/>
                      <a:pt x="267" y="285"/>
                      <a:pt x="330" y="222"/>
                    </a:cubicBezTo>
                    <a:cubicBezTo>
                      <a:pt x="393" y="159"/>
                      <a:pt x="440" y="154"/>
                      <a:pt x="498" y="132"/>
                    </a:cubicBezTo>
                    <a:cubicBezTo>
                      <a:pt x="556" y="110"/>
                      <a:pt x="606" y="105"/>
                      <a:pt x="678" y="90"/>
                    </a:cubicBezTo>
                    <a:cubicBezTo>
                      <a:pt x="750" y="75"/>
                      <a:pt x="845" y="52"/>
                      <a:pt x="930" y="42"/>
                    </a:cubicBezTo>
                    <a:cubicBezTo>
                      <a:pt x="1015" y="32"/>
                      <a:pt x="925" y="37"/>
                      <a:pt x="1188" y="30"/>
                    </a:cubicBezTo>
                    <a:cubicBezTo>
                      <a:pt x="1451" y="23"/>
                      <a:pt x="2283" y="15"/>
                      <a:pt x="250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1058400" y="5152320"/>
                <a:ext cx="328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56000" y="515232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4041720" y="5920560"/>
              <a:ext cx="102060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к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8:06:36Z</dcterms:created>
  <dc:creator>Rustam</dc:creator>
  <dc:description/>
  <dc:language>en-US</dc:language>
  <cp:lastModifiedBy>korobitsin</cp:lastModifiedBy>
  <dcterms:modified xsi:type="dcterms:W3CDTF">2006-11-03T03:16:21Z</dcterms:modified>
  <cp:revision>136</cp:revision>
  <dc:subject/>
  <dc:title>Моделирование</dc:title>
</cp:coreProperties>
</file>