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691-646D-4B3E-A030-34FDF57D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FF6A-E71D-41F0-A503-30778F06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A33-41D8-4ECD-880D-FB9B6D75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42FE-36AF-4BC1-9022-95D744FD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2290-C8C0-488D-A5E1-65F2D0FA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36E-806D-4538-9C3E-F8D86944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6B4-E538-45D6-AA29-422EFA10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0400-59A2-4D6D-B519-2021B456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0F92-51E0-4B8A-BA1A-8A5870DA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92BD-B2E3-4B73-A589-769A043D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FDE-9C1C-42BB-92C2-AC4BE727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9F1-45B8-4EAF-9923-75D41F0E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3124-770B-4AF0-AEE8-08707D866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Лекция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Обработка результатов модел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Интервальные оцен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95280" y="1122480"/>
          <a:ext cx="8353440" cy="54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2480"/>
                    <a:ext cx="8353440" cy="54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Интервальные оцен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0920" y="1255680"/>
          <a:ext cx="8713800" cy="525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255680"/>
                    <a:ext cx="871380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Интервальные оцен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4000" y="1341360"/>
          <a:ext cx="864072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64072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Точечные оцен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39640" y="1405080"/>
          <a:ext cx="7920000" cy="41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05080"/>
                    <a:ext cx="792000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Точечные оцен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4360" y="1300320"/>
          <a:ext cx="7632720" cy="50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00320"/>
                    <a:ext cx="7632720" cy="50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Точечные оцен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5280" y="1403280"/>
          <a:ext cx="8137440" cy="47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03280"/>
                    <a:ext cx="813744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Точечные оцен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5280" y="1200240"/>
          <a:ext cx="8209080" cy="53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00240"/>
                    <a:ext cx="820908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Точечные оцен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9640" y="1209600"/>
          <a:ext cx="8280360" cy="54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09600"/>
                    <a:ext cx="828036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Точечные оцен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50920" y="1262160"/>
          <a:ext cx="8569080" cy="51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262160"/>
                    <a:ext cx="856908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Интервальные оцен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4000" y="1139760"/>
          <a:ext cx="8496000" cy="544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9760"/>
                    <a:ext cx="8496000" cy="54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Интервальные оцен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189080"/>
          <a:ext cx="8642160" cy="53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89080"/>
                    <a:ext cx="8642160" cy="53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4:34:35Z</dcterms:created>
  <dc:creator>Rustam</dc:creator>
  <dc:description/>
  <dc:language>en-US</dc:language>
  <cp:lastModifiedBy>Victor</cp:lastModifiedBy>
  <dcterms:modified xsi:type="dcterms:W3CDTF">2008-12-07T03:39:12Z</dcterms:modified>
  <cp:revision>111</cp:revision>
  <dc:subject/>
  <dc:title>Слайд 1</dc:title>
</cp:coreProperties>
</file>