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04C-E859-4785-A04A-A05984DE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5FB-741C-4B8C-9941-2E50C198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5DE-D498-4E4A-8AB8-35E8265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CDF-E6E8-42AB-BA24-B71D835D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C5F-A63C-482B-AE67-5912558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D4F-2B9B-4F27-B04B-44953AB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ECA-57A2-40BB-87AD-0508B841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F0C-2B2C-4111-A9BD-E457765D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3E3-F05E-43D1-9386-C331D02B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1FD-AF8D-4365-9086-FCE6D5D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B67-684C-431C-9A40-6DAD0C6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9EC-136B-4B02-9F94-E137561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BDF-21E9-4929-969D-16C37286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татистическое моделирование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ные траект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о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ую до того момен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гда в соответствующем агрегате возникает выходной сиг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ующ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зловой мо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уде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t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…,t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тим, что в узловые моменты изменяются состояния лишь некоторых агрегатов. Для них траектор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отменяются», то есть реальные траектории не совпадают с условными, на остальных – траектории «подтверждаются», превращаясь в реальные до следующей узловой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Типовой элемент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ая реализация 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амый важный и трудный этап моделирования. Этот этап облегчается наличием набора простых элементов – элементарных агрег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обеспечение моделирования должно включ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ные подпрограммы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управляющую часть, реализующую действие системы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ментарный агрег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ожет быть наделен следующими свойствами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грега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=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,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множ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≥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юбом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ет число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ое что есл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=i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&g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=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ходной и выходной сигн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грегата имеют ви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мент конечног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случае входа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выхода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-0)=(i,0)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&g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достаточно малых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гд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=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вероятностью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)=i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=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=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вномерная в (0,1) случайная 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ри этом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=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агрега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ылает сигн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΄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ая от предыдущих равномерно распределенная на (0,1) случайная 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тепер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-0)=(i,z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в момен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вход данного агрегат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уп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игнал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k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гд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)=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вероятностью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и фиксированны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j,k,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м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=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x,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В этот момен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ыл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ыходной сигнал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x,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+0)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ая от предыдущих равномерно распределенная на (0,1) случайная 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так, элементарный агрегат осуществля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оятностно-автономное преобраз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способен также к задержке сигналов на время, определенное его состоя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ментарного агрегата включает задание функций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 индексами. Если эти функции всегда принадлежат конечному множеству, то в описание данного агрегата можно вместо этого включи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д соответствующей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Если функци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вторые компоненты функций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нейны, то идентификация упрощается: достаточ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определяющие эти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Интерпретация элементов систем массов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служивающий при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истемы с постоянной скоростью можно интерпретировать двумя способами в зависимости от того, задается ли время обслуживания внешними сигналами или реализуется в самом приб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 случа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элемент принимает сигнал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ип требовани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ремя его обслуживания, и через врем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 этого сигнала выдает сигн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(i)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полагается, что по сигналу определяется прибор, на который поступает требование, сигнал служит также отчетом для накопления стат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 2 случа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ходной сигнал имеет ви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этому сигналу реализуется случайная величин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ом – тоже самое, с замен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i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требов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нтерпретируется элементом предыдущего типа с обратной связью: выходной сигнал пуст, помимо адреса, куда поступает требование, на вход эле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получаем источник, вырабатывающий разнотипные требования в моменты переходов полумарков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075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служивающий прибор с переменной скоростью и возможным прерыванием обслуж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нтерпретируется элементом, наделенными теми же функциями, что и выше, со следующей модификацией. 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ип обслуж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точную рабо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ывает во времени со скоростью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ходной сигнал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k,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 поступление нового требования. В зависимости от пар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яется «судьба» обои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обслуживание не прерывается, состояние элемента не меняется, а сигнал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k,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авлен по определенному адресу, при необходимости приобретая призна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ротив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чае новое требование остается, состояние элемента буде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k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ылается сигнал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z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 адресу другого при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сто дл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лемент памяти, содержащий информацию вид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чественный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енный признак требования. По сигналу извне содержащаяся в элементе информация отправляется по указанному адресу, зависящему о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 чего может заменяться новой информацией, содержащейся в сигнале, или сохраняется в прежне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объект, характеризующийся в общем случае вектор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ип требовани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величина работы, необходимой для его обслуживания. Таким образом, состояние прибора есть состояние находящегося в нем треб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терпеливое» треб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 ограниченным временем ожидания характеризуется вектор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е остаточное время обслуживани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точное допустимое время 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075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ная интерпретация моделей систем массового обслуживания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м принципа постро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истем модел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подход позволяет представи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ее устрой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оделирующих программ, где разные модели могут быть реализованы с помощью кодов элементарных агрег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Элементы метода Монте-Карл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507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Монте-Карло состоит в использовании случайных испытаний при решении вычислительн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сточник случайности» (ДСЧ): формирует последовательность с.ч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мерно распределенных на интервале (0,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ую функцию представляем вероятностной характеристикой случай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Элементы метода Монте-Карл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507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араметр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т случайный процес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 ч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f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лее строят реализацию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зависимости от набора незав. с.в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t)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яв с ДСЧ значения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лучим реализацию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случайные величины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Эксперимент можно произв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. В каждой реализации используют новые сл.ч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й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…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закону больших чисел оценк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…+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ходится к оцениваемой величин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ероятности п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∞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достаточно большой реализ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дет служить оценк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 сколь угодно высокой точностью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{|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|&gt;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&lt;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а оценка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мещ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и есл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·))&lt;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она такж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тически нормаль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грешность оценки величины по методу Монте-Карло имеет порядок 1/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тистические задачи, связанные с моделиров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, связанные с обработкой статистически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ор длины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цесса и числа повторений реализаций при оценке показ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вре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хождения системы в стационарный режим при оценке стационарных характерис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ор стат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служащей оценкой пара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в случае систе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оятность потери требования равны доле времени, на протяжении которого все приборы заняты. Поэтому две конкурирующие статистики: относительное число потерянных требований из первы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относительное время занятости всех приборов в интервале данной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щие принципы моделирования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дель системы обычно строится целенаправленно, то есть заранее ставится задача исследования определенных показателей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роверки соответствия системы ее предназна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и различных показателей эффектив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учения ее поведения в заданной сре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скрытие возможных аварийных ситу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и структуры системы и е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стая или сложная модель: нужно учесть основные факторы и отбросить несуществ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следуя сложную реальную систему, обычно составляют не одну, а целый набор моделей, раскрывающих разные стороны изучаемого о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Блочный принцип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каждый из которых допускает построения соответствующей ему модел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я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жду блоками схематизируют взаимодействия одних блоков на друг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аждого блока включает внутренние и внешние по отношению к нему фа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ж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ставляется из агрег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грег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изуется внутренним состоянием – функцией време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ейся как случайный процесс. Агрегат наделен способностью посылать сигнал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акже принимать сигнал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ый сигнал передается мгновенно, в интервалах между поступлением сигналов на вход данного агрегата его функционирование происходит автономно (независимо от других агрега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 передачи сигналов между агрегатами упрощает построение модели: «непрерывные» сигналы могут образовывать сложные обратные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дель действия агрегата управляется двумя операторам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ование, связанное с поступлением входного сигн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автономное действие агрег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добно представлять сигналы, выходящие из агрегата, в виде адресной и содержательной ча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Кусочно-линейные агрег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оператор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сочно-линейный марковский проц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=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,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размерность вектора дополнительных компонент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общем случае зависит от состояния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ходной сигнал посылается в момент, когда некоторая дополнительн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а обращается в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является функцией остальных компонент в этот момент времени. До тех пор, пока входные сигналы не поступают и все дополнительные компоненты остаются положительны, эти компоненты изменяю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линейному зако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система состоит и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грегатов. Состоянием такой системы буде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=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,…,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 агрегата. Предположим, что сигналы поступают только от одних агрегатов к другим, но не извне системы. Тогда вся система будет эквивалентна агрегату с более широким пространством состо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оделирование систем массового обслуж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аекто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цесс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тся путем перехода от узлового момен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следующему момен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интервал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компонента процесс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стается неизменной, а дополнительные изменяются по линейному закону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х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(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так: в момент време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ращается в 0 некоторая дополнительная компонента какого-либо агрег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оператор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яется его 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момен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акж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ходной сигн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если они возник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уя по адресу(ам) этого сигнала, преобразуем состояния агрегатов, на которые он поступил. Этот процесс может быть продолжен. При корректном построении модели бесконечного накопления сигналов в один и тот же момент времени не возникает, и мы приходим к состоянию в момен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4:34:35Z</dcterms:created>
  <dc:creator>Rustam</dc:creator>
  <dc:description/>
  <dc:language>en-US</dc:language>
  <cp:lastModifiedBy>Victor</cp:lastModifiedBy>
  <dcterms:modified xsi:type="dcterms:W3CDTF">2008-12-07T03:39:18Z</dcterms:modified>
  <cp:revision>103</cp:revision>
  <dc:subject/>
  <dc:title>Слайд 1</dc:title>
</cp:coreProperties>
</file>