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718-1561-48EB-AD20-3CD56AC3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725-A5A4-432D-BEE9-B4E6A172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F14-A3BF-45B4-92BB-65D61B36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093-B8DF-4275-AA1B-6E976E7F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4E1-1883-4C8D-AEBF-BB1F59E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48C-9EF6-4E0B-8673-E2FC7F3F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2EC-B148-409C-AFFE-7CEB8A10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169-C539-4C5E-8AB3-8E544978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05A-1ECC-4F03-8372-7DAC90A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D49-425F-4CCE-8FA4-C6B670F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41E-7E23-4603-B157-DC2AF94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A48-B740-46CA-BADC-54A73B5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AD9-EDB0-4F9D-9B0F-220DCDDB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онте-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99"/>
                </a:solidFill>
                <a:uFillTx/>
                <a:latin typeface="Arial"/>
              </a:rPr>
              <a:t>Метод статистических испытаний Монте-Карл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т метод применяется в тех случаях, когда построение аналитической модели является затрудн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место того чтобы описывать случайные явления с помощью аналитических зависимостей, производится розыгрыш, т.е. моделирования случайного явления с помощью специально процедуры, дающей случайный результат в результат розыгрыша получается одна реализация случайного явления. Произведя такой розыгрыш большое число раз, можно получить статистический материал, который обрабатывается обычными мат. статистики. Большое число реализаций, требующейся при применении метода Монте-Карло, делает его достаточно трудоёмк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я метода Монте-Карло для анализа СМ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85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рассматривается начальный, не стационарный период системы, то моделирование производится обычным способом, т.е. разыгрывается множество реализаций процесса, и вероятностные характеристики находятся обработкой опытного материала, как статистически средний по множеству реализ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изучении установившегося режима функционирования системы модно пользоваться не множеством, а одной достаточно сложной реализаци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этом вероятностные характеристики случайного процесса  могут быть получены, как средние по времени для одной достаточно длинной реализ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этом процесс должен обладать Эргодическим свойством, т.е. система должна иметь возможность перейти из каждого состояния, через какое-то число шагов и предельный режим не зависит от начальных условий и первоначального периода работы систем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я метода Монте-Карло для анализа СМ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усть имеется двухканальное СМО с очеред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 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3 Заявка пришедшая в момент, когда все места в очереди заняты – получает отказ, поток заявок пальмовский, т.е. интервалы времени между заявками представляют собой независимые случайные величины, распределённые по одному и  тому же показательному закон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. Время обслуживания одной заявки, так же случайная величина. Распределённая по непоказательному закону φ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требуется, располагая одной достаточно длинной реализацией метода Монте-Карло приближенно оценить предельные характеристики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 состояний для такой системы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истема является Эргодичной, поэтому моделирование по одной реализации возможно. Предположим, что в начальный момент времени 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находитс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4149720"/>
            <a:ext cx="8353440" cy="903240"/>
            <a:chOff x="539640" y="4149720"/>
            <a:chExt cx="8353440" cy="903240"/>
          </a:xfrm>
        </p:grpSpPr>
        <p:sp>
          <p:nvSpPr>
            <p:cNvPr id="119" name=""/>
            <p:cNvSpPr/>
            <p:nvPr/>
          </p:nvSpPr>
          <p:spPr>
            <a:xfrm>
              <a:off x="539640" y="4149720"/>
              <a:ext cx="8353440" cy="90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92120" y="4347000"/>
              <a:ext cx="518040" cy="49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75960" y="44460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751480" y="471744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7080" y="4361760"/>
              <a:ext cx="518040" cy="49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0920" y="44604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556080" y="473220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45960" y="4371840"/>
              <a:ext cx="518400" cy="49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29800" y="447048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405320" y="474192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5480" y="4361760"/>
              <a:ext cx="518400" cy="49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44604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44480" y="473220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4640" y="4347000"/>
              <a:ext cx="518040" cy="49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8480" y="44460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084000" y="471744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63800" y="4347000"/>
              <a:ext cx="518040" cy="49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я метода Монте-Карло для анализа СМ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ование начинается с того, что на оси времени разыгрывается поток заявок. Розыгрыш производится следующим способом: строится функция распределения случайной велич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рвала между зая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λ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лотность распределения случайной 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ыгрываются значения случайных велич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следующей процедуре. Получи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н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0 до 1 и в качест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ерётся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на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спределена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ьному зак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аданной плотности строим функцию распре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9640" y="1557360"/>
                <a:ext cx="1656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292720" y="2565360"/>
                <a:ext cx="266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250920" y="2565360"/>
            <a:ext cx="4411080" cy="2693520"/>
            <a:chOff x="250920" y="2565360"/>
            <a:chExt cx="4411080" cy="2693520"/>
          </a:xfrm>
        </p:grpSpPr>
        <p:sp>
          <p:nvSpPr>
            <p:cNvPr id="165" name=""/>
            <p:cNvSpPr/>
            <p:nvPr/>
          </p:nvSpPr>
          <p:spPr>
            <a:xfrm>
              <a:off x="250920" y="2565360"/>
              <a:ext cx="3384360" cy="22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560" y="385704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172520" y="3860640"/>
              <a:ext cx="0" cy="57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2360" y="2746800"/>
              <a:ext cx="5943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02240" y="4426200"/>
              <a:ext cx="5943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320" y="3754440"/>
              <a:ext cx="5943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47920" y="2745000"/>
              <a:ext cx="0" cy="18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960" y="4434120"/>
              <a:ext cx="30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7920" y="3608280"/>
              <a:ext cx="4114080" cy="165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64360" y="4014720"/>
                <a:ext cx="1152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я метода Монте-Карло для анализа СМ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ой и второй оси отображаются состояния первого и второго канала, на осях 3,4,5,6 изображаются состояния первого, второго и третьего места в очереди. В мом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ходит первая заявка и занимает 1-й канал. Сколько времени он занят решается розыгрыш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разыгранн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откладывается на оси (1) В мом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прихода 2-й заявки первый канал еще занят, поэтому заявку принимает второй ка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ыгрываем еще одно значение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ка 3 приходит в момент когда все каналы заняты, поэтому занимает место в очереди и жд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1763640"/>
            <a:ext cx="7632360" cy="3586320"/>
            <a:chOff x="324000" y="1763640"/>
            <a:chExt cx="7632360" cy="3586320"/>
          </a:xfrm>
        </p:grpSpPr>
        <p:sp>
          <p:nvSpPr>
            <p:cNvPr id="202" name=""/>
            <p:cNvSpPr/>
            <p:nvPr/>
          </p:nvSpPr>
          <p:spPr>
            <a:xfrm rot="21444000">
              <a:off x="966240" y="1805040"/>
              <a:ext cx="111708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1444000">
              <a:off x="1752480" y="1803240"/>
              <a:ext cx="111816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00" y="2054520"/>
              <a:ext cx="5256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8480" y="2054520"/>
              <a:ext cx="5256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66240" y="2054520"/>
              <a:ext cx="5256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59680" y="2047320"/>
              <a:ext cx="5328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38760" y="2096640"/>
              <a:ext cx="7617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1394800">
              <a:off x="2560320" y="1794960"/>
              <a:ext cx="1118160" cy="186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1444000">
              <a:off x="3345840" y="1805040"/>
              <a:ext cx="111816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444000">
              <a:off x="4132800" y="1803240"/>
              <a:ext cx="111780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63560" y="2047320"/>
              <a:ext cx="5256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53760" y="2060640"/>
              <a:ext cx="5256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38760" y="2595960"/>
              <a:ext cx="754380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394800">
              <a:off x="522360" y="2264040"/>
              <a:ext cx="363816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93014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93014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1444000">
              <a:off x="5998680" y="2333880"/>
              <a:ext cx="111780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1444000">
              <a:off x="6788880" y="2333880"/>
              <a:ext cx="111708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00160" y="2115360"/>
              <a:ext cx="0" cy="4435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0920" y="2558160"/>
              <a:ext cx="52560" cy="500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94680" y="2059920"/>
              <a:ext cx="0" cy="11275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9560" y="2096640"/>
              <a:ext cx="0" cy="1681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84080" y="2078280"/>
              <a:ext cx="0" cy="17190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8960" y="2115360"/>
              <a:ext cx="0" cy="16632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0480" y="2085120"/>
              <a:ext cx="0" cy="2329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48920" y="2115360"/>
              <a:ext cx="720" cy="29412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44520" y="2059920"/>
              <a:ext cx="720" cy="29772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200" y="3192480"/>
              <a:ext cx="75243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78200" y="2608560"/>
              <a:ext cx="272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1394800">
              <a:off x="1682640" y="2911680"/>
              <a:ext cx="166608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52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52284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394800">
              <a:off x="2465640" y="2883240"/>
              <a:ext cx="4376160" cy="167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609899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609899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1444000">
              <a:off x="6281280" y="2893320"/>
              <a:ext cx="158400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2"/>
                  </a:moveTo>
                  <a:arcTo wR="10800" hR="10800" stAng="-8090229" swAng="5505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2"/>
                  </a:moveTo>
                  <a:arcTo wR="10800" hR="10800" stAng="-8090229" swAng="550553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1444000">
              <a:off x="4943160" y="1822320"/>
              <a:ext cx="111780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1394800">
              <a:off x="3567240" y="2192760"/>
              <a:ext cx="279576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8" y="3916"/>
                  </a:moveTo>
                  <a:arcTo wR="10800" hR="10800" stAng="-8423990" swAng="6618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8" y="3916"/>
                  </a:moveTo>
                  <a:arcTo wR="10800" hR="10800" stAng="-8423990" swAng="661864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080" y="3763080"/>
              <a:ext cx="74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14360" y="3197160"/>
              <a:ext cx="0" cy="5727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35080" y="2577240"/>
              <a:ext cx="0" cy="12013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40080" y="2595960"/>
              <a:ext cx="1800" cy="1799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800" y="4388760"/>
              <a:ext cx="74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800" y="5054400"/>
              <a:ext cx="74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0800" y="3189960"/>
              <a:ext cx="125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8840" y="3781440"/>
              <a:ext cx="44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92720" y="3763080"/>
              <a:ext cx="33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76800" y="3761640"/>
              <a:ext cx="306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08760" y="4391280"/>
              <a:ext cx="1841400" cy="1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1444000">
              <a:off x="5726160" y="1832760"/>
              <a:ext cx="1117800" cy="18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61000" y="2613240"/>
              <a:ext cx="229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8000" y="3187440"/>
              <a:ext cx="339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98720" y="3183480"/>
              <a:ext cx="1140480" cy="1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61160" y="5049000"/>
              <a:ext cx="78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34280" y="2109960"/>
              <a:ext cx="3960" cy="16318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06800" y="259740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78000" y="318744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72000" y="377748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96680" y="375768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47080" y="371016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78680" y="435204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5600" y="502920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80880" y="436392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69960" y="372204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24520" y="281880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81720" y="279936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77880" y="282672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320" y="218520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6120" y="213768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64080" y="2284200"/>
              <a:ext cx="324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76880" y="2292120"/>
              <a:ext cx="324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я метода Монте-Карло для анализа СМ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моделирование ситуации продолжается достаточно долго, и начальные условия перестают сказываться. Определим вероятностные характеристики: разделим всю ось времени на уча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м вероятность того что в очереди находится одна две или три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ваем большой участок време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, где в очереди находятся 0,1,2,3 зая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м длины всех одинаково помеченных участков  и получаем соответствующие вероя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1628640"/>
                <a:ext cx="17701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50920" y="3933720"/>
                <a:ext cx="11523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427640" y="4541760"/>
                <a:ext cx="649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3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4000" y="5734080"/>
                <a:ext cx="259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я метода Монте-Карло для анализа СМ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м средние число занятых ка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+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се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дсчитываем сумму времён ожидания заявки 3,4,5 если она стояла в очереди. Обозначаем эту сумму следующим образ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е время ожидания заявки в очереди находится как средние арифме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отказа находится на большом участке време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отношение числа заявок, получивших отказ к общему числу заявок поступивших за это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4000" y="1125360"/>
                <a:ext cx="3311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451640" y="2421000"/>
                <a:ext cx="576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27280" y="3284640"/>
                <a:ext cx="1800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8:06:36Z</dcterms:created>
  <dc:creator>Rustam</dc:creator>
  <dc:description/>
  <dc:language>en-US</dc:language>
  <cp:lastModifiedBy>korobitsin</cp:lastModifiedBy>
  <dcterms:modified xsi:type="dcterms:W3CDTF">2006-11-03T03:53:53Z</dcterms:modified>
  <cp:revision>151</cp:revision>
  <dc:subject/>
  <dc:title>Моделирование</dc:title>
</cp:coreProperties>
</file>