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245-1D28-4FBB-A16A-5B02FC40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35C-1DE4-496B-814B-25F9333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A03-F0EA-4315-8952-5D89224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8FB-423A-4E41-8542-C65113B8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256-B82D-4673-A65A-C2C6D375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9DA-DEF5-421E-8862-2EA04F6E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0EA-8E0A-463F-BB79-BFFC02F7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FAD-8471-402E-A6B2-A9631E84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E40-A71A-4412-AC16-496DBC1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B79-4698-4590-8966-9E4BF48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363-13AB-4744-B4FC-AD7B978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76E-1526-4602-844F-6FF1B7D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36AC-C5F0-4549-9689-58071AA85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енерация случай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лучайной величины. Воспроизведение вероятностной 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енер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1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равномерны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/(1-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2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формирова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3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ln 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95280" y="1052640"/>
                <a:ext cx="712800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аспределение Эрланга с параметрами 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и r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U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U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Нормальное 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24000" y="738360"/>
                <a:ext cx="8604000" cy="594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Известно, что сумма n одинаково и независимо распределенны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учайных величин с математическим ожиданием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и дисперсией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 </m:t>
                        </m:r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стремится к нормальному распределению с параметрами 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мер:  для равномерно распределенных на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случайных величин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распределена приближенно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ормально с математическим ожиданием 0 и дисперсией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ля величины с мате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ожиданием равным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откл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равным </m:t>
                        </m:r>
                        <m:r>
                          <m:t xml:space="preserve">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меем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σ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Более эффективный метод 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е Рел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1520" y="692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пары нормально распределенных случайных величин с помощью равномерных используют распределение Рел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распределение описывает радиальное отклонение точки попадания от центра прицеливания при равных дисперсиях по ося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етод Бокса и Мюлле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Wcos(2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Wsin(2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9640" y="4437000"/>
                <a:ext cx="2303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лгоритм Марс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5559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1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формировать равномерны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;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2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=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3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4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= sqrt(-2*lnS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 5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W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W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=1-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4≈0,215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ятность отбрас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числа принимаются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sqrt(S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sqrt(S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грают 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Генерация пары коррелированны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0920" y="836640"/>
                <a:ext cx="8497800" cy="393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 нужна пара случайных величин X и Y таких, что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эффициент корреляции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, и соответсвующие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атематические ожидания x,y и дисперсии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,  то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ρ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учайное число, распределенное по стандартном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ормальному закону </m:t>
                        </m:r>
                        <m:r>
                          <m:t xml:space="preserve">(</m:t>
                        </m:r>
                        <m:r>
                          <m:t xml:space="preserve">Mη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σ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хема получения случай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требуемого распределения необходимо два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случайных чисе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спределенных равномерно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ереход о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их требуемое распредел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енерация равномерного рас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геров со счетным входом, каждый из которых регистрирует независимый поток импуль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и появления 0 или 1 в одном разряде различаются на величи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∆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интенсивность потока импуль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 обрат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703440"/>
            <a:ext cx="84358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U - случайная величина,равномерно распределенная на [0,1]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 =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560" y="4581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60480" y="285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336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0480" y="364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284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560" y="3429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7200" y="457524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960480" y="3355560"/>
            <a:ext cx="2736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5000" y="31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5000" y="4573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2560" y="3406680"/>
            <a:ext cx="2682720" cy="1158840"/>
          </a:xfrm>
          <a:custGeom>
            <a:avLst/>
            <a:gdLst/>
            <a:ahLst/>
            <a:rect l="l" t="t" r="r" b="b"/>
            <a:pathLst>
              <a:path w="1690" h="730">
                <a:moveTo>
                  <a:pt x="0" y="730"/>
                </a:moveTo>
                <a:cubicBezTo>
                  <a:pt x="64" y="686"/>
                  <a:pt x="34" y="699"/>
                  <a:pt x="85" y="683"/>
                </a:cubicBezTo>
                <a:cubicBezTo>
                  <a:pt x="128" y="618"/>
                  <a:pt x="100" y="633"/>
                  <a:pt x="151" y="617"/>
                </a:cubicBezTo>
                <a:cubicBezTo>
                  <a:pt x="179" y="575"/>
                  <a:pt x="211" y="575"/>
                  <a:pt x="254" y="560"/>
                </a:cubicBezTo>
                <a:cubicBezTo>
                  <a:pt x="301" y="514"/>
                  <a:pt x="313" y="468"/>
                  <a:pt x="377" y="447"/>
                </a:cubicBezTo>
                <a:cubicBezTo>
                  <a:pt x="420" y="405"/>
                  <a:pt x="393" y="424"/>
                  <a:pt x="462" y="400"/>
                </a:cubicBezTo>
                <a:cubicBezTo>
                  <a:pt x="472" y="397"/>
                  <a:pt x="491" y="390"/>
                  <a:pt x="491" y="390"/>
                </a:cubicBezTo>
                <a:cubicBezTo>
                  <a:pt x="509" y="362"/>
                  <a:pt x="510" y="356"/>
                  <a:pt x="538" y="334"/>
                </a:cubicBezTo>
                <a:cubicBezTo>
                  <a:pt x="556" y="320"/>
                  <a:pt x="594" y="296"/>
                  <a:pt x="594" y="296"/>
                </a:cubicBezTo>
                <a:cubicBezTo>
                  <a:pt x="616" y="264"/>
                  <a:pt x="638" y="242"/>
                  <a:pt x="670" y="220"/>
                </a:cubicBezTo>
                <a:cubicBezTo>
                  <a:pt x="747" y="107"/>
                  <a:pt x="749" y="128"/>
                  <a:pt x="906" y="116"/>
                </a:cubicBezTo>
                <a:cubicBezTo>
                  <a:pt x="1086" y="59"/>
                  <a:pt x="1186" y="58"/>
                  <a:pt x="1397" y="50"/>
                </a:cubicBezTo>
                <a:cubicBezTo>
                  <a:pt x="1422" y="42"/>
                  <a:pt x="1448" y="40"/>
                  <a:pt x="1473" y="31"/>
                </a:cubicBezTo>
                <a:cubicBezTo>
                  <a:pt x="1499" y="21"/>
                  <a:pt x="1499" y="5"/>
                  <a:pt x="1529" y="3"/>
                </a:cubicBezTo>
                <a:cubicBezTo>
                  <a:pt x="1583" y="0"/>
                  <a:pt x="1636" y="3"/>
                  <a:pt x="1690" y="3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 обратн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68360" y="1500120"/>
                <a:ext cx="7559640" cy="362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Экспоненциальное распределение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амена: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так же равномерно  распределена на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как и 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едставим U в виде  </m:t>
                        </m:r>
                        <m:r>
                          <m:rPr>
                            <m:lit/>
                            <m:nor/>
                          </m:rPr>
                          <m:t xml:space="preserve">U=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Тогда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  <m:r>
                          <m:rPr>
                            <m:lit/>
                            <m:nor/>
                          </m:rPr>
                          <m:t xml:space="preserve"> можн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ычислить как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U=-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-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9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91</m:t>
                        </m:r>
                        <m:r>
                          <m:rPr>
                            <m:lit/>
                            <m:nor/>
                          </m:rPr>
                          <m:t xml:space="preserve">m-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9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 погрешностью не превышающей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днако нужно учитывать что все равномерно сгенерированные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а на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имеют ненулевую вероятность, что U=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 обратн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8360" y="1262160"/>
                <a:ext cx="7559640" cy="40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спределение Релея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спределение Вейбулла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k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спределение Коши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 обратн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1280" y="692280"/>
                <a:ext cx="6408720" cy="57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Логистическое распределение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хождение max и mi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реугольное распределение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спределение Парето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57720"/>
            <a:ext cx="86421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е и Ивэнс предложили аппроксимацию нормального рас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коэффициенты многочленов A(t) и B(t) при соответствующих степенях t даны в таблице. Применяется для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U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ая аппроксимация g(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30753+0.27061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(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0.99229 t + 0.04481 t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U'=max{U;1-U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грешностью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ппроксимация обрат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ахождения случайных чисел с заданым распределением необходимо решить уравнение, которое зачастую решается итерационно, в этом случае лучше использовать приближенные табличные методы. Наиболее распространена к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очно-линейная аппроксим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тной функции распределения. Строится кусочно-линейная функция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(U) = 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43280" y="3789360"/>
                <a:ext cx="4608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156360" y="5721480"/>
                <a:ext cx="2448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Дискретн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ормирования дискретного распределения непрерывная функция заменяется ступенч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700280"/>
          <a:ext cx="8280000" cy="452556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69640"/>
                <a:gridCol w="207036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аспред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асс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i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и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p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-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&lt;i&lt;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биноми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1,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+1-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p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+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арифмический 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&lt;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θ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iln(1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&lt;p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1-p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 последовательных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3628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метод является аналогом метода обратной функции и заключается в переборе X, пока не окаж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пределение Пуас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аг 1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0; b=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S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аг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формировать равномерно распределенну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аг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&gt;S { x=x+1; b=b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x; S=S+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аг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нуть зна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= b*(n-x)/(x+1)*p/(1-p)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иномиаль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= b*(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)/(i+1)*p*(1-p)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рицательное бином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= b*(1-p)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еометрическ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40000" y="1628640"/>
                <a:ext cx="54054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  <m:r>
                          <m:t xml:space="preserve">≤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rPr>
                            <m:lit/>
                            <m:nor/>
                          </m:rPr>
                          <m:t xml:space="preserve">ïðè ýòîì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4:34:35Z</dcterms:created>
  <dc:creator>Rustam</dc:creator>
  <dc:description/>
  <dc:language>en-US</dc:language>
  <cp:lastModifiedBy>julivic</cp:lastModifiedBy>
  <dcterms:modified xsi:type="dcterms:W3CDTF">2006-10-05T11:13:44Z</dcterms:modified>
  <cp:revision>32</cp:revision>
  <dc:subject/>
  <dc:title>Слайд 1</dc:title>
</cp:coreProperties>
</file>