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6DFF-9219-4BED-A3CB-36CE13147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3B21-6F20-4514-9681-4C6B52E9B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F036-9110-41E2-8AA8-DFEB3ABE0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D084-B496-4423-A974-5B124B56F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608A-CBA1-4BBE-BDE9-6FD64EAA9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D85A-D329-48BB-94FF-988E57CAC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CE4E-C745-434C-8A12-CDB940BB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B027-CA6A-4AE8-B6EF-0D9B17EDA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FCF7-2F10-488A-A089-2D72849B0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02E3-443B-4CCB-B4A1-BE1595F0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3419-F116-4C96-A4DB-72067EFE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9677-266E-4DBB-A2A3-5D5AD7EE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E5BD5-DF14-4C7B-B27A-DD792E586B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3300"/>
                </a:solidFill>
                <a:uFillTx/>
                <a:latin typeface="Arial"/>
              </a:rPr>
              <a:t>Моделир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95280" y="278136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Лекция 3</a:t>
            </a:r>
            <a:br>
              <a:rPr sz="3200"/>
            </a:b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Описание языка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GP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GPSS-</a:t>
            </a:r>
            <a:r>
              <a:rPr b="0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бло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рка сущностей и изменение направления потока транза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ATE SNE    MotorPool,CupboardIsB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ATE FV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ar,GoA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ER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мещение на специальный бл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TRANSFER    ,New_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TRANSFER    .75,,New_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ANSFER    BOTH,First_Place,Second_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ANSFER    ALL,First_Place,Last_Place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оверка арифметических условий и изменение потока транза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EST G    C1,7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EST G    Q$Teller1_Line,Q$Teller2_Line,Telle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ньшение параметра и переход на блок, если результат не равен нулю (цик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OP    Customer_Count,Start_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GPSS-</a:t>
            </a:r>
            <a:r>
              <a:rPr b="0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бло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528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CE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ещение транзакта в цб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ADVANCE    101.6,50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ение параметров транзак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ASSIGN    2000,150.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ASSIGN    2000+,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X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зменение параметра 1 транза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DEX    2,11.7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  11.7+P2-&gt;P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ещение количества сущностей в параметры транза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  SF    FullCount,Warehouse1,Warehouse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мещение номера выделенного объекта в параметр транза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Bin1 STORAGE    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Bin2 STORAGE    1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Bin3 STORAGE    1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SELECT SNF,3,Bin1,Bin3,,,No_Ro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GPSS-</a:t>
            </a:r>
            <a:r>
              <a:rPr b="0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бло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50472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LIT 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оздание связанного транза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PLIT     3,Pro,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MBLE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жидание и уничтожение связанных транзак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SSEMBLE 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THER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жидание связанных транзакто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ATHER 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CH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лок синхрон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_Is_Done  MATCH    B_Is_D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_Is_Done  MATCH    A_Is_D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OPT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менение номера ансамб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ADOPT   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GPSS-</a:t>
            </a:r>
            <a:r>
              <a:rPr b="0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бло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50472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ициализация потока данны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OPEN    (“MYFILE.TXT”),2,Error_Bl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ылка значения в поток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RITE    “New Line 20”,1,D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зятие очередной строки из потока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AD    Text_Parm,1,D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K 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зменение указателя строки в потоке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EK    20,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рытие потока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OSE    Error_Parm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GPSS-</a:t>
            </a:r>
            <a:r>
              <a:rPr b="0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бло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IC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менение логического ключ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IC  S    Power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мещение системного времени в параметр транза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ARK    Begi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BULATE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новление табл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ABULATE    S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E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ка активного транзакта индикатором сле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TRACE 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ыключение индикатора сле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US 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ычислени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US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ра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LUS (normal(2,100,2)+100.26),Result_Pa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Операторы, используемые в выражен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^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ведение в степен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нож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\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очисленное де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@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таток от д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чита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лож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GE’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ьше либо рав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= (‘LE’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ньше либо рав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(‘G’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ьш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 (‘L’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ньш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(‘E’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в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(‘NE’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рав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 (‘NOT’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огическое отриц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amp; (‘AND’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онъюнкц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  (‘OR’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зъюнк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Библиотечные математические функ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 (A)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дуль чис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N (A)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арктанген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 (A) 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син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 (A)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тепен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(A)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ая ч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(A)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туральный логариф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 (A)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н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QR (A)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вадратный кор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N (A) -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нген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Описание и вызов процедур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языка 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P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3516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пис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DURE &l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исок аргумент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ORARY &l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исок скалярных переменны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ORAR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RIX &l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исок верхней границ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&l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раже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ыз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&l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исок аргумент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Операторы языка 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P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507520" cy="28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имя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=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ыражение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присваи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OTO &lt;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метка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переход на мет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EGIN  &lt;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ператор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&gt; EN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оставной опер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F (&lt;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ыражение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&gt;) THEN &lt;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ператор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&gt; ELSE &lt;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ператор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оператор усло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HILE (&lt;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ыражение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&gt;) DO &lt;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ператор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оператор ци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Библиотечные процед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4963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просные процедуры 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0" lang="en-US" sz="2400" spc="-1" strike="noStrike" u="sng" baseline="-25000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–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омер транзакта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Y XN Exist 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ествует ли транза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Y XN Parameter 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чение параме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Y XN AssemblySet 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вращает номер ансамб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Y XN Priority 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вращает приорит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Y XN M1 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вращает метку 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Состав операт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дель 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SS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яется последовательностью модельных операторов. Модельным оператором может быт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SS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ератор или процедура на язык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SS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ератор – это либо команда, либо бл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SS – General Purpose Simulation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S – Programming Language Under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ля строки программы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P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омер стро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мет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ейств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перанд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оммента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Библиотечные процед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6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gth (str)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ина стр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n (str)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даление пробелов в начале и кон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TYPE (&l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ны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выдача строки типа 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 (str)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вой эквивалент стр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 (&l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ны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еревод данных в ст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 Compare (str1, str2)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авнение ст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case (str)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вод строки в нижний регис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per case (str)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вод строки в верхний регис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ft (str, maxcount)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строка длин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coun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л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ght (str, maxcount)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строка длин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coun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пр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(substr, str)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вращение позиции стро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t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строк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Библиотечные процед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tring (str, Offset, maxcount)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вращение строки длин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coun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 позиц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 (str, WNumber)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вращение слова с номеро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gn (InsStr, str, Offset)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амена подстроки с позиц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se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строк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 правой пози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(InsStr, str, Offset)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амена подстроки с позиц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se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строк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 левой пози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enate (str1, str2)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катен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catanate (str1, str2, …, strN)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катен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ies (str, count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клеива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опий стро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Стандартные числовые атрибу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имер С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22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мер транзакта в блоке 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бращение к С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j   j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ожительное цело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мер бл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$Name   Name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ка бл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*j    j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мер параметра транзакта, содержащий номер бл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*Name    Name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я параметра транзакта, содержащего номер бл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*$Name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же сам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Некоторые стандартные числовые атрибу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1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бсолютное системное время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1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носительное системное врем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ES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Nnu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числение функц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nu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чение логического клю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para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анзитное время (абс.вр – знач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1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анзитное время (абс.вр. – врем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ara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чение параметр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оритет транза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nu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кущее количество эл-тов в очере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nu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м свободной памят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Nnu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учайное число из генератор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nu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м занятого пространства памят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nu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числение переменно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nu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мер транзакта в блок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nu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храняемое знач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GPSS-</a:t>
            </a:r>
            <a:r>
              <a:rPr b="0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команды для опред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VARIABLE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исание логической переме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D1 BVARIABLE  (BV$CLK’AND’BV$PHASE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ие переменно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ar1   VARIABLE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5#LOG(Q$WaitingL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ие конста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Price   EQU   19.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RIX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ие матр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Inventory     MATRIX  ,1000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ие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Output FUNCTION    V$Input,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1.1,10.1/20.5,98.7/33.3,889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an1    FUNCTION    RN1,D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,0/.2,7.2/.4,6.667/.8,9.92/1.0,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AGE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ие памя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torPool   STORAGE 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пределение табл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lesTable  TABLE    P$Price,9.95,10,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TABLE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ие таблицы для очере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WaitTimes   QTABLE     WaitingLine,100,100,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GPSS-</a:t>
            </a:r>
            <a:r>
              <a:rPr b="0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команды управления моделирова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ничтожение статистики и всех транза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T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нуление статистики ими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T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ончание сеанс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LT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ановка симуляции и удаление всех команд в очеред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обновление моделирова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ка значение счетчика завершения и начало ими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ение конечного числа бло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STEP 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P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ка условия остан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STOP     100,5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Остальные 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GPSS-</a:t>
            </a:r>
            <a:r>
              <a:rPr b="0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коман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ключение файла в модул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INCLUDE “SAMPLE1.TX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нициализация ключей, сохраняемых значений и матри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ITIAL MX$Inventory(Part_39,Stocklevel),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MULT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ка стартовых значений генерат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MULT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453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746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числение и вывод значения выра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SHOW     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GPSS-</a:t>
            </a:r>
            <a:r>
              <a:rPr b="0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бло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 транза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GENERATE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an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lf-rang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rt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mit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INATE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ничтожение транзакта и уменьшение счетчика оконча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UE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еличение количества элементов в очеред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ART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ход из очере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анятие памя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VE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вобождение памя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IZE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становка владельца устройст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EASE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вободить устрой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GPSS-</a:t>
            </a:r>
            <a:r>
              <a:rPr b="0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бло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ITY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ение приоритета транза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амена владельца устро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вобождение устройства, занятого блоко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VAIL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ка устройства доступ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AVAIL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ка устройства не доступ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AIL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становка памяти доступ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NAVAIL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ка памяти не доступ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VALUE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ка значения сохраняемой величин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AVEVALUE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ка значения в элемент матр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8T13:55:42Z</dcterms:created>
  <dc:creator>Rustam</dc:creator>
  <dc:description/>
  <dc:language>en-US</dc:language>
  <cp:lastModifiedBy>korobitsin</cp:lastModifiedBy>
  <dcterms:modified xsi:type="dcterms:W3CDTF">2006-12-18T06:11:01Z</dcterms:modified>
  <cp:revision>19</cp:revision>
  <dc:subject/>
  <dc:title>Моделирование</dc:title>
</cp:coreProperties>
</file>