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944-75DA-43AE-BAA9-F0599DC6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A63-6D4D-43C8-8194-78F265AD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F19-5C6F-4F35-BABD-52B56DAE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A83-DCFE-411E-9C6E-31A22280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C72-2EBC-410A-9E0F-A59D25E4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9E9-8079-483E-8CD6-3F1B23F5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5CF-98A1-424E-B356-88EFA9D9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049-B334-4CD0-9E6C-D97D9D94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D07-AB5E-4C89-9FDB-86BEF7D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0E4-C1A0-482D-B06B-4721A76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B7D-020D-46B1-A2C7-6FD0548F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90B-0075-4AB8-8A5B-EC2E160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3BB7-5629-4909-B0B6-B8D8DB006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Методы анализ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етод наименьших квад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55640" y="1341360"/>
          <a:ext cx="74167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етод наименьших квад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98560" y="958680"/>
          <a:ext cx="6553080" cy="563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958680"/>
                    <a:ext cx="6553080" cy="56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етод наименьших квад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4360" y="1197000"/>
          <a:ext cx="784836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97000"/>
                    <a:ext cx="784836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етод наименьших квад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19280" y="1055520"/>
          <a:ext cx="6265800" cy="51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55520"/>
                    <a:ext cx="62658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692360" y="6045120"/>
          <a:ext cx="61862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6045120"/>
                    <a:ext cx="61862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редпосылки регрессионн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703440"/>
            <a:ext cx="8507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ошибочный член уравнения регрессии подчиняется закону нормального распределения. Для каждого определенного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рас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среднее значение всех этих нормальных распредел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заданн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лежат на одной прямой линии с угловым коэффициент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среднее значение ошибочного члена равно ну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дисперсия ошибочного члена постоянна. Дисперсия не зависит от значений принят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) между ошибочными членами автокорреляция отсутствует. Значение ошибочных величин не зависимы между с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ножественная ре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gressi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татистический метод для построения зависимости между двумя или более независимыми переменными и зависимой переменной, выраженной с помощью интервальной или относительной шк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Ŷ=a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… +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нахождения параметров используют метод наименьших квадратов (МНК). Все предпосылки применимы и к множественной ре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ножественная ре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ат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ррелированный коэффициент множественной детермина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корректируется с учетом числа независимых переменных и размера выборки, чтобы снизить влияния коэффициента детерминации от количества переме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еснота связи между переменными, измеря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я квадратичный коэффициент множественной корреля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 - критер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ется для проверки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Коэффици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енной детерминации в совокупности R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…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. Статистика для проверки гипотезы, подчиняется F-распределению с k и (n-k-1) степенями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ный коэффициент регресс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бозначает изменение предсказанного знач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и измене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единицу, когда друг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измен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ножественная ре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ение множественного регрессионного анал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1700280"/>
          <a:ext cx="6624720" cy="10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662472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8360" y="2708280"/>
          <a:ext cx="7991280" cy="30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708280"/>
                    <a:ext cx="799128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ножественная ре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нота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87280" y="1359000"/>
          <a:ext cx="6769440" cy="50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59000"/>
                    <a:ext cx="676944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Множественная ре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значимости общего уравнения и частных коэффициентов ре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6920" y="1773360"/>
          <a:ext cx="6050160" cy="13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605016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757080" y="3068640"/>
          <a:ext cx="7199640" cy="34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3068640"/>
                    <a:ext cx="719964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Регрессион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рессионный анализ – метод установления форм и изучения связей между метрической зависимой переменной и одной или несколькими независимыми переме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ная регресси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variate regress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установления математической зависимости между одной метрической зависимой переменной и одной метрической независимой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0640"/>
            <a:ext cx="813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хорта Н.К. Маркентинговые исследования. Практическое руководство. - М. Вильямс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Анализ оста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разность между наблюдаемым значением Y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теоретическим значением, предсказанным уравнением Y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чения остатков используют для вычисления некоторых статистик, связанных с регресс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анализа сделанных допу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ущ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ормальности распределения ошибочного чис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уем, построив гистограмму остатков. Визуальный о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одкрепить проверкой правила трех сиг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вал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  должно лежать 68%; 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SE - 9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о проведем анализ критерия Колмогорова-Смирнова.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ение о постоянном значении дисперсии ошибочного ч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уем, нанеся на график значения остатков  в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вычисленных значений независимой переменной Y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точки нанесены на график неупорядоченно, то дисп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очного члена - величина 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Анализ оста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907920"/>
          <a:ext cx="662472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662472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11280" y="5878440"/>
          <a:ext cx="1584360" cy="4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878440"/>
                    <a:ext cx="15843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Анализ оста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981000"/>
          <a:ext cx="7704000" cy="559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770400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Анализ оста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12536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0526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ое изображение зависимости значений остатков о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ых переменных предоставляет доказательство о том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колько подходит теоретическая модель регресс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должен показывать случайную форму расположения остаточ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ов. Значения остатков распоагаются случайным образ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одинаково вокруг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716360" y="2705040"/>
          <a:ext cx="403236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705040"/>
                    <a:ext cx="403236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95280" y="2924280"/>
            <a:ext cx="4176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анализ остатков позволяет глубже понять, к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лежащим в основной регрессионной модели допущениям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и соответствие регрессионной мо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ошаговая ре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аговая регрессия – регрессионная процедура, в которой координаты поочередно вводят или выводят из уравнения ре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рямое включение (вводят координаты по – одному, если они удовлетворяют вычисленному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итерию. Порядок ввода координат определяется вкладом в общую вариац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обратная (исключаются по - одно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пошаговая (сначала исключаются, затем включаютс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Мультикорре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остояние очень высокой степени корреляции между независимыми переменными. Из-за эт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частный коэффициент нельзя точно определ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еличина частного коэффициента меняется от выбор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трудно оценить важность независимой перемен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переменные могут быть некорректно введены и выведены при пошаговой ре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избавиться от этого зависимые переменные объединяются в од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Кластерный 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507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строить алгоритм, классифицирующий исследуемые объект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объект характеризуется дисперси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х. Они могут быть записаны как точка 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ном  пространст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езультате кластеризации близкие объекты объединяются в группы. Близость – малое расстояние в пространств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расстояни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(x,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x,y)=d(y,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d(x,z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x,y)+d(y,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ость на множестве объектов – число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,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,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прерывная функция д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,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,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0≤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,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,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=1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ластерны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125360"/>
          <a:ext cx="6624720" cy="559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6624720" cy="55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ластерны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238400"/>
          <a:ext cx="770436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38400"/>
                    <a:ext cx="770436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Кластер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5680" y="620280"/>
            <a:ext cx="8518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тоды вычисления расстоя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среднее расстояние между всеми объектами пар кластеров с учетом расстояния между точками внут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расстояние между ближайшими объектами клас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расстояние между самыми далекими объ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расстояние между центрами класте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метод меди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среднее расстояние между объектами разных класте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расстояние как прирост суммы квадратов расстояний объектов до кластеров, полученных в результате их объ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пределение и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6024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 анали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ыяснить действительно ли эти переменные завис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 какой степени вариацию зависимой переменной можно объяснить независимыми переменными (теснота связ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определить форму связи, математическое уравнение, описывающее 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предсказать значение зависимой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контроль других независимых переменных при определении вкладов в конкретные пере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Кластер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5680" y="620280"/>
            <a:ext cx="8697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ерархический алгоритм кластерного анали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ждый объект объединен в кластер (0-уровен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ва ближайших кластера объединяются в новый кластер. В качестве расстояния между кластерами используется расстояние между объектами (1-уровен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ы класте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1)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о уровня. Два ближайших кластера объединяются в новый клас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объекты объединяются в один клас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0344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ь парной регре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мая 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независимая 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номер измер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остаточный ч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 детермин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0;1]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азывает долю полной вариа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обуславливается вариаци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a + 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численное зна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численные оцен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е корреля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графическое представление точек с координатам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;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0308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дартная ошибка уравнения регре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ое откло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ная ошибка коэффициента регре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мма квадратов ошиб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-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епенями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е существует линейн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; t=b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Алгоритм парно-регрессионн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0308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построение поля корре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формулирование общей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вычисление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) вычисление коэффициентов рег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) проверка знач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) определение тесноты и значимости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) проверка точности предсказ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) анализ остаточных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) перекрестная проверка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етод наименьших квад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наименьших квадр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етод расчета коэффициентов уравнения линейной регрессии на основе минимизации расстояния всех точек поля корреляции (по вертикали) от графика ре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584520"/>
            <a:ext cx="4392360" cy="279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429080" y="3429000"/>
          <a:ext cx="4464000" cy="265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9080" y="3429000"/>
                    <a:ext cx="446400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етод наименьших квад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араметров уравнения регрес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2133720"/>
          <a:ext cx="8424720" cy="26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3720"/>
                    <a:ext cx="842472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етод наименьших квад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ирование - процедура преобразования координат после которой значение среднего равно 0, дисперсии равно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нормирования отрезок отсечения от OY=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регрессии обозначается "бета"-коэффициент 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н равен коэффициенту корреляции 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4221000"/>
          <a:ext cx="806436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221000"/>
                    <a:ext cx="8064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8:39:20Z</dcterms:created>
  <dc:creator>Rustam</dc:creator>
  <dc:description/>
  <dc:language>en-US</dc:language>
  <cp:lastModifiedBy>korobitsin</cp:lastModifiedBy>
  <dcterms:modified xsi:type="dcterms:W3CDTF">2006-12-07T09:51:21Z</dcterms:modified>
  <cp:revision>39</cp:revision>
  <dc:subject/>
  <dc:title>Слайд 1</dc:title>
</cp:coreProperties>
</file>