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47D-C7D7-462D-91D3-4F686F41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43C-DD98-4789-9877-343D9AB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E53-A478-49FC-A144-6E0E725C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D58-2403-421C-BC26-E1EE8396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E31-E3E0-45BE-A01B-130CE2B3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50E-3213-41C4-B874-B958DCEC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93E-E577-4E8C-B5DA-9E98EA21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C0B-D3E1-4CC2-90A3-5391FC3B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7CD-D0A6-4293-A0DA-0E3F111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8EC-328A-42DA-B1BC-AC0C26C0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245-96B1-4697-A9E6-178B7D3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09A-9ABA-4DA8-A3CB-156675BB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F379-D353-4397-B538-7978B9080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Задачи теории массового обслу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663480"/>
            <a:ext cx="814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Эрланг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го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6192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3680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78640" y="52228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352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1284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8772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6700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188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792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280" y="54388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3920" y="54388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46280" y="54388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97200" y="54388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49920" y="5438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46640" y="54388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54388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53200" y="54388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0160" y="507852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2440" y="5078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1160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8772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3900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136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78360" y="5654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9640" y="1197000"/>
                <a:ext cx="453708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λ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λt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i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ерэкспоненциальное рас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одна из ф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оятность выбо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й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начение параметра распределения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й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60360" y="37101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61080" y="3706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37101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79240" y="3706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60840" y="37101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63000" y="3706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75000" y="37101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75720" y="3706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3080" y="284472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88800" y="4286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320508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3205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3205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93080" y="3205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4141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464508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46450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4645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96360" y="46450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3205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3205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4141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3205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4141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4141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84640" y="3201840"/>
            <a:ext cx="4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9440" y="3201840"/>
            <a:ext cx="4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2520" y="3195720"/>
            <a:ext cx="4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4880" y="3195720"/>
            <a:ext cx="4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700360" y="1557360"/>
                <a:ext cx="4416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4358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Ко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я фаза обслуживания требует продолжени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вершения с вероятностью 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0360" y="26384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61080" y="2638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77080" y="26384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9240" y="2638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60840" y="26384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63000" y="2638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75000" y="26384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75720" y="2638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3080" y="17733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8880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3070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357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92720" y="3573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73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357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3070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3070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3070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1080" y="249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33800" y="249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53000" y="249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4520" y="2500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10920" y="2141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214164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8605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28605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860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28605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28605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03480" y="582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5440" y="3076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-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37600" y="3076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50320" y="3076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19280" y="4149720"/>
                <a:ext cx="7272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омент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вой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тор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аз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служива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ерэрланговское рас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0360" y="3789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4160" y="3789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3789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5440" y="3789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4360" y="3789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4720" y="40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5640" y="400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8920" y="400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600" y="285264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100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65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26240" y="42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479592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3213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50640" y="3209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60000" y="465300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87280" y="2060640"/>
                <a:ext cx="5832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413440" y="3789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66160" y="3789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26520" y="3789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21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52228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77800" y="522288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2728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81440" y="52228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5438880"/>
            <a:ext cx="7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60720" y="54388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72360" y="5438880"/>
            <a:ext cx="20160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5438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54388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14920" y="54388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76080" y="5006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604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0216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308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41520" y="5654520"/>
            <a:ext cx="5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28720" y="522288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81440" y="522288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1800" y="522288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005360"/>
            <a:ext cx="57636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Ньют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сть любой реализации процесса соответствует случайному времени блуждания заявки по сети с показательным распределением с парамет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дним поглощающим состоя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57280" y="44290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57640" y="442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40560" y="44290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42360" y="4437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82760" y="443700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67360" y="4437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11840" y="44290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46840" y="44290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84800" y="29242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69280" y="5726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30686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5900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37040" y="5877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7560" y="590076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1620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47840" y="450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5256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4348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75120" y="450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7984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7220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03840" y="450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0856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815840" y="4795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247840" y="4795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752560" y="47959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543120" y="4795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975120" y="4795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79840" y="47959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271840" y="4795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703840" y="4795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08560" y="47959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67112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247840" y="39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752560" y="393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12712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703840" y="39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208560" y="393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6711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247840" y="530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75256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271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703840" y="530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20856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75876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11912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08560" y="3933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75876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1191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408560" y="5300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55840" y="393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3876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82760" y="5300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3876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7184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7984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64200" y="530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6420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714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148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9876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987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274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2748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656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565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95840" y="3933720"/>
            <a:ext cx="66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,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0960" y="3925800"/>
            <a:ext cx="66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,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48040" y="3925800"/>
            <a:ext cx="66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,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9840" y="3925800"/>
            <a:ext cx="66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24560" y="5294160"/>
            <a:ext cx="88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,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67120" y="5294160"/>
            <a:ext cx="74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,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21120" y="5294160"/>
            <a:ext cx="81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90600" y="5294160"/>
            <a:ext cx="81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аблица распределений в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Бета-распределени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ta (A, B, C, D,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Биноми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ominal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Дискретно-равномер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niform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Экспоненци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onential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Экстремальное значение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ValB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Экстремальное значение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ValB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Геометрическ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metric 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распределени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amma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Обратное распределение Гау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vGauss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) Обратное распределение Вейбул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vWeibull (A, B, C, 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ие Лапласа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place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аблица распределений в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лапласов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Laplace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тельное биноми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Binom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стическ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stic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логистическ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Logistic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) Логнорм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Normal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) Парето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eto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) Пирс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а 5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arson 5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) Норм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rmal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) Пуассона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isson 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Пирсона типа 6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arson 6 (A, B, C, D,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Треуго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iangular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) Равномер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form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) Распределение Вейбулла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bull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Формирование случайных чисел</a:t>
            </a:r>
            <a:br>
              <a:rPr sz="3200"/>
            </a:b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искретное неравномерное 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39640" y="1700280"/>
          <a:ext cx="756144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75614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68360" y="1268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а таблица распределения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3500280"/>
            <a:ext cx="799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сываем с.ч.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0,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пример, 0.523664. Получаем с.в. =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sp FUNCTION RN6,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15,2/.35,5/.6,8/.82,9/1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бращение к функции рас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FER FN,R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ERATE FN$R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VANCE FN$R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435640" y="3968640"/>
            <a:ext cx="3240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Формирование случайных чисел</a:t>
            </a:r>
            <a:br>
              <a:rPr sz="3200"/>
            </a:b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епрерывное равномерное 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4360" y="2924280"/>
          <a:ext cx="734364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924280"/>
                    <a:ext cx="73436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468360" y="141300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spN FUNCTION RN23,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1,14.2/.35,30.4/.6,50/.85,64.7/1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220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непрерывной с.в. вычисляется с помощью линейной интерпо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2411280" y="3716280"/>
            <a:ext cx="4032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Формирование случайных чисел</a:t>
            </a:r>
            <a:br>
              <a:rPr sz="3200"/>
            </a:b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епрерывное неравномерное 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9640" y="141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 промоделировать с.в., заданную плотностью распреде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Y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интервал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9640" y="2565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ива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b]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к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бы вероятность попадания с.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каждый интервал была постоян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826920" y="3860640"/>
                <a:ext cx="2016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4140360" y="2205000"/>
          <a:ext cx="424944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205000"/>
                    <a:ext cx="424944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539640" y="530064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ч. с равномерным распр.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0,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положени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b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яем зн. с.в. с заданным законом распр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=ak+(ak+1-ak)X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остейший по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663480"/>
            <a:ext cx="814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током событ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ется последовательность однородных событий, появляющихся одно за другим в случайные моменты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32130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йный процес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t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я потока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92360" y="2125800"/>
            <a:ext cx="5688000" cy="942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19280" y="3860640"/>
            <a:ext cx="57610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 описания экспоненциального распредел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ассоновский 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T) - вероятность, что k заявок придет за время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яя интенсивность поступления зая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-LN(1-RN)];     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нтервал между заяв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редний интервал;    RN – равномерно распределенное случайное число на [0,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 на GPS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Аппроксимация функ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23 отрез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XpDis FUNCTION RN200,C24   0,0/.1,.104/.2,.222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3,.355/.4,.509/.5,.69/.6,.915/.7,1.2/.75,1.38/.8,1.6/.84,1.83/.88,2.12/.9,2.3/ .92,2.52/.94,2.81/.95,2.99/.96,3.2/.97,3.5/.98,3.9/.99,4.6/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995,5.3/.998,6.2/.999,7/.9998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тически [-LN(1-RN)] на бесконечном полуинтерв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RN = 0.99999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pDi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8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0.9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 0.0199%  случ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GENERATE 360, FN$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708360" y="500040"/>
                <a:ext cx="2376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еобразование распределен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си распред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скрет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преры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аг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X/Y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87280" y="907920"/>
                <a:ext cx="30243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187280" y="1844640"/>
                <a:ext cx="3167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042920" y="2781360"/>
                <a:ext cx="194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419640" y="2781360"/>
                <a:ext cx="2016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μ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84360" y="3933720"/>
                <a:ext cx="669600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μ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y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8360" y="5300640"/>
                <a:ext cx="810108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λyμ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y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λy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μ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λ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еобразование распределен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ит к суммированию средних и дисперс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ют функцию распределения F(x), тогда максимум F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x),    минимум 1-[1-F(x)]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 элемента упорядоченн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11280" y="3500280"/>
                <a:ext cx="619272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каналь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ns STORAG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(EXPONENTIAL(1,0,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ER Chans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P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2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AVE Chans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5000,,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оритетная систе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k   VARIABLE (GAMMA(2,0,P2(3,3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TE (EXPONENTIAL(1,0,5.0)),,,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1,1 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тип транз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2,0.3 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время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QUEUE 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EMPT Chan, PR, Rept,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VEVALUE Time, V$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5, X$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it ADVANCE 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FER 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t ASSIGN 5, V$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FER ,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 DEPART 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C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ная система обслужи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TE (EXPONENTIAL(1,0,3.33)),,,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1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2,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FER ,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TE (EXPONENTIAL(1,0,2.50)),,,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2,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FER ,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TE 5000,,,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RMINA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нтование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явка обрабатывается не больше, чем квант 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луженная убирается из потока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обслуженная в конец очереди на дообслуж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ro SEIZ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G F5, X$Quantum,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5, (P5 - X$Quan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X$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EAS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 ,I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st ADVANCE 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EAS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уговое обслу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Обслуживание очереди по одной заявке из каждой непустой очере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До исчерпания заявок в текущей очереди, включая те, которые пришли в момент обслуж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Обслуживание всех заявок, накопившихся к нач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служ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овое обслуж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 модели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ITIAL X$Empty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(EXPONENTIAL(1,0,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1, A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3,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X$Empty, 1, In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Pointer,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Empty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q1 QUEUE 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X$Pointer,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PART 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 ,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овое обслуж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 модели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должени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 ;повтор предыдущего блока с параметром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(EXPONENTIAL(2,0,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-------||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2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-------||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X$Empty, 1, Inq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-------||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q2 ---------||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 ;повтор предыдущего блока с параметром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 SEIZ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EAS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Q*2, 0, Z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4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рдинарность потока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663480"/>
            <a:ext cx="814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 событий н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динар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события в нем появляются поодин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попадания на участо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и более событий пренебрежимо мала по сравнению с вероятностью попадания на него ровно одного со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322360" y="2874960"/>
                <a:ext cx="3689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468360" y="357336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чайное число собы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(t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падающих на элементарный участок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пределен рядом распред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4365720"/>
                <a:ext cx="45370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:</m:t>
                    </m:r>
                    <m:m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276720" y="48736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4416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5133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44416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овое обслуж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 модели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должение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5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6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Qmax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eck   TEST GE Q*5, X$Qmax,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Qmax, Q*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6,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    ASSIGN 5+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P 4,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     TEST E P6, 0, Z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Empty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 ,Z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Zpt     SAVEVALUE Pointer, P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Zzz     TERMIN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т надельного и суточного цик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часов в день, 7 часов в пят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 ;рабочий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1,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QQ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IZE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PART QQ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0.8,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EASE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 ;ежедневные переры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24,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AVAIL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т надельного и суточного цикл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LS2,0,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VAIL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 ;выходные д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168,0,1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IC 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AVAIL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VAIL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IC 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нтенсивность потока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781000"/>
            <a:ext cx="8147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ее число событий ординарного по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916360" y="3314880"/>
                <a:ext cx="2808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9640" y="432288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стоянной интенсивности п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71640" y="4603680"/>
                <a:ext cx="3311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68360" y="981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тенсив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лотность) ординарного потока событий в момен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482920" y="1365120"/>
                <a:ext cx="33843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тсутствие после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734760"/>
            <a:ext cx="81471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 событий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 без после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для любых непересекающихся участков времен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событ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X(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X(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X(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дающих на эти участки, представляют собой независимые случайные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4608720" cy="930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3573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оток без последействия, ординарен и имеет постоянную интенсивность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число 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распределение Пуассона с парамет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050920" y="4581360"/>
                <a:ext cx="46818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!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39640" y="53910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динарный поток событий, в котором отсутствуют последействия, называ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уассоновским пото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45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тационар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734760"/>
            <a:ext cx="81471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 событий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ационар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все его вероятностные характеристики не меняются со време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оятность попадания того или иного числа событий на участок длины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только от длины этого участка и не зависит от его рас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тационарного потока событий его интенсивность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рдинар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ционар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з после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ток,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стейш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ационарным пуассонов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 с ограниченным последейств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поток, у которого случайные интервал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соседними по времени событиями представляют собой независимые случайные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ционарный поток с ограниченным последействием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 Паль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ункция распределения простейшего пот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734760"/>
            <a:ext cx="8147160" cy="26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агая в формуле (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{X(t)=0}=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t)=1-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t&gt;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тность распределения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t)=dF(t)/dt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t&gt;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ы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08720" y="1197000"/>
            <a:ext cx="2879640" cy="2255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9640" y="3303720"/>
                <a:ext cx="388800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9520" y="4221000"/>
                <a:ext cx="667368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λ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отоки Пальма в теории восстан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734760"/>
            <a:ext cx="82072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: имеется неограниченное количество одинаковых по своим характеристикам элементов. Элемент 1 включается в работу в момен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ботает случайное врем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сле чего выходит из строя (отказывает). В момент отказа элемент 1 мгновенно заменяется (восстанавливается) элементом 2, который работает случайное врем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чего заменяется элементом 3, и т.д. Этот процесс восстановления элементов продолжается неогранич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.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ы и одинаково распределены, то поток отказов (восстановлений) является потоком Паль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284640"/>
            <a:ext cx="8424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и проц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X(t)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восстановлений на 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восстановлений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.о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тность восстановления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элем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вязан с потоком восстан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«Остаточное время» жизни элем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тоже распределение, что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71640" y="3571920"/>
                <a:ext cx="1224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724360" y="4653000"/>
                <a:ext cx="18734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716360" y="5011560"/>
                <a:ext cx="3961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отоки Эрла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73476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 Эрланг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-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араметром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поток Пальма, у которого интервалы между событиями распределены по закону Эрланг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 порядк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2,3,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можно получить из простейшего с помощью его «просеивания»; при этом каждо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событие сохраняется, а все промежуточные сохра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299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ема преобразования простейшего потока в поток Эрланга 3-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42920" y="3438360"/>
            <a:ext cx="6913800" cy="128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5084640"/>
            <a:ext cx="813600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.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рвал между соседними событиями в потоке Эрланга 3-го порядк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ые с.в., имеющие показательное распределение с параметром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4:14:18Z</dcterms:created>
  <dc:creator>Rustam</dc:creator>
  <dc:description/>
  <dc:language>en-US</dc:language>
  <cp:lastModifiedBy>julivic</cp:lastModifiedBy>
  <dcterms:modified xsi:type="dcterms:W3CDTF">2007-09-17T15:13:38Z</dcterms:modified>
  <cp:revision>92</cp:revision>
  <dc:subject/>
  <dc:title>Моделирование</dc:title>
</cp:coreProperties>
</file>