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6257-7E40-4BD8-BD2A-A15B83D8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3CF3-AEE7-4726-AFD1-8CAF4B97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42B1-08B7-4038-8479-7636F9A88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7840-4EB4-43D0-8180-7C31483CB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B624-D456-4DC0-9EB6-1088A5A8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164B-6573-47D7-BF8C-16B909E6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2DA6-BE9D-466C-9643-CC9C5B93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3C24-71E0-45F1-B9C0-D3AF1B67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FBEC-1265-4A14-823A-CF8A979A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D6C7-60A4-4BF5-8AAF-AF7445C2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6C68-2EBC-4FBC-A0A6-A6D153E6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2119-4646-44B8-B3D6-2E3BE7F5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AA8B-D332-4E30-B6A4-5290AC1EE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3300"/>
                </a:solidFill>
                <a:uFillTx/>
                <a:latin typeface="Arial"/>
              </a:rPr>
              <a:t>Модел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Лекция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Основные понятия модел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20000" y="35640"/>
            <a:ext cx="7923960" cy="66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Основные пон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9160" y="907560"/>
            <a:ext cx="76928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од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упрощенное представление явления или объекта, которое позволяет изучать объект в более простой и удобной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оделирование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delling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изучение объектов с помощью их мо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Шаги моделир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выделить основные элементы объ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построить мод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исследовать мод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получение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70960" y="75600"/>
            <a:ext cx="7862400" cy="5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Виды модел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9640" y="980640"/>
            <a:ext cx="7693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цептуальн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онятия, определения, словесные описания взаимодейств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зическ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остроение физического аналог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уктурно-функциональн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графики, диаграммы, блок-схе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матическ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формализованное описание объекта, использующее математические выражения и функ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итационн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ограммная реализация модели)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ьютерн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использование компьютерных технологий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computer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19400" y="1868400"/>
            <a:ext cx="4656240" cy="2830680"/>
          </a:xfrm>
          <a:custGeom>
            <a:avLst/>
            <a:gdLst/>
            <a:ahLst/>
            <a:rect l="l" t="t" r="r" b="b"/>
            <a:pathLst>
              <a:path w="2933" h="1783">
                <a:moveTo>
                  <a:pt x="7" y="529"/>
                </a:moveTo>
                <a:cubicBezTo>
                  <a:pt x="0" y="423"/>
                  <a:pt x="197" y="159"/>
                  <a:pt x="280" y="121"/>
                </a:cubicBezTo>
                <a:cubicBezTo>
                  <a:pt x="363" y="83"/>
                  <a:pt x="393" y="317"/>
                  <a:pt x="506" y="302"/>
                </a:cubicBezTo>
                <a:cubicBezTo>
                  <a:pt x="619" y="287"/>
                  <a:pt x="794" y="60"/>
                  <a:pt x="960" y="30"/>
                </a:cubicBezTo>
                <a:cubicBezTo>
                  <a:pt x="1126" y="0"/>
                  <a:pt x="1345" y="114"/>
                  <a:pt x="1504" y="121"/>
                </a:cubicBezTo>
                <a:cubicBezTo>
                  <a:pt x="1663" y="128"/>
                  <a:pt x="1762" y="37"/>
                  <a:pt x="1913" y="75"/>
                </a:cubicBezTo>
                <a:cubicBezTo>
                  <a:pt x="2064" y="113"/>
                  <a:pt x="2284" y="324"/>
                  <a:pt x="2412" y="347"/>
                </a:cubicBezTo>
                <a:cubicBezTo>
                  <a:pt x="2540" y="370"/>
                  <a:pt x="2608" y="158"/>
                  <a:pt x="2684" y="211"/>
                </a:cubicBezTo>
                <a:cubicBezTo>
                  <a:pt x="2760" y="264"/>
                  <a:pt x="2880" y="574"/>
                  <a:pt x="2865" y="665"/>
                </a:cubicBezTo>
                <a:cubicBezTo>
                  <a:pt x="2850" y="756"/>
                  <a:pt x="2586" y="681"/>
                  <a:pt x="2593" y="756"/>
                </a:cubicBezTo>
                <a:cubicBezTo>
                  <a:pt x="2600" y="831"/>
                  <a:pt x="2887" y="1012"/>
                  <a:pt x="2910" y="1118"/>
                </a:cubicBezTo>
                <a:cubicBezTo>
                  <a:pt x="2933" y="1224"/>
                  <a:pt x="2804" y="1368"/>
                  <a:pt x="2729" y="1391"/>
                </a:cubicBezTo>
                <a:cubicBezTo>
                  <a:pt x="2654" y="1414"/>
                  <a:pt x="2540" y="1239"/>
                  <a:pt x="2457" y="1254"/>
                </a:cubicBezTo>
                <a:cubicBezTo>
                  <a:pt x="2374" y="1269"/>
                  <a:pt x="2313" y="1473"/>
                  <a:pt x="2230" y="1481"/>
                </a:cubicBezTo>
                <a:cubicBezTo>
                  <a:pt x="2147" y="1489"/>
                  <a:pt x="2102" y="1255"/>
                  <a:pt x="1958" y="1300"/>
                </a:cubicBezTo>
                <a:cubicBezTo>
                  <a:pt x="1814" y="1345"/>
                  <a:pt x="1527" y="1723"/>
                  <a:pt x="1368" y="1753"/>
                </a:cubicBezTo>
                <a:cubicBezTo>
                  <a:pt x="1209" y="1783"/>
                  <a:pt x="1164" y="1519"/>
                  <a:pt x="1005" y="1481"/>
                </a:cubicBezTo>
                <a:cubicBezTo>
                  <a:pt x="846" y="1443"/>
                  <a:pt x="544" y="1580"/>
                  <a:pt x="416" y="1527"/>
                </a:cubicBezTo>
                <a:cubicBezTo>
                  <a:pt x="288" y="1474"/>
                  <a:pt x="294" y="1285"/>
                  <a:pt x="234" y="1164"/>
                </a:cubicBezTo>
                <a:cubicBezTo>
                  <a:pt x="174" y="1043"/>
                  <a:pt x="38" y="869"/>
                  <a:pt x="53" y="801"/>
                </a:cubicBezTo>
                <a:cubicBezTo>
                  <a:pt x="68" y="733"/>
                  <a:pt x="325" y="801"/>
                  <a:pt x="325" y="756"/>
                </a:cubicBezTo>
                <a:cubicBezTo>
                  <a:pt x="325" y="711"/>
                  <a:pt x="14" y="635"/>
                  <a:pt x="7" y="52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98240" y="30240"/>
            <a:ext cx="78642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Математическое модел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76327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тематическая модель – это набор формальных соотношений между параметрами и перемен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11640" y="2708280"/>
            <a:ext cx="2448000" cy="9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м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объ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06920" y="2347920"/>
            <a:ext cx="1584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рамет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06920" y="3716280"/>
            <a:ext cx="2449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Окружающая 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6920" y="2924280"/>
            <a:ext cx="57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5651640" y="2347920"/>
            <a:ext cx="71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72360" y="2492280"/>
            <a:ext cx="287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6659640" y="3284640"/>
            <a:ext cx="28872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4581360"/>
            <a:ext cx="822960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делы матема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фференциальные и интегральные уравнения (детерминированная модел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учайные процессы (стохастическая модел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следование операций (поиск оптимальных параметр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92480" y="574920"/>
            <a:ext cx="7862400" cy="44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Имитационное модел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76960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апы имитационного моделир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становление адеква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дентификация параме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ценка значимости параме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уктурное пре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3436920"/>
            <a:ext cx="45720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ение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ализация опис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готовка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ансляция мод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ценка адеква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анирование экспери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24360" y="3765600"/>
            <a:ext cx="45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 startAt="7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анирование прого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кетный экспери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нализ результ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терпре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кумент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6320" y="328464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азы моделир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32000" y="36720"/>
            <a:ext cx="785052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Классификация общих подходов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модел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50920" y="836640"/>
          <a:ext cx="8713800" cy="6000840"/>
        </p:xfrm>
        <a:graphic>
          <a:graphicData uri="http://schemas.openxmlformats.org/drawingml/2006/table">
            <a:tbl>
              <a:tblPr/>
              <a:tblGrid>
                <a:gridCol w="1503360"/>
                <a:gridCol w="1233360"/>
                <a:gridCol w="1079640"/>
                <a:gridCol w="685800"/>
                <a:gridCol w="998280"/>
                <a:gridCol w="998640"/>
                <a:gridCol w="1000080"/>
                <a:gridCol w="12146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подх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ни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рибу-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погра-ф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сле-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уктур. измене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Модели основ. на  ур-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, динами-ческие сист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прок. непре-рыв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Микроанали-тические мод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ель налого-об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кро/ма-кро без обр.связ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 / 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скрет-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хрон-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мен-ная струк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Модели дискретных собы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ели очеред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к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 / 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ытий-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инх-ро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мен-ная струк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Мультиуров-невая мод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ория и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. связь микро /мак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 / 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е-рывное /дискрет-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хрон-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мен-ная структур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) Клеточные автома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е-ние ресур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к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скрет-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т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хрон-ные/асин-хро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) Нейронные с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уча-ющиеся с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кро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 / 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е-рывное /дискрет-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хрон-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ап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) Эволюцион-ные алгорит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нар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к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скрет-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хрон-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ап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99320" y="75600"/>
            <a:ext cx="7862040" cy="5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Фазы процесса модел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4000" y="836640"/>
            <a:ext cx="76928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определение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формализация опис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подготовка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трансляция мод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оценка адеква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) планирование экспери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) планирование прог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) машинный экспери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) анализ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) интерпрет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) реализ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) документир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13:52:19Z</dcterms:created>
  <dc:creator>Rustam</dc:creator>
  <dc:description/>
  <dc:language>en-US</dc:language>
  <cp:lastModifiedBy>korobitsin</cp:lastModifiedBy>
  <dcterms:modified xsi:type="dcterms:W3CDTF">2006-09-07T07:36:43Z</dcterms:modified>
  <cp:revision>8</cp:revision>
  <dc:subject/>
  <dc:title>Моделирование</dc:title>
</cp:coreProperties>
</file>