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D17-5579-479A-8086-03178BE2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9F9-2BA9-4FD8-AF02-EA5C402C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D52-3CD1-4D2E-B514-BB13F058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A35-D6E5-44A4-94AB-BEC03B29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81FB-497D-41C9-BDD9-40A2C466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FF6D-C179-45FE-A46B-606E8DF8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C32D-0CDA-40DD-9536-45F4524B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C70E-05F1-4C5E-8472-561FB0AC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6248-F25A-48B4-963C-46966E71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669A-7C19-4388-A2E1-B430A208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E32F-9FDE-40DC-915C-818A978A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3DD-280D-4A84-B6EE-434DBAF2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2FEE-FBB4-4B2A-BF1F-8B13300D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3CD2-0F98-4E64-B9F4-6ED4758C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AA46-2652-412A-AA16-C3F40D94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8DBB-0AF3-4FB4-9122-3B02713D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ABE0-FFF0-45E6-ABB7-7D944289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B69-0AC7-4015-9FB5-EEBA30D9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071-C867-4227-A82D-03328B30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557-E42F-4E03-AA4C-2BC5CBA0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371-1710-403E-9216-C0AD5042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314E-B074-4C08-9415-FDFCC353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43A-93D3-43DB-8794-32F9E179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2F7-5053-4CF2-AF33-15312A69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21B2-CD70-4D5A-AC02-24FC2B2CDA9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0676-89C0-4E18-BECF-D2595EFB530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Агрегатное планирование производ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560" y="3429000"/>
            <a:ext cx="6540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. Задачи и виды производственного планир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. Содержание агрегатного планир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. Производственная программа: понятие, место, показатели, процесс формир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Формальные этапы планирования производства: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постановка задачи планирования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разработка плана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реализация планового решения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324000" y="622440"/>
          <a:ext cx="7920000" cy="5327640"/>
        </p:xfrm>
        <a:graphic>
          <a:graphicData uri="http://schemas.openxmlformats.org/drawingml/2006/table">
            <a:tbl>
              <a:tblPr/>
              <a:tblGrid>
                <a:gridCol w="5616360"/>
                <a:gridCol w="230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одержание задач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2f1311"/>
                        </a:buClr>
                        <a:buFont typeface="Arial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Планирование продуктовой стратегии.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2f1311"/>
                        </a:buClr>
                        <a:buFont typeface="Arial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Планирование инвестиций.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2f1311"/>
                        </a:buClr>
                        <a:buFont typeface="Arial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Планирование и размещение производственных мощностей.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Долгосрочные планы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4.Планирование реализации (сбыта).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5.Формирование производственной программы.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6.Планирование ресурсов (запасов).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Среднесрочные планы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7.Распределение производственной программы.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8.Оперативное планирование работ.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9.Диспетчирование.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Краткосрочные планы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грегатное планиров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оцесс формирования сбалансированных по ресурсам производственных программ организации на плановый период и дифференциации их по отрезкам календарного периода и по отдельным структурным подразделениям организации (производствам, цехам, участкам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Агрегатное планирование охватывает два уровня управления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рганизацию в целом (межцеховый уровень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дразделения (внутрицеховый уровень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250920" y="765000"/>
          <a:ext cx="7921440" cy="5229360"/>
        </p:xfrm>
        <a:graphic>
          <a:graphicData uri="http://schemas.openxmlformats.org/drawingml/2006/table">
            <a:tbl>
              <a:tblPr/>
              <a:tblGrid>
                <a:gridCol w="3673440"/>
                <a:gridCol w="424800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ежцеховое управление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нутрицеховое управление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2f1311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ирование производственной программы организации;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- распределение программы выпуска изделий по отдельным отрезкам планового периода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2f1311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ирование годовых, квартальных и месячных производственных программ по цехам;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- распределение программ по отрезкам календарного периода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743200" y="2795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1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5334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4360" y="2060640"/>
            <a:ext cx="3600360" cy="22320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Агрегатный пла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16360" y="836640"/>
            <a:ext cx="3024000" cy="936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рограммы НИОКР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84720" y="1773360"/>
            <a:ext cx="0" cy="287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00360" y="4653000"/>
            <a:ext cx="3311640" cy="1081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Распределени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роизводственной программ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84720" y="429264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1773360"/>
            <a:ext cx="187164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Маркетинговы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исследован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2781360"/>
            <a:ext cx="187164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Маркетинговы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исследован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789360"/>
            <a:ext cx="187164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Маркетинговы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исследован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4797360"/>
            <a:ext cx="1871640" cy="792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Маркетинговы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исследован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2133720"/>
            <a:ext cx="503280" cy="3585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340000" y="3141720"/>
            <a:ext cx="216000" cy="71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340000" y="3789000"/>
            <a:ext cx="431640" cy="43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40000" y="522936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40000" y="4005360"/>
            <a:ext cx="792000" cy="1008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43640" y="3500280"/>
            <a:ext cx="2521080" cy="936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пасы сырья и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материалов на складах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оставки по кооперац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00720" y="1413000"/>
            <a:ext cx="2592360" cy="1008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Научно-техническо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и экономическо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72360" y="2565360"/>
            <a:ext cx="2520720" cy="863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ланировани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роизводственной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мощност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651640" y="1916280"/>
            <a:ext cx="576000" cy="57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084360" y="2997360"/>
            <a:ext cx="287640" cy="71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866920" y="3715920"/>
            <a:ext cx="57636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16720" y="4653000"/>
            <a:ext cx="2303280" cy="1008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отребность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 ресурсах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оопераци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08720" y="4005360"/>
            <a:ext cx="1008000" cy="93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012000" y="5229360"/>
            <a:ext cx="504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изводственная програм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объемы производства отдельных видов продукции и услуг на предстоящий период с учетом рационального использования имеющихся производственных мощностей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51444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Основные позиции формиров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производственной программ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24000" y="1557360"/>
          <a:ext cx="8064360" cy="4549680"/>
        </p:xfrm>
        <a:graphic>
          <a:graphicData uri="http://schemas.openxmlformats.org/drawingml/2006/table">
            <a:tbl>
              <a:tblPr/>
              <a:tblGrid>
                <a:gridCol w="3733560"/>
                <a:gridCol w="43308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остав (какие изделия) и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труктура программы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(сколько и по какой цене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-номенклатура, ассортимент </a:t>
                      </a:r>
                      <a:r>
                        <a:rPr b="0" i="1" lang="en-US" sz="2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(качественные показатели)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- объем производства ; </a:t>
                      </a:r>
                      <a:r>
                        <a:rPr b="0" i="1" lang="en-US" sz="2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(количественные показатели)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уровень управления (планирования),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- организация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- подразделения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ериод времени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2f1311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год – кварталы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2f1311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вартал – месяцы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2f1311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есяц - смены.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Качественные показатели производственной програм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Номенклатура (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ат.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omenclatura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- перечень) -классифицированный перечень производимой продукции.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Ассортимент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франц.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ssortiment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) продукции – состав и соотношение отдельных видов изделий в продукции хозяйствующего субъекта или какой-либо группе товар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Принципиальная схема планирования производственной программы</a:t>
            </a: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483920"/>
            <a:ext cx="7386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формирование ассортиментного перечня изделий (номенклатуры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пределение объемов производства издел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верка пропускной способности организац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равнивание мощности и приспособление к спрос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птимизация производственной программ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езагрегирование производственной программ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изводственное планиров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прерывный процесс установления или уточнения и конкретизации производственных целей развития всей организации и ее структурных подразделений, определение средств их достижения, сроков и последствий реализации, определение потребности и распределение ресурс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1. Формирование ассортиментного перечня изделий (номенклатуры)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ограмма формируется исходя из перспективного плана реализации продукции, разработанного в соответствии с принятой стратегией развития организац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Уточнение спроса по каждой позиции перспективного плана осуществляется с учетом следующих факторов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наличие платежеспособного спрос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наличие у организации конкурентных преимуществ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наличие или возможность обеспечения требуемого потенциал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2. Определение объемов производства изделий </a:t>
            </a: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к</a:t>
            </a: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оличественные показатели</a:t>
            </a: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пр =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р –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O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н +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O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к +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вп –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к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 – объем производства в натуральном выражени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 – планируемый объем реализаци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,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 – остатки нереализованной продукции на складах на начало и конец период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п – количество изделий для внутреннего потребления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 – планируемая закупка готовых изделий по кооперац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3. Проверка пропускной способности организации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699920"/>
            <a:ext cx="7386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согласование объемов производства и реализации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(спрос - возможности)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пл =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р –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о –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з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л –планируемый объем производства продукции (в периоды 1, 2, 3);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 – планируемый объем реализации (поставки) продукции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 – остатки нереализованной продукции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 –планируемый объем закупок готовой продукци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3. Проверка пропускной способности организации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загрузка оборудования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K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з.о. = (С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/ Су) 100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=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пл /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  <a:ea typeface="Arial"/>
              </a:rPr>
              <a:t>≤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Су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K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з.о. 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  <a:ea typeface="Arial"/>
              </a:rPr>
              <a:t>≥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75 %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С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– потребное количество оборудования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– производительность единицы оборудования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у – установленное (наличное) оборудование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.о. – загрузка оборудования, %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3. Проверка пропускной способности организации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197000"/>
            <a:ext cx="73864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занятость персонала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.п. = (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/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) 10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 =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л *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 =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 (1 -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≥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.п.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≥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75 %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 – потребность в производственном персонале;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– трудоемкость изготовления единицы продукции;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– действительный фонд времени работы одного производственного работника;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ф – фактическое наличие производственного персонала;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 – численность персонала на начало периода;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– коэффициент текучести кадров;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з.п. – коэффициент занятости персонала, %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3. Проверка пропускной способности организации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обеспеченность материалами: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d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=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ax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[(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п –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з), 0],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п =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H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*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пл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де Мп – потребность в материале;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– норматив расхода материала на единицу продукта;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d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– величина срочной закупки;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 – запас материала на начало период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3. Проверка пропускной способности организации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837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равномерность производства: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Nпл</a:t>
            </a:r>
            <a:r>
              <a:rPr b="0" lang="ru-RU" sz="4000" spc="-1" strike="noStrike" baseline="-25000">
                <a:solidFill>
                  <a:srgbClr val="2f1311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= Nпл</a:t>
            </a:r>
            <a:r>
              <a:rPr b="0" lang="ru-RU" sz="40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= Nпл</a:t>
            </a:r>
            <a:r>
              <a:rPr b="0" lang="ru-RU" sz="4000" spc="-1" strike="noStrike" baseline="-25000">
                <a:solidFill>
                  <a:srgbClr val="2f1311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= Nпл</a:t>
            </a:r>
            <a:r>
              <a:rPr b="0" lang="en-US" sz="4000" spc="-1" strike="noStrike" baseline="-25000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;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пл-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in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/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пл-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ax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) 100 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  <a:ea typeface="Arial"/>
              </a:rPr>
              <a:t>≥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25 %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73240" y="3573360"/>
            <a:ext cx="354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3056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3284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3332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3860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3878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42210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857680" y="38602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57680" y="3860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314880" y="3631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48000" y="299736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48000" y="30020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0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72520" y="1002600"/>
            <a:ext cx="44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4.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Выравнивание мощн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-49680" y="1749960"/>
            <a:ext cx="94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объе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151920" y="2810160"/>
            <a:ext cx="6898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продажа из запас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-168480" y="3283200"/>
            <a:ext cx="7675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объем производств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-38160" y="3870720"/>
            <a:ext cx="2223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спрос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-1128600" y="4580280"/>
            <a:ext cx="8608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                                                               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время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1116000" y="1341000"/>
            <a:ext cx="71280" cy="360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87280" y="4941720"/>
            <a:ext cx="648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87280" y="306864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4. Приспособление к спросу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верхурочная работ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ибкий рабочий график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ременные рабочие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убподряд – кооперирование и т.п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5. Оптимизация производственной программы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483920"/>
            <a:ext cx="7386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Модель формирования производственной программы включает целевую функцию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О = Σ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Oi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* Х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→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max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min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 систему ограничений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Σ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ij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Х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&lt;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j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=1,2…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i mi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&lt;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&lt;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i max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где КО – суммарное значение показателя, принятого в качестве критерия оптимальности;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– число наименований изготавливаемых изделий;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Xi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- количество изделий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-го наименования в программе;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i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– оценка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-го изделия в соответствии с критерием оптимальности;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ij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– затраты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-го ресурса на изготовление изделия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-го наименования;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j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-располагаемая величина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-го ресурса;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– число ограничений по ресурсам;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Ni min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Ni max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– допустимые пределы выпуска изделий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-го наименова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Задачи производственного планирования: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еспечение целенаправленного развития организации в целом и всех ее структурных подразделений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ерспективная ориентация и раннее  распознование проблем развития производства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ординация производственной деятельности структурных подразделений и работников организаци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здание объективной базы для эффективного контроля производств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тимулирование (мотивирование) трудовой активности работающих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формационное обеспечение работников организац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6. Дезагрегирование производственной программы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по конструктивным элементам;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по структурным звеньям организации;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по отрезкам календарного плана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Виды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изделий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неспецифицированные  - детали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специфированны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борочные единицы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мплексы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мплекты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484720" y="1012320"/>
            <a:ext cx="41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Спецификации издел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830240" y="2331720"/>
            <a:ext cx="5600520" cy="3543120"/>
            <a:chOff x="1830240" y="2331720"/>
            <a:chExt cx="5600520" cy="3543120"/>
          </a:xfrm>
        </p:grpSpPr>
        <p:sp>
          <p:nvSpPr>
            <p:cNvPr id="299" name=""/>
            <p:cNvSpPr/>
            <p:nvPr/>
          </p:nvSpPr>
          <p:spPr>
            <a:xfrm>
              <a:off x="1830240" y="2331720"/>
              <a:ext cx="1028520" cy="171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Е 1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Т1   1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Т2   1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Т3   1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Т4   1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31160" y="2331720"/>
              <a:ext cx="1028160" cy="171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Е 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Т2   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Т4   1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Т5   3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16520" y="2331720"/>
              <a:ext cx="1028520" cy="171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Е 3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Т1   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Т2   4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Т4   1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Т5   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2240" y="2331720"/>
              <a:ext cx="1028520" cy="171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Е 4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Т1   1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Т2   1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Т3   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58760" y="4389120"/>
              <a:ext cx="799920" cy="148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Т1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Е1   1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Е3   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Е4   1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02040" y="4389120"/>
              <a:ext cx="799920" cy="148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Т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Е1   1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Е2   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Е3   4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Е4   1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0" y="585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640" y="191628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пецификац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7800" y="4286160"/>
            <a:ext cx="18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окументац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о применению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омпоненто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03640" y="3068640"/>
            <a:ext cx="144720" cy="1224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292360" y="3068640"/>
            <a:ext cx="1150920" cy="1224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95640" y="3068640"/>
            <a:ext cx="2881080" cy="1224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64000" y="2781360"/>
            <a:ext cx="1584360" cy="1511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41080" y="45021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3, Т4, Т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Качественные и количественные параметры,  характеризующие изделия: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63160" y="1197000"/>
            <a:ext cx="78375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. Конструктивная сложност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остые и сложные изделия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2. Размер и масса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елкие, средние и крупны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. Вид, марка и типоразмер применяемых материал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4. Трудоемкость обработки деталей и сборки сборочных единицей изделия в цел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етрудоемкие (малотрудоемкие) и трудоемкие   изделия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5. Степень точности и шероховатости обработки деталей и точности сборки сборочных единиц и изделий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ысокоточные, точные и низкоточные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6. Удельный вес стандартных, нормализованных и унифицированных деталей и сборочных единиц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7. Число изготовляемых издел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Дезагрегирование производственной программы 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по структурным звеньям организации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2924280"/>
            <a:ext cx="738648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организац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2f131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дразделен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2f131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бочее мест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Дезагрегирование производственной программы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по отрезкам календарного плана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63520" y="2133720"/>
            <a:ext cx="7386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2f131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год – кварталы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2f131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вартал – месяцы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2f131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есяц - смен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Предмет планирования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ИОКР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оизводст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бы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набжени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сона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Финанс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очие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Виды производственного планирования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989000"/>
            <a:ext cx="7386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Цель планирова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иод планирова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ровень планирова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одержание планирова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Цель планиров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тратегическое (цели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актическое (средства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перативное (пути реализации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Период планиров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Долгосрочное (от 3 до 5 и более лет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Среднесрочное (от 1 года до 18 мес.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Краткосрочное (до 1 года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Уровень планиров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рганизация  в целом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дразделени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оект-заказ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тдельный исполнител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Содержание планиров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Продуктово-тематическое;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Ресурсное;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Календарное;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09:30:52Z</dcterms:created>
  <dc:creator>User</dc:creator>
  <dc:description/>
  <dc:language>en-US</dc:language>
  <cp:lastModifiedBy>User</cp:lastModifiedBy>
  <dcterms:modified xsi:type="dcterms:W3CDTF">2010-10-20T04:14:43Z</dcterms:modified>
  <cp:revision>51</cp:revision>
  <dc:subject/>
  <dc:title>Агрегатное планирование производства</dc:title>
</cp:coreProperties>
</file>