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623-F6CB-4A16-953C-7FAEBDDB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18F-89F1-4702-814A-36B6CF7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FA1-FBEF-4941-A0F6-E4A8C73C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8D7-B3CB-4B34-9938-67346F62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C225-47A8-4B33-AF72-DF58983B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6595-FC06-41D0-BA65-F88A93A4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1A4-F736-4B4C-99AB-A84A19B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614C-FF6E-464E-971A-F3DC400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109-F5B3-434B-BDA8-770F34B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E3A1-14BA-4313-9F17-FBC2BDE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4BEE-B323-4CAA-8400-C0F167F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4E9-4151-4088-924F-B1815DEA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2972-7703-4E46-9614-A407A97F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ECD3-2F2A-4C69-8F87-AD28343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9653-45CB-4820-9488-15EE5565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A4E-F888-41F9-B191-4106432A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52F-7E7D-43CA-9114-CDC3C6A8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F95-59C2-4CEE-BDD1-DFF7F79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3AF-AF95-407B-9E58-1FA258DD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E4C-616A-45C5-9C75-CC64FC2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B25-D2E6-455C-958F-895C58B3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47D-7507-4F70-8834-1848073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D57-CFDF-43A5-91C4-49CDD9D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2F8-D919-4FCC-84A2-AE081F8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70D-EC70-475B-A19F-8BA7028B8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277A-F415-4701-A104-EC921F6C7A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Оперативное управление производств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3428640"/>
            <a:ext cx="7704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Оперативное управление производством: определение, задачи, функции и стадии проце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онятие системы и типы систем оперативного план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Контроль как функция управления: сущность, виды, характеристика эта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Расписания в производственном менеджменте: определение, требования, методы составл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истема оперативного планирования – совокупность методов и техники плановой работы,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ь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плановых заданий производственным подразделениям сочетается с организацией их выпол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алендарное планиров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детализация годового плана производства продукции или услуг по срокам запуска-выпуска каждого вида продукции и своевременное доведение этих показателей (информирование) до каждого цеха, производственного участка и рабочего м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Цель оперативного планир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спечить выполнение производственной программы по критериям количества, качества, сроков и затр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алендарный план 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график выполнения различных работ, использования ресурсов или предоставления производственных мощносте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ределения производственной программы по отрезкам планируемого период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получение такой номенклатуры изделий и видов работ в каждом периоде, при котором будут обеспечены выполнение договорных обязательств, равномерное использование производственной мощности и согласованная деятельность всех структурных подразделений орган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ыбор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типа системы оперативного планировани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производства на предприят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епенью централизации плановых расч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арактером принятых планово-учетных едини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одом планирования (смена, сутки, декада, месяц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ом и порядком оформления и движения плановой и учетной докум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процессе оперативного планирования устанавливает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каких рабочих местах, участках, в каких цеха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их объема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ие сро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ой очередн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лжны выполняться те или иные операции по изготовлению деталей, сборке узлов и изделий согласно производственной програм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 охвату производственного процесса в пространств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жцехово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ицехов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онтроль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844640"/>
            <a:ext cx="85406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процесс обеспечения достижения организацией своих цел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, вызывающие необходимость контрол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определ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изменение законов, социальных ценностей, технологий, условий конкуренции и т. д., специализация и разделение труда люд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держание успех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дупреждение возникновения кризисных ситуаци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ирота контрол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ТАДИИ КОНТРОЛ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"до", "в течение" и "после"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варительный контро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ий контро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ительный контр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перативное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непосредственное, практическое осуществление чего-нибудь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еративное управл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посредственное, своевременное осуществление всех управленческих функци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равление способное быстро, вовремя направить или исправить ход д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ИДЫ КОНТРОЛ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дствен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роль зап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нансов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равленческий контро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тапы процесса контрол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установление норм (стандартов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змерение фактически достигнутых результатов и проверка их соответствия установленным норм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роведение корректировок в случае существенного отклонения достигнутых результатов от установленных стандартов, пл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обыденной терминологии контро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говорит как должно идти дел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смотрит как оно ид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выправляет то, что отклонилось в сторо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Установите стандарты –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ыработайте показатели результативност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андарт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кретная цель, прогресс в отношении которой поддается измер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и, которые могут быть использованы в качестве стандартов для контроля, имеют две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ременные рам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казатель результативности, характеризующий уровень достижений на пути реализации поставленных це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Сравните достигнутые результаты со стандарт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ите масштаб допустимых отклоне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уйте принцип  исклю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рьте результ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формируйте о стандартах и результа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 Действия (выбор подходящей линии поведения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ичего не предприним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ранить откло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смотреть станда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испетчиров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ерывный контроль и оперативное управление всеми звеньями производства в целях обеспечения равномерного и комплектного выполнения плана выпуска продук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принципы диспетчир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нтрализа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ново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еративно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илактика отклонений от заданного графика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ипы систем оперативного управл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 степени централиза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изова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централизован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 составу планово-учетных единиц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еталь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плект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аказ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 организации оперативного планирования производ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талкивающ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тягивающие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став и структура ПДО определя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ктурой предприят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мами производств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менклатурой выпускаемых издел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исленностью ППП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транственной организацией предпри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лавная задача оперативного управления производств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зация слаженной работы всех подразделений предприятия для обеспечения равномерного (ритмичного) выпуска продукции в установленных объемах и номенклатуре при полном использовании производственных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743200" y="31384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32479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2479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34225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1844640"/>
            <a:ext cx="3600360" cy="647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997360"/>
            <a:ext cx="2592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2997360"/>
            <a:ext cx="2592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83280" y="2997360"/>
            <a:ext cx="2592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24000" y="278136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6436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2492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6560" y="3068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ро календар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новых норм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91280" y="3068640"/>
            <a:ext cx="22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ро операти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лендар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83160" y="32130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испетчер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асписание в производственном менеджмен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окупность календарных дат, определяющих сроки выполнения конкурирующих по ресурсам операций (рабо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бования к составлению расписаний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спе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ения всей планируемой номенклатуры работ по всем издел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ерывности выполнения работ по всем планируемым издел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вномерной и полной загрузки персонала и оборудования по всем отрезкам календарного пери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ипы методов составл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ледовательно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ратно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риоритеты 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ритерии для определения очередности выполнения конкурирующих по ресурсам операций (работ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ила приорите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овокупность приемов и методов определения очередности выполнения конкурирующих по ресурсам операций (работ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ервый пришел – первый обслужен»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CF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нняя по дате исполнения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чайшее время исполнения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ее продолжительное время исполнения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P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ическое отношение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о Джонсо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 КАПУ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900000" y="1268280"/>
          <a:ext cx="7559640" cy="3613320"/>
        </p:xfrm>
        <a:graphic>
          <a:graphicData uri="http://schemas.openxmlformats.org/drawingml/2006/table">
            <a:tbl>
              <a:tblPr/>
              <a:tblGrid>
                <a:gridCol w="1228680"/>
                <a:gridCol w="2979720"/>
                <a:gridCol w="33512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ыполнения, д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, д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395280" y="1506600"/>
          <a:ext cx="8353440" cy="3917880"/>
        </p:xfrm>
        <a:graphic>
          <a:graphicData uri="http://schemas.openxmlformats.org/drawingml/2006/table">
            <a:tbl>
              <a:tblPr/>
              <a:tblGrid>
                <a:gridCol w="822240"/>
                <a:gridCol w="1228680"/>
                <a:gridCol w="1617840"/>
                <a:gridCol w="1598400"/>
                <a:gridCol w="1663920"/>
                <a:gridCol w="1422360"/>
              </a:tblGrid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ожи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здыв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"/>
          <p:cNvSpPr/>
          <p:nvPr/>
        </p:nvSpPr>
        <p:spPr>
          <a:xfrm>
            <a:off x="611280" y="40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«Первый пришел – первый обслуже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эффективности расписа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реднее время заверш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время в системе)/(число работ)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5/4 = 11,25 (дн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число работ в систем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время в системе)/(время выполнения)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5/19 = 2,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ожидани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запаздывание)/(число работ)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/4 = 3,75 (дн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582480" y="1844640"/>
          <a:ext cx="7979040" cy="4479840"/>
        </p:xfrm>
        <a:graphic>
          <a:graphicData uri="http://schemas.openxmlformats.org/drawingml/2006/table">
            <a:tbl>
              <a:tblPr/>
              <a:tblGrid>
                <a:gridCol w="698760"/>
                <a:gridCol w="1635120"/>
                <a:gridCol w="1460520"/>
                <a:gridCol w="1442880"/>
                <a:gridCol w="1501920"/>
                <a:gridCol w="1239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ыпол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ожи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зды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"/>
          <p:cNvSpPr/>
          <p:nvPr/>
        </p:nvSpPr>
        <p:spPr>
          <a:xfrm>
            <a:off x="1332000" y="731880"/>
            <a:ext cx="70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нняя по дате испол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эффективности распис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время завершения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4/4 = 11 (дне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число работ в систем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4/19 = 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ожидани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/4 = 3,5 (дн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истема оперативного управления предприятием включает следующие основные элемент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844280"/>
            <a:ext cx="854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равляемый процесс или параметр технологического процесс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стема планирования, которая задает показатели контролируемого процесс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ый канал обратной связи, для измерения действительных результатов управляемого процесса или значений параметра технологического процесс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внение действительных результатов управляемого процесса или значений параметра технологического процесса с расчетной нормой (производительностью) процесса или требуемыми значениями параметра технологического процесс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ектирующие действия при получении сигнала об отклонении хода производства за допустимые преде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39640" y="1628640"/>
          <a:ext cx="7848360" cy="4543560"/>
        </p:xfrm>
        <a:graphic>
          <a:graphicData uri="http://schemas.openxmlformats.org/drawingml/2006/table">
            <a:tbl>
              <a:tblPr/>
              <a:tblGrid>
                <a:gridCol w="773280"/>
                <a:gridCol w="1153440"/>
                <a:gridCol w="1519560"/>
                <a:gridCol w="1502280"/>
                <a:gridCol w="1563480"/>
                <a:gridCol w="1336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ожи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здыв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611280" y="47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тчайшее время испол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эффективности распис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время завершения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/4 = 10,25 (дн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число работ в систем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/19 = 2,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ожидани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/4 = 3,75 (дн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82480" y="1413000"/>
          <a:ext cx="7979040" cy="5230800"/>
        </p:xfrm>
        <a:graphic>
          <a:graphicData uri="http://schemas.openxmlformats.org/drawingml/2006/table">
            <a:tbl>
              <a:tblPr/>
              <a:tblGrid>
                <a:gridCol w="698760"/>
                <a:gridCol w="1635120"/>
                <a:gridCol w="1460520"/>
                <a:gridCol w="1442880"/>
                <a:gridCol w="1501920"/>
                <a:gridCol w="1239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ыпол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ожи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в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зды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324000" y="4935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иболе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одолжительно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рем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спол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эффективности распис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время завершения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/4 = 13,5 (дн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число работ в систем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/19 = 2,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нее ожидание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/4 =6,25 (дн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ритическое отношение (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CR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время, оставшееся до завершения работ по плану) / (остающееся время на выполнение работы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мя, оставшееся до завершения работ по плану = (дата окончания) – (текущая дат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ческое отношение может быть получено на любую дату. Оно дает приоритет тем работам, которые должны быть выполнены, чтобы не нарушить распис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луча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&lt; 1 работа отстает от распис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луча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&gt; 1 работа опережает распис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1 работа соответствует распис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1187280" y="2421000"/>
          <a:ext cx="7345440" cy="3387600"/>
        </p:xfrm>
        <a:graphic>
          <a:graphicData uri="http://schemas.openxmlformats.org/drawingml/2006/table">
            <a:tbl>
              <a:tblPr/>
              <a:tblGrid>
                <a:gridCol w="1258920"/>
                <a:gridCol w="2546640"/>
                <a:gridCol w="3539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заверш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авшиеся рабочие д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188640" y="565200"/>
            <a:ext cx="86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т 20-й день производственного распис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рядок выполнения раб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пределим критическое отношение и приоритет работ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А) = (23-20)/3 = 1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А находится в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) = (22-20)/4 = 0,5 &lt; 1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В отстает от рас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С) = (26-20)/5 -1,2 &gt; 1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С опережает распис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оритет работ: В – А -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адии процесса оперативного управл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календарно-плановых норматив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еративно-календарное план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петчир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еративно-производственное планирование – завершающий этап внутрипроизводственного планировани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оперативного планир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ираются планово-учетные единиц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атываются календарно-плановые норматив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ляются календарные пл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ланово-учетная еди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ятая в организации для целей планирования учетная единица работ: деталь, комплект, заказ, академический час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лендарно-плановые норматив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струменты взаимной увязки календарных планов, согласования работы взаимосвязанных рабочих мест, участков и цехов, а также обеспечения эффективного использования оборудования и персон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Нормати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– от лат. normatio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упорядоч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азатель норм, в соответствии с которым производится какая-либо работа, выполняется какая-либо програм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элементные составляющие норм, характеризующие удельный расход сырья или материалов на единицу массы, объема, площади, длины при выполнении производственных процессов, размеры технологических отходов и потерь сырья и материалов по видам производственных процессов; измеряются в натуральных (условно-натуральных) единицах или в проц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четные величины затрат рабочего времени, материальных и денежных ресур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39:54Z</dcterms:created>
  <dc:creator>User</dc:creator>
  <dc:description/>
  <dc:language>en-US</dc:language>
  <cp:lastModifiedBy>User</cp:lastModifiedBy>
  <dcterms:modified xsi:type="dcterms:W3CDTF">2010-10-26T16:54:17Z</dcterms:modified>
  <cp:revision>49</cp:revision>
  <dc:subject/>
  <dc:title>Оперативное управление производством</dc:title>
</cp:coreProperties>
</file>