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F3A-E743-4D67-83DA-D4234A6D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669-E880-49DE-BFDC-63FC3731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B03-C749-4AD0-96E9-2D71169E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2E2-7FC0-41A9-A235-1908FE8F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9A0C-B6CF-4CA4-8560-3EA86925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923-7A92-4F26-BBC6-A4BE5F2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6F51-35C0-4EC5-8DF6-67A1BED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67F3-DC06-4B17-864D-E52EDD47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6DE0-EFC6-4108-844C-045DAC12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5CEF-1DA9-471E-9FED-90AC8960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EDEB-D664-4EC0-80CE-593D4B7C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3DB-FA6F-4768-9FCF-FCD10D08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4487-7600-4622-9C4D-F1997AA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A69B-4554-4FC1-865A-29B9ABCC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61AE-DD81-4DC3-979F-964D71C6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CC18-BD2D-4791-B377-46AC7E46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1D74-0CE2-4590-A731-18DCA76F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F79-091E-403C-977D-A4D9D68C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0B0-8AC2-4888-83E6-38F53CF3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D27-DBF7-4590-8805-83993D27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44B-67E6-4E5A-A900-0C54BAA4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EB8-86FB-4BEA-BDBF-46D5645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325-7EB4-4DFA-A520-24CD096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F6F-6F78-4BED-AB4C-DA9EA370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4E52-CAAF-48AB-B65C-62936A1B87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936B-8168-480B-B0B8-39975A096CC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4c3aa"/>
                </a:solidFill>
                <a:latin typeface="Arial"/>
              </a:rPr>
              <a:t>Коммуникации в управлении</a:t>
            </a:r>
            <a:br>
              <a:rPr sz="4700"/>
            </a:b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777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. Роль и функции информации в управлен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 Требования, предъявляемые к информации. Классификации информа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. Коммуникации: значение, основные определения, виды  коммуникац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. Коммуникационный процесс: определение, характеристика элементов и эта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. Коммуникационные сети и стили: характеристика и области примен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. Преграды на путях межличностных и организационных коммуникаций и способы улучшения коммуникаций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826920" y="620640"/>
          <a:ext cx="7417080" cy="6096240"/>
        </p:xfrm>
        <a:graphic>
          <a:graphicData uri="http://schemas.openxmlformats.org/drawingml/2006/table">
            <a:tbl>
              <a:tblPr/>
              <a:tblGrid>
                <a:gridCol w="2471760"/>
                <a:gridCol w="2473560"/>
                <a:gridCol w="2471760"/>
              </a:tblGrid>
              <a:tr h="189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ткрыт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коммуникации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ткрытие себ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еализация себ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мыкание в себе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щита себ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декватность обратной связ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Барьеры межличностных коммуникаций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ияти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мантика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мен невербальной информацией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ачественная обратная связь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хое слуш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Барьеры организационных коммуникаций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тельное искажение сообщений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ильтрация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овпадение статуса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формационные перегрузки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довлетворительная структура организаци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флик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4c3aa"/>
                </a:solidFill>
                <a:latin typeface="Arial"/>
              </a:rPr>
              <a:t>Способы улучшения межличностных коммуникаций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ясняйте свои идеи перед началом их передач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пользуйте гармоничные невербальные знак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потребляйте точные слов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лучайте эмпатию и открытость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бивайтесь установления обратной связ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итесь эффективно слушать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4c3aa"/>
                </a:solidFill>
                <a:latin typeface="Arial"/>
              </a:rPr>
              <a:t>Способы улучшения организационных коммуникаций</a:t>
            </a:r>
            <a:r>
              <a:rPr b="0" i="1" lang="en-US" sz="4000" spc="-1" strike="noStrike">
                <a:solidFill>
                  <a:srgbClr val="c4c3aa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егулирование информационных потоков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существление управленческих действий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становление систем обратной связи, сбора предложени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спользование информационных бюллетеней и современных информационных технолог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4c3aa"/>
                </a:solidFill>
                <a:latin typeface="Arial"/>
              </a:rPr>
              <a:t>Информац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осведомление», «сообщение», «разъяснение»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Функции внутрифирменной системы информац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 определенном этапе процесса управления выступает продуктом труда, на последующем – в качестве предмета труда управляющег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ладает свойством длительного и многократного применения и при использовании не теряет своих потребительских свой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меет способность накапливаться и в то же время морально устаревать в связи с изменениями в реальной действительно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руктурные подразделения органов управления выступают как потребителями, так и источниками информ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ладает стоимостью и потребительной стоимость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Требования, предъявляемые к информации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остаточность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остоверность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оступность для понимания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воевременность и оперативность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днозначность (четкий понятийный аппарат)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истемность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ъективность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экономическая эффектив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4c3aa"/>
                </a:solidFill>
                <a:latin typeface="Arial"/>
              </a:rPr>
              <a:t>Классификации информации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По характер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По качеств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По направлению движ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По отношению к систем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По степени норматив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4c3aa"/>
                </a:solidFill>
                <a:latin typeface="Arial"/>
              </a:rPr>
              <a:t>Коммуникация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атинского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, означающего «общее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мен информацией между двумя и более субъекта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муникация включает в себя и то, что предается, и то, как это «что» передаетс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4c3aa"/>
                </a:solidFill>
                <a:latin typeface="Arial"/>
              </a:rPr>
              <a:t>Коммуникационный процесс –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следовательность взаимосвязанных этапов обмена информацией между двумя и более людьм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4c3aa"/>
                </a:solidFill>
                <a:latin typeface="Arial"/>
              </a:rPr>
              <a:t>Коммуникационная сеть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соединение определенным образом участвующих в коммуникационном процессе индивидов с помощью информационных пото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ссматриваются не индивиды как таковые, а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коммуникационные отношения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ежду ни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ть состоит из вертикальных, горизонтальных и диагональных связ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4c3aa"/>
                </a:solidFill>
                <a:latin typeface="Arial"/>
              </a:rPr>
              <a:t>Коммуникационный стиль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пособ, с помощью которого индивид предпочитает строить коммуникационное взаимодействие с други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7:54:32Z</dcterms:created>
  <dc:creator>User</dc:creator>
  <dc:description/>
  <dc:language>en-US</dc:language>
  <cp:lastModifiedBy>User</cp:lastModifiedBy>
  <dcterms:modified xsi:type="dcterms:W3CDTF">2010-11-09T17:19:43Z</dcterms:modified>
  <cp:revision>42</cp:revision>
  <dc:subject/>
  <dc:title>Теоретические основы производственного менеджмента</dc:title>
</cp:coreProperties>
</file>