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295-4819-4370-A349-01D6B697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685-EDA8-4D24-A3C3-DD813307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2F4-FC41-4374-B1F2-445A70FE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A57-94C8-437B-9F24-604EA9EA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8B19-7E7E-4760-970B-A0A6E5BA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8996-D7FD-4F0B-9177-A4B89320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F41E-C3BD-43CC-B709-E4341196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45F2-C92D-4DBD-88BC-65BC3C9B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AF2-9697-4E2A-99AF-539026B2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E788-D65A-4970-AB79-92D581DA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3476-8E8F-4327-9E64-9CA5EFBD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A7F-F96D-4DFC-A491-CB951492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FADC-5866-46F6-B6D8-FFB09A61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9612-5F78-4A46-B371-AC207178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DF83-6036-4EEB-A2F3-8C4FDB91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7E2E-CA26-4C3C-B8C9-2764BE52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6BA8-DA89-4314-9445-E285CDBC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B49-E3D4-461C-9E12-57A367C6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818-E863-4E63-8828-EFE7E723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C1A-6EF0-4787-9F7A-D469DF37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470-CAF3-44E8-84AF-B1BCDC56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C61-EC3B-4D1C-A0CB-6F5A6B9D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992-5F71-4F92-BD6C-10EC776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F9E-45B7-46A4-9939-F86F4644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CDF3-9ADD-4B53-BF7C-FC2F2C1122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626E-9AC8-476F-AFF7-19D69F540B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Организация поточного производ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640" y="3357720"/>
            <a:ext cx="7416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ая характеристика и разновидности поточного произво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словия организации и параметры поточных ли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обенности организации непрерывно-поточных ли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обенности организации прерывно-поточных ли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Признаки поточного производст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араллель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ждый данный момент на разных операциях обрабатывается несколько единиц данного изделия, передача осуществляется поштучно либо небольшими парт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Признаки поточного производст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итмич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итмичный выпуск продукции и ритмичное повторение всех операций на каждом рабочем месте. При строгой пропорциональности достигается полная и равномерная загрузка рабочих мест на ли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араметры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поточных линий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т линии (штучный ритм) (мин/ш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/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п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точный действительный фонд времени работы ли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= (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см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-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п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)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рамма запу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п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 100/(100-а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де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см – календарный фонд времени работы (месяц, сутки, смена), мин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п - регламентированные перерывы для отдыха и профилактических мероприятий, мин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число рабочих смен в сутк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– технологические потери, %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число изделий в парт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орма времени 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й опер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араметры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поточных ли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линии (мин/партия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 = r * 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четное число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pi  =  ti/ 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ятое число рабочих мест (округлить до целого числ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~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эффициент загрузки рабочего м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 = cpi / c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инхронизаци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цесс согласования длительности операций с тактом поточной лин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ется путем изменений состава операций и организационных условий их выполн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ип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инхронизации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редварительна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кончательна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словие синхронности можно выразить следующим образом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=,…,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m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m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нл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…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ормы времени по операциям, мин.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3200" spc="-1" strike="noStrike" baseline="-2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3200" spc="-1" strike="noStrike" baseline="-22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…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число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ч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 операциях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н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такт непрерывно-поточной линии, м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Параметры конвейер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аг конвейе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м)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кор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м/мин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=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ередаче изделий пачкам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=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/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ина рабочей зоны (станции) операц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ормальная зо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 =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*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л =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*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зервная зона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=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*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ma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*Δ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целом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+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 =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*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+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*Δ=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*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Δ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ина рабочего участка конвейе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=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*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*Δ)=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Δ)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щая длина ленты транспортера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=2*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+π*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диаметр натяжного и приводного барабанов, м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Межоперационный оборотный задел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задел между смежными операциями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ность числа изделий, обработанных на этих операциях за определенный период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аксимальная величина задел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шт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a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1/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1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ериод времени работы на смежных операциях при неизменном числе работающих станков, мин.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1- число единиц оборудования, работающих на смежны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й и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1)-й операциях в течение периода времен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1 - нормы времени на этих операц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Поточное производ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грессивная форма организации производства, основанная на ритмичной повторяемости согласованных во времени основных и вспомогательных операций, выполняемых на специализированных рабочих местах, расположенных в последовательности операций технологического проц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ервичным производственным звеном поточного производства является 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поточная лини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личаю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сту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почку рабочих мест на линии, где для каждой операции выделяют одно рабочее мест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ложну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и наличии на операциях двух или нескольких мест –дублер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Признаки поточного производст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507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Узкая специализа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предметно-замкнутых участков в виде специализированных поточных ли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пециализац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днопредметная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закреплено изделие одного наименован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ногопредметная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закреплены изделия нескольких наименований (серийное производство), с таким расчетом, чтобы их можно было обрабатывать с минимальными потерями времени на переналадку оборудования при достаточной загрузке рабочих мест и совпадении маршрута обработ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Признаки поточного производст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ямоточность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мещение оборудования и рабочих мест в порядке следования операций технологического проц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рямоточност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зависимости от имеющейся площади поточные линии могут иметь различную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нфигураци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ямолинейную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ямоугольную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уговую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вальную и п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Признаки поточного производст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епрерывнос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межоперационного пролеживания движение изделий по операциям при непрерывной работе рабочих и оборуд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Непрерыв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епрерывно-поточны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ерывно-поточны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и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ямоточны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46:13Z</dcterms:created>
  <dc:creator>User</dc:creator>
  <dc:description/>
  <dc:language>en-US</dc:language>
  <cp:lastModifiedBy>User</cp:lastModifiedBy>
  <dcterms:modified xsi:type="dcterms:W3CDTF">2010-10-12T09:47:25Z</dcterms:modified>
  <cp:revision>27</cp:revision>
  <dc:subject/>
  <dc:title>Организация поточного производства</dc:title>
</cp:coreProperties>
</file>