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8C3-FB0F-43B3-B1A9-CD931A80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F23-ADF3-48E8-BB87-944834D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4BD-CA39-4552-8E19-F526FEA6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1A0-60FC-44AE-90E4-64413895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034-7519-4ACC-982A-D31EB604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204E-B237-4B26-B9EC-A87D657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D89B-C837-4C67-AED5-D17A3F72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B21-DF05-4929-A2F4-1FE72D6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602F-C53E-45F6-953D-25CC4F67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775-B0CE-420A-9B98-52FB5E84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F60-C323-4788-A249-587F17D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AD3-5373-43B9-A5EA-4980E2F5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C214-1740-4F72-ACE8-2B85794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8D58-7C12-4972-8152-CEADD9E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59E3-EEC5-4CA5-9EB1-522C4E4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DED7-6613-42E1-ABE8-8DEA01BF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7A3-43DC-41A3-BB92-170C5F3C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92B-F9CE-4683-9BCE-79AE99C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478-62FB-4AE8-A6AF-9A4A330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B0B-8D3D-48F3-AE47-461A666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1F4-15C3-476F-9A19-535AD93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CE5-BE4E-4A64-B7D0-B867FD2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E39-66C9-4B6B-AFBF-E3B7168A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21C-CBCD-4B06-9287-154194A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97B-675C-419F-B39F-68D206553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3939-60F9-4A24-B8B5-23DD8ED659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247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Мотивация деятельности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777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щая характеристика мотив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Мотивационный процесс: понятие и характеристика стад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Теории мотивации: сущность и применение в практике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Профессиональная адаптация персон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Трудовые перемещения и карьера на предприят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адии мотивационного процесс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зникновение потребностей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иск путей устранения потреб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ределение целей (направления) действ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уществление действ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лучение вознаграждения за осуществление действия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странение потребностей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Теории мотивации можно разделить на две категори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Содержательные теори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сновываются на идентификации тех внутренних побуждений, которые заставляют людей действовать так, а не инач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Процессуальные теори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сновываются на том, как ведут себя люди с учетом их восприятия и познания, динамики взаимодействия различных мотивов, то есть на том, как инициируется и направляется поведение челове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держательные теории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мотиваци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иерархии потребностей А.Масло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фрустрации К.Альдерфе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приобретенных потребностей Д.МакКлелланд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двух факторов Ф.Герцберг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цессуальные теории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мотиваци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оперантного обуславливания Б.Ф.Скине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ожидания Виктора Врум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ория равенства или справедливости Стейси Адамс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дель Портера - Лоуле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партисипативного управл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еория иерархии потребностей А. Масло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11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Физиологические потребност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в пище, воде, воздухе, убежище и т.п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отребности безопасност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связаны со стремлением и желанием людей находиться в стабильном и безопасном состоянии, защищающем от страха, боли, болезней и других страданий, которые может принести человеческая жизнь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отребности принадлежности и причастност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Человеку необходимо общество, он стремится к участию в совместных действиях, он хочет дружбы, любви, участвовать в общественных мероприятиях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отребности признания и самоутверждения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отражают желание людей быть компетентными, сильными, способными, уверенными в себе, а так же желание того, чтобы окружающие признавали их такими и уважали их за эт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отребности самовыражения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это стремление человека наиболее полно использовать свои знания, способности и умения. Это потребности в творчеств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еория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ERG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(фрустрации)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К. Альдерфе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1915920"/>
            <a:ext cx="731376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требности существования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xit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требности связи (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elation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ражают социальную природу человека, стремление быть членами семьи, иметь коллег, друзей, начальников, подчиненных. Потребности признания и самоутверждения и часть потребностей безопасности, связанных с групповой безопасность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требности роста (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oins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ключают потребности признания и самоутверждения, связанные с развитием уверенности и самосовершенств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еория приобретенных потребностей Д.  МакКлелланд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вязана с изучение и описанием влияния на поведение человека потребносте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стижения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участ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ластвова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еория двух факторов Герцбер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процесс обретения удовлетворенности и процесс нарастания неудовлетворенности, с точки зрения обуславливающих их факторов  являются двумя различными процессами,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удовлетворители»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мотивирующие факторы»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факторы здоровь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71640" y="765000"/>
            <a:ext cx="7777080" cy="5040360"/>
            <a:chOff x="971640" y="765000"/>
            <a:chExt cx="7777080" cy="5040360"/>
          </a:xfrm>
        </p:grpSpPr>
        <p:sp>
          <p:nvSpPr>
            <p:cNvPr id="126" name=""/>
            <p:cNvSpPr/>
            <p:nvPr/>
          </p:nvSpPr>
          <p:spPr>
            <a:xfrm>
              <a:off x="971640" y="765000"/>
              <a:ext cx="77292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еория               Теория                     Теория                     Теория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. Маслоу       К. Альдерфера      Д. МакКлелланда       Ф. Герцбер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72360" y="1540440"/>
              <a:ext cx="7776360" cy="4264920"/>
              <a:chOff x="972360" y="1540440"/>
              <a:chExt cx="7776360" cy="4264920"/>
            </a:xfrm>
          </p:grpSpPr>
          <p:sp>
            <p:nvSpPr>
              <p:cNvPr id="128" name=""/>
              <p:cNvSpPr/>
              <p:nvPr/>
            </p:nvSpPr>
            <p:spPr>
              <a:xfrm>
                <a:off x="6851520" y="1540440"/>
                <a:ext cx="1849680" cy="163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отивирующи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акторы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остиже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изна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цесс рабо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ответственност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0360"/>
                    <a:tab algn="l" pos="270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движ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898320" y="3306600"/>
                <a:ext cx="1849680" cy="206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акторы здоровья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олитика и упр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ехническое руководств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оплата тру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заимоотношения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 руководство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словия тру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54320" y="1540440"/>
                <a:ext cx="1328400" cy="51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отреб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остижен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54320" y="2186280"/>
                <a:ext cx="1328400" cy="51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отреб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ластвован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4320" y="2918520"/>
                <a:ext cx="1375560" cy="5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отреб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оучаст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18800" y="1540440"/>
                <a:ext cx="3320280" cy="3661920"/>
                <a:chOff x="1018800" y="1540440"/>
                <a:chExt cx="3320280" cy="3661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19520" y="1540440"/>
                  <a:ext cx="1566000" cy="56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амовыраж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19520" y="2272320"/>
                  <a:ext cx="1566000" cy="73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ризнания и самоутвержд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018800" y="3133800"/>
                  <a:ext cx="1565640" cy="73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ринадлежности и причаст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8800" y="3995640"/>
                  <a:ext cx="1565640" cy="56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в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безопас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18800" y="4728240"/>
                  <a:ext cx="1565640" cy="47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Физиологические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09960" y="1841760"/>
                  <a:ext cx="1329120" cy="47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оста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09960" y="2961720"/>
                  <a:ext cx="1329120" cy="51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вязи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09960" y="4340160"/>
                  <a:ext cx="1329120" cy="56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требность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уществова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583000" y="175536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725560" y="1755360"/>
                  <a:ext cx="720" cy="7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83000" y="253080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83000" y="421092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725560" y="4210920"/>
                  <a:ext cx="720" cy="7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582640" y="498636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583000" y="283248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25560" y="2832480"/>
                  <a:ext cx="720" cy="81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2582640" y="3650760"/>
                  <a:ext cx="142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25560" y="2100240"/>
                  <a:ext cx="2851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25560" y="3263400"/>
                  <a:ext cx="285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25560" y="4598280"/>
                  <a:ext cx="285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4717080" y="1712520"/>
                <a:ext cx="237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17080" y="2487600"/>
                <a:ext cx="237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17080" y="1712520"/>
                <a:ext cx="720" cy="7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38000" y="3263040"/>
                <a:ext cx="617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85160" y="2057040"/>
                <a:ext cx="332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82000" y="1798560"/>
                <a:ext cx="1904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71360" y="1798560"/>
                <a:ext cx="1080" cy="69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6281640" y="2487600"/>
                <a:ext cx="1904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71360" y="2143440"/>
                <a:ext cx="380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9160" y="3306600"/>
                <a:ext cx="1900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18520" y="3306600"/>
                <a:ext cx="720" cy="10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18520" y="4340160"/>
                <a:ext cx="332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85160" y="4641480"/>
                <a:ext cx="2513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72360" y="5460120"/>
                <a:ext cx="777636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оотношение групп потребностей в содержательных теориях мотив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92160" y="1013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даптация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от позделат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aptatio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- приспособлени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цесс выработки приспособлений к изменяющимся внешним условиям, процесс привыкания, взаимодействия со средой, включающ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воение норм и ценностей среды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менение, преобразование среды в соответствии с новыми условиями и целями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сновополагающий принцип -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ринцип индивидуальных различий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ндивидуумы имеют уникальные нужды, потребности, цели и мотивы. Положительная мотивация требует, чтобы с рабочими обращались как с личностя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еловеческие проблемы не могут быть просты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ичные или семейные проблемы рабочего могут неблагоприятно повлиять на производительность на рабочем мест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мен информацией имеет большое значение, а эффективная информация представляет решающий фактор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даптация персонал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это включение личности в новую для нее производственно-вещественную и социальную среду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процессе адаптации участвуют две сторон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работни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о своими потребностями, интересами, ценностями, мотивами, желаниями, способностями, опытом и пр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рганизация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которая имеет определенную структуру и организацию рабочих мест, определенный набор функций, сложившиеся стили взаимоотношений, корпоративную культуру, нормы поведения, условия труда и п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адапта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ервична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вторич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держанию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оциально-психологическ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сихо-физиологическа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офессиональ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экономическ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рганизацион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адии трудовой адапта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2060640"/>
            <a:ext cx="73134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ознакомление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проб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идентификац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ассимиляц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убъекты трудовой адаптаци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2204640"/>
            <a:ext cx="7313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непосредственный руководител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наставник (куратор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служба управления персонал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вижение персонал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зменение его числен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 степени управляемости различают факторы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нутриорганизацио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нешние по отношению к организ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Личност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вижение персонала характеризую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реднесписочная численно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эффициент оборота кадров по поступлению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эффициент оборота кадров по выбытию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рь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од занятий, профессия (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артистическая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уть к успехам, видному положению в обществе, на служебном поприще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амое достижение такого положе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.И. Ожег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рь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одвижение работника по ступенькам служебной иерарх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следовательная смена занятий как в рамках отдельной организаци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 и на протяжении жизн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сприятие человеком этих этап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рь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11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зультат осознанной позиции и поведения в области трудовой деятельности, связанный с должностным и профессиональным поведение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Карьеру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траекторию своего движения человек строит сам, в зависимости от реальных условий труда и своих целей, желаний и интерес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апы карье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едваритель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Этап станов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Этап продвиж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Этап сохра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Этап заверш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нсионный этап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Мотивац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11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вокупность внутренних и внешних движущих сил, которые побуждают человека к деятельност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дают границы и формы деятельности 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дают этой деятельности направленность, ориентированную на достижение определенных целе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20908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требность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– ощущение физиологически или психологически недостатка чего-либо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40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Это то, что возникает и находится внутри человека, что достаточно общее для разных людей, но в тоже время имеет определенное индивидуальное проявление у каждого человека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Это то, от чего человек стремится освободитьс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пособы устранения потребности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удовлетворять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подавлять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не замечать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Моти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это то, что вызывает определенные действия человек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ходится «внутри» челове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еет «персональный» характер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висит от множества внутренних и внешних фактор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 действия других возникающих параллельно с ним мотив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н не только побуждает человека к действию, но и определяет, что нужно сделать и как будет осуществлено это действ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тивы поддаются осознанию, то есть человек может воздействовать на них,  устраняя их или приглушая их действ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Мотивационная структур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отношение различных групп мотив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Эта структура стабильна, то есть меняется очень редко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если меняется, то сознательно в процессе воспитания и образования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82087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Мотивирование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это процесс воздействия на человека с целью побуждения его к определенным действиям путем пробуждения в нем определенных мотиво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ва типа мотивирования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путем внешних воздействий на человека вызывают к действию определенные мотивы, которые побуждают человека осуществлять определенные действия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«Я даю тебе, что ты хочешь, а ты даешь мне, что я хочу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) формирование определенной мотивационной структуры человек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тимулирование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это процесс использования различных стимулов для мотивирования людей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Стимул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будительная причина, заинтересованность в совершении чего-нибудь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н выполняет роль рычага воздействия или носителя раздражения, вызывающего действие определенных мотивов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акция на одни и те же стимулы не одинакова у различных люде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имулы не имеют значения или смысла, если люди не реагируют на них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Мотивация -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вокупность внутренних и внешних движущих сил, побуждающих человека осуществлять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 затратой определенных усил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 определенном уровне стар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 добросовест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 определенной степенью настойчив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направлении достижения определенных цел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7:54:32Z</dcterms:created>
  <dc:creator>User</dc:creator>
  <dc:description/>
  <dc:language>en-US</dc:language>
  <cp:lastModifiedBy>User</cp:lastModifiedBy>
  <dcterms:modified xsi:type="dcterms:W3CDTF">2010-11-23T15:28:38Z</dcterms:modified>
  <cp:revision>71</cp:revision>
  <dc:subject/>
  <dc:title>Теоретические основы производственного менеджмента</dc:title>
</cp:coreProperties>
</file>