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1.wmf" ContentType="image/x-wmf"/>
  <Override PartName="/ppt/media/image55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3.png" ContentType="image/png"/>
  <Override PartName="/ppt/media/image41.png" ContentType="image/png"/>
  <Override PartName="/ppt/media/image44.png" ContentType="image/png"/>
  <Override PartName="/ppt/media/image34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6.jpeg" ContentType="image/jpeg"/>
  <Override PartName="/ppt/media/image42.png" ContentType="image/png"/>
  <Override PartName="/ppt/media/image79.png" ContentType="image/png"/>
  <Override PartName="/ppt/media/image61.png" ContentType="image/png"/>
  <Override PartName="/ppt/media/image62.png" ContentType="image/png"/>
  <Override PartName="/ppt/media/image28.jpeg" ContentType="image/jpe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21.png" ContentType="image/png"/>
  <Override PartName="/ppt/media/image68.png" ContentType="image/png"/>
  <Override PartName="/ppt/media/image70.png" ContentType="image/png"/>
  <Override PartName="/ppt/media/image67.jpeg" ContentType="image/jpeg"/>
  <Override PartName="/ppt/media/image69.png" ContentType="image/png"/>
  <Override PartName="/ppt/media/image71.png" ContentType="image/png"/>
  <Override PartName="/ppt/media/image73.png" ContentType="image/png"/>
  <Override PartName="/ppt/media/image60.png" ContentType="image/png"/>
  <Override PartName="/ppt/media/image95.png" ContentType="image/png"/>
  <Override PartName="/ppt/media/image93.png" ContentType="image/png"/>
  <Override PartName="/ppt/media/image14.png" ContentType="image/png"/>
  <Override PartName="/ppt/media/image92.png" ContentType="image/png"/>
  <Override PartName="/ppt/media/image91.png" ContentType="image/png"/>
  <Override PartName="/ppt/media/image89.png" ContentType="image/png"/>
  <Override PartName="/ppt/media/image27.jpeg" ContentType="image/jpeg"/>
  <Override PartName="/ppt/media/image52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8.png" ContentType="image/png"/>
  <Override PartName="/ppt/media/image74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59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6.png" ContentType="image/png"/>
  <Override PartName="/ppt/media/image81.png" ContentType="image/png"/>
  <Override PartName="/ppt/media/image80.png" ContentType="image/png"/>
  <Override PartName="/ppt/media/image15.png" ContentType="image/png"/>
  <Override PartName="/ppt/media/image29.png" ContentType="image/png"/>
  <Override PartName="/ppt/media/image94.png" ContentType="image/png"/>
  <Override PartName="/ppt/media/image38.jpeg" ContentType="image/jpeg"/>
  <Override PartName="/ppt/media/image72.png" ContentType="image/png"/>
  <Override PartName="/ppt/media/image58.png" ContentType="image/png"/>
  <Override PartName="/ppt/media/image3.wmf" ContentType="image/x-wmf"/>
  <Override PartName="/ppt/media/image82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44F4-ED08-4B01-80DC-33674F02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2C6A-2971-4132-90A6-D6791A986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D272-6C7D-4E70-9C07-C4D92F82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06E7-9426-4716-9FCC-B0603196B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4A5-1BD9-4338-B9E7-60ABF99A8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4992-2CBC-4B7F-8DD4-83CC9472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A538-9CBC-4D34-9C31-76D82EA7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7E9-347A-4FB0-91FD-61663FFEC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E8CF-607D-4FAF-8AAE-E5F486BE2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77EA-41EC-4E55-9736-D9EF82BA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058E-4536-4276-8B83-28312C8A0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D03-4BBB-411A-9012-FE4D10CF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2414-C927-4550-9053-C8EBB8B31A0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19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45.png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image" Target="../media/image60.png"/><Relationship Id="rId6" Type="http://schemas.openxmlformats.org/officeDocument/2006/relationships/image" Target="../media/image61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62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png"/><Relationship Id="rId3" Type="http://schemas.openxmlformats.org/officeDocument/2006/relationships/image" Target="../media/image69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image" Target="../media/image76.png"/><Relationship Id="rId3" Type="http://schemas.openxmlformats.org/officeDocument/2006/relationships/image" Target="../media/image7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image" Target="../media/image79.png"/><Relationship Id="rId3" Type="http://schemas.openxmlformats.org/officeDocument/2006/relationships/image" Target="../media/image80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1.png"/><Relationship Id="rId2" Type="http://schemas.openxmlformats.org/officeDocument/2006/relationships/image" Target="../media/image82.png"/><Relationship Id="rId3" Type="http://schemas.openxmlformats.org/officeDocument/2006/relationships/image" Target="../media/image83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png"/><Relationship Id="rId2" Type="http://schemas.openxmlformats.org/officeDocument/2006/relationships/image" Target="../media/image85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png"/><Relationship Id="rId2" Type="http://schemas.openxmlformats.org/officeDocument/2006/relationships/image" Target="../media/image87.png"/><Relationship Id="rId3" Type="http://schemas.openxmlformats.org/officeDocument/2006/relationships/image" Target="../media/image88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image" Target="../media/image90.png"/><Relationship Id="rId3" Type="http://schemas.openxmlformats.org/officeDocument/2006/relationships/image" Target="../media/image91.png"/><Relationship Id="rId4" Type="http://schemas.openxmlformats.org/officeDocument/2006/relationships/image" Target="../media/image92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Основы квантовой механик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квантовой теории.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стояние, в котором физическая величин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пределенное значение, описывается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функцией, являющейся решением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среднее значени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остоянии, описываемо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функцией, то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четом, ч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функция описывает собственные состояния, т.е. физический смысл будут иметь такие решения, которые всюду конечные, однозначные, непрерывные и гладкие – т.е. удовлетворяют естественным или стандартным услови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3429000" y="1571760"/>
            <a:ext cx="1687680" cy="6397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tretch/>
        </p:blipFill>
        <p:spPr>
          <a:xfrm>
            <a:off x="2214720" y="3071880"/>
            <a:ext cx="4657680" cy="4284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3"/>
          <a:stretch/>
        </p:blipFill>
        <p:spPr>
          <a:xfrm>
            <a:off x="2428920" y="3643200"/>
            <a:ext cx="169236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квантовой теории. Собственные функции, собственн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 удовлетворяющие уравнению ти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собственными функциями оператора   . Те значения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которых такие решения существуют, называют собственными значениями физической величи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ор собственных значение физической величины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ожет быть непрерывным, или дискретным. Примером дискретности в микромире являются спектры атомов, которые состоят из ряда отдельных тонких ли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500280" y="1285920"/>
            <a:ext cx="1687680" cy="63972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" descr=""/>
          <p:cNvPicPr/>
          <p:nvPr/>
        </p:nvPicPr>
        <p:blipFill>
          <a:blip r:embed="rId2"/>
          <a:stretch/>
        </p:blipFill>
        <p:spPr>
          <a:xfrm>
            <a:off x="7143840" y="2057400"/>
            <a:ext cx="214200" cy="38268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3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ы квантовой теории. Собственные функции, собственные зна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дем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ункцию состояния, в котором проекция импульса на ось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пределенные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му уравнению удовлетворяет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ая является координатной частью плоской волны дебройля. Уравн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бобщением правила квантования физических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но можно записа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3429000" y="1428840"/>
            <a:ext cx="1536840" cy="57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3357720" y="2571840"/>
            <a:ext cx="2436480" cy="428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2" descr=""/>
          <p:cNvPicPr/>
          <p:nvPr/>
        </p:nvPicPr>
        <p:blipFill>
          <a:blip r:embed="rId3"/>
          <a:stretch/>
        </p:blipFill>
        <p:spPr>
          <a:xfrm>
            <a:off x="3500280" y="3429000"/>
            <a:ext cx="1687680" cy="639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4"/>
          <a:stretch/>
        </p:blipFill>
        <p:spPr>
          <a:xfrm>
            <a:off x="3286080" y="4786200"/>
            <a:ext cx="2070000" cy="642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5"/>
          <a:stretch/>
        </p:blipFill>
        <p:spPr>
          <a:xfrm>
            <a:off x="3429000" y="5929200"/>
            <a:ext cx="1357200" cy="3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нтовые числа и их физический смыс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Каждое из квантовых чисел принимает только целочисленные значения и определяет, то есть предсказывает результаты измерения основных физических величин в заданном квантовом состоянии ат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339900"/>
                </a:solidFill>
                <a:latin typeface="Arial"/>
                <a:ea typeface="Times New Roman"/>
              </a:rPr>
              <a:t>Главное квантовое числ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3399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Это квантовое число принимает зна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2, 3,…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и определяет </a:t>
            </a:r>
            <a:r>
              <a:rPr b="0" i="1" lang="ru-RU" sz="2400" spc="-1" strike="noStrike">
                <a:solidFill>
                  <a:srgbClr val="339900"/>
                </a:solidFill>
                <a:latin typeface="Arial"/>
                <a:ea typeface="Times New Roman"/>
              </a:rPr>
              <a:t>полную энергию электрона в любом квантовом состоянии</a:t>
            </a:r>
            <a:r>
              <a:rPr b="0" i="1" lang="ru-RU" sz="2400" spc="-1" strike="noStrike">
                <a:solidFill>
                  <a:srgbClr val="339900"/>
                </a:solidFill>
                <a:latin typeface="Arial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нтовые числа и их физический смыс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33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9900"/>
                </a:solidFill>
                <a:latin typeface="Arial"/>
                <a:ea typeface="Times New Roman"/>
              </a:rPr>
              <a:t>Орбитальное (азимутальное) квантовое числ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339900"/>
                </a:solidFill>
                <a:latin typeface="Arial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квантовых состояниях с заданным значением главного квантового числ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зимутальное квантовое число может иметь следующие знач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1, 2, 3,…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любом квантовом состоянии атом обладает определенным значением момента импульса, причем модуль орбитального момента импульса движущегося в атоме электрона однозначно определяется орбитальным квантовым числом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6"/>
              <p:cNvSpPr txBox="1"/>
              <p:nvPr/>
            </p:nvSpPr>
            <p:spPr>
              <a:xfrm>
                <a:off x="3786120" y="4786200"/>
                <a:ext cx="1873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ℏ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нтовые числа и их физически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внивая ее с условием квантования момента импульса движущегося электрона в теории Бора, можно заметить, что эти условия не совпадают. Принципиальное отличие этих соотношений состоит в том, что в квантовой механике возможны состояния атома с нулевым моментом импульса. Во всех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ояниях и, частности, в основном 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состоянии, когд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лучае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движущийся вокруг ядра электрон является заряженной частицей, то такое движение обуславливает протекание некоторого замкнутого тока в атоме, который можно охарактеризовать </a:t>
            </a:r>
            <a:r>
              <a:rPr b="0" i="1" lang="ru-RU" sz="20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орбитальным магнитным момент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озиции классической теории во время полного оборота электрона, соответствует замкнутый 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орый можно охарактеризовать величиной магнитного момен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4000680" y="4286160"/>
                <a:ext cx="9349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r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3286080" y="5500800"/>
                <a:ext cx="2305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i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Vr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нтовые числа и их физически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язь механического и магнитного моментов при этом определяется </a:t>
            </a:r>
            <a:r>
              <a:rPr b="0" i="1" lang="ru-RU" sz="20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гиромагнитным отношение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как заряд электрона отрицателен, то для орбитального движения направление вектора магнитного момента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оложно направлению вектора механического момента импульс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любом квантовом состоянии а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дает не только механическим моментом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и магнитным моментом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             универсальная постоянна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магнетон Бор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4"/>
              <p:cNvSpPr txBox="1"/>
              <p:nvPr/>
            </p:nvSpPr>
            <p:spPr>
              <a:xfrm>
                <a:off x="3780000" y="1197000"/>
                <a:ext cx="15127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24" name="Group 6"/>
          <p:cNvGrpSpPr/>
          <p:nvPr/>
        </p:nvGrpSpPr>
        <p:grpSpPr>
          <a:xfrm>
            <a:off x="7093080" y="2637000"/>
            <a:ext cx="1908000" cy="2466720"/>
            <a:chOff x="7093080" y="2637000"/>
            <a:chExt cx="1908000" cy="2466720"/>
          </a:xfrm>
        </p:grpSpPr>
        <p:sp>
          <p:nvSpPr>
            <p:cNvPr id="125" name="AutoShape 7"/>
            <p:cNvSpPr/>
            <p:nvPr/>
          </p:nvSpPr>
          <p:spPr>
            <a:xfrm>
              <a:off x="7093080" y="2637000"/>
              <a:ext cx="1908000" cy="246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8"/>
            <p:cNvSpPr/>
            <p:nvPr/>
          </p:nvSpPr>
          <p:spPr>
            <a:xfrm>
              <a:off x="7249680" y="3470400"/>
              <a:ext cx="1493640" cy="343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9"/>
            <p:cNvSpPr/>
            <p:nvPr/>
          </p:nvSpPr>
          <p:spPr>
            <a:xfrm flipV="1">
              <a:off x="8005680" y="2714400"/>
              <a:ext cx="360" cy="183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Line 10"/>
            <p:cNvSpPr/>
            <p:nvPr/>
          </p:nvSpPr>
          <p:spPr>
            <a:xfrm>
              <a:off x="8003160" y="3640680"/>
              <a:ext cx="552240" cy="10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Line 11"/>
            <p:cNvSpPr/>
            <p:nvPr/>
          </p:nvSpPr>
          <p:spPr>
            <a:xfrm flipV="1">
              <a:off x="8546040" y="3697560"/>
              <a:ext cx="20916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12"/>
            <p:cNvSpPr/>
            <p:nvPr/>
          </p:nvSpPr>
          <p:spPr>
            <a:xfrm flipV="1">
              <a:off x="8003160" y="3450240"/>
              <a:ext cx="36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Text Box 13"/>
            <p:cNvSpPr/>
            <p:nvPr/>
          </p:nvSpPr>
          <p:spPr>
            <a:xfrm>
              <a:off x="8060400" y="2764440"/>
              <a:ext cx="2952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8041320" y="4088520"/>
              <a:ext cx="295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Text Box 15"/>
            <p:cNvSpPr/>
            <p:nvPr/>
          </p:nvSpPr>
          <p:spPr>
            <a:xfrm>
              <a:off x="8022240" y="3393000"/>
              <a:ext cx="2948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Text Box 16"/>
            <p:cNvSpPr/>
            <p:nvPr/>
          </p:nvSpPr>
          <p:spPr>
            <a:xfrm>
              <a:off x="8231760" y="3497760"/>
              <a:ext cx="29484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17"/>
            <p:cNvSpPr/>
            <p:nvPr/>
          </p:nvSpPr>
          <p:spPr>
            <a:xfrm>
              <a:off x="8546040" y="3669120"/>
              <a:ext cx="2948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2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18"/>
            <p:cNvSpPr/>
            <p:nvPr/>
          </p:nvSpPr>
          <p:spPr>
            <a:xfrm>
              <a:off x="7574760" y="4674960"/>
              <a:ext cx="100908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Rectangle 20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19"/>
              <p:cNvSpPr txBox="1"/>
              <p:nvPr/>
            </p:nvSpPr>
            <p:spPr>
              <a:xfrm>
                <a:off x="2556000" y="4581360"/>
                <a:ext cx="2879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1"/>
              <p:cNvSpPr txBox="1"/>
              <p:nvPr/>
            </p:nvSpPr>
            <p:spPr>
              <a:xfrm>
                <a:off x="1187280" y="5445000"/>
                <a:ext cx="719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Б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Квантовые числа и их физический смыс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33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Магнитное квантовое число </a:t>
            </a:r>
            <a:r>
              <a:rPr b="0" i="1" lang="en-US" sz="18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m</a:t>
            </a:r>
            <a:r>
              <a:rPr b="0" i="1" lang="ru-RU" sz="18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квантовом состоянии с заданным значением орбитального квантового числ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магнитное квантовое число может принимать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1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личных значений из ря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…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й смысл магнитного квантового числа вытекает из того, что волновая функция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lm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писывающая квантовое состояние электрона в атоме, является собственной функцией оператора проекции момента импульса, прич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следует, что проекция момента импульса электрона на выделенное в пространстве направл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т иметь только определенные значения, рав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следует что, квантование проек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ческого момента соответствует впол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ым направлениям ориентаци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ранстве вектора, то эту формул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 обычно </a:t>
            </a:r>
            <a:r>
              <a:rPr b="0" i="1" lang="ru-RU" sz="18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формулой пространст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9900"/>
                </a:solidFill>
                <a:latin typeface="Times New Roman"/>
                <a:ea typeface="Times New Roman"/>
              </a:rPr>
              <a:t>квантования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4"/>
              <p:cNvSpPr txBox="1"/>
              <p:nvPr/>
            </p:nvSpPr>
            <p:spPr>
              <a:xfrm>
                <a:off x="3276720" y="2708280"/>
                <a:ext cx="20509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L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m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ℏ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nl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6"/>
              <p:cNvSpPr txBox="1"/>
              <p:nvPr/>
            </p:nvSpPr>
            <p:spPr>
              <a:xfrm>
                <a:off x="3635280" y="4005360"/>
                <a:ext cx="1081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47" name="Group 8"/>
          <p:cNvGrpSpPr/>
          <p:nvPr/>
        </p:nvGrpSpPr>
        <p:grpSpPr>
          <a:xfrm>
            <a:off x="6877080" y="3860640"/>
            <a:ext cx="1798560" cy="3240000"/>
            <a:chOff x="6877080" y="3860640"/>
            <a:chExt cx="1798560" cy="3240000"/>
          </a:xfrm>
        </p:grpSpPr>
        <p:pic>
          <p:nvPicPr>
            <p:cNvPr id="148" name="Picture 9" descr="Рис.5.9"/>
            <p:cNvPicPr/>
            <p:nvPr/>
          </p:nvPicPr>
          <p:blipFill>
            <a:blip r:embed="rId1"/>
            <a:stretch/>
          </p:blipFill>
          <p:spPr>
            <a:xfrm>
              <a:off x="6877080" y="3860640"/>
              <a:ext cx="1798560" cy="284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 Box 10"/>
            <p:cNvSpPr/>
            <p:nvPr/>
          </p:nvSpPr>
          <p:spPr>
            <a:xfrm>
              <a:off x="7209720" y="6675480"/>
              <a:ext cx="1194120" cy="42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Штерна и Герлаха. Гипотеза о спине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Содержимое 3" descr="image5_10a.jpg"/>
          <p:cNvPicPr/>
          <p:nvPr/>
        </p:nvPicPr>
        <p:blipFill>
          <a:blip r:embed="rId1"/>
          <a:stretch/>
        </p:blipFill>
        <p:spPr>
          <a:xfrm>
            <a:off x="2214720" y="1714680"/>
            <a:ext cx="2963880" cy="145548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4" descr="image5_10b.jpg"/>
          <p:cNvPicPr/>
          <p:nvPr/>
        </p:nvPicPr>
        <p:blipFill>
          <a:blip r:embed="rId2"/>
          <a:stretch/>
        </p:blipFill>
        <p:spPr>
          <a:xfrm>
            <a:off x="6072120" y="1428840"/>
            <a:ext cx="2027160" cy="19508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"/>
          <p:cNvSpPr/>
          <p:nvPr/>
        </p:nvSpPr>
        <p:spPr>
          <a:xfrm>
            <a:off x="1080" y="1800"/>
            <a:ext cx="6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Формула 5.43"/>
          <p:cNvPicPr/>
          <p:nvPr/>
        </p:nvPicPr>
        <p:blipFill>
          <a:blip r:embed="rId3"/>
          <a:stretch/>
        </p:blipFill>
        <p:spPr>
          <a:xfrm>
            <a:off x="4429080" y="5572080"/>
            <a:ext cx="1231920" cy="642960"/>
          </a:xfrm>
          <a:prstGeom prst="rect">
            <a:avLst/>
          </a:prstGeom>
          <a:ln w="0">
            <a:noFill/>
          </a:ln>
        </p:spPr>
      </p:pic>
      <p:sp>
        <p:nvSpPr>
          <p:cNvPr id="155" name="Прямоугольник 8"/>
          <p:cNvSpPr/>
          <p:nvPr/>
        </p:nvSpPr>
        <p:spPr>
          <a:xfrm>
            <a:off x="500040" y="5143680"/>
            <a:ext cx="86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 пролетающие в зазоре магнита атомы вдоль направления магнитного поля действует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4"/>
          <a:stretch/>
        </p:blipFill>
        <p:spPr>
          <a:xfrm>
            <a:off x="2214720" y="3500280"/>
            <a:ext cx="5025960" cy="15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Штерна и Герлаха. Гипотеза о спине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1080" y="1800"/>
            <a:ext cx="6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8"/>
          <p:cNvSpPr/>
          <p:nvPr/>
        </p:nvSpPr>
        <p:spPr>
          <a:xfrm>
            <a:off x="214200" y="1000080"/>
            <a:ext cx="864396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сическая физика: пролетевшие через магнит атомы серебра должны были образовать сплошную широкую зеркальную полосу на стеклянной пластин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овая физика: атомный пучок должен расщепиться на дискретное число пучков, которые, оседая на стеклянной пластинке, дают серию узких дискретных зеркальных полосок из напыленных атомов. Именно этот результат наблюдался в эксперимен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Штерна и Герлаха доказал правильность выводов квантовой теории о наличии пространственного квантования магнитных моментов атом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вантовой теории следует, что вследствие симметрии электронного "облака" механический и магнитный моменты атома, находящегося в основном, невозбужденном состоянии, равны нулю. Следовательно, если  обеспечить условия, при которых в атомном пучке будут двигаться невозбужденные атомы, то такой атомный пучок не должен расщепляться магнитным поле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остояние частицы в квантовой теор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определения состояния частицы в классической физике необходимо знат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личины, задающие состояние частиц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равнение движения, определяющие изменение состояния частицы во времени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зические величины, доступные измерению, и способ получения их значений в данном состоянии (для сравнения выводов теории с экспериментом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ыт Штерна и Герлаха. Гипотеза о спине электр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"/>
          <p:cNvSpPr/>
          <p:nvPr/>
        </p:nvSpPr>
        <p:spPr>
          <a:xfrm>
            <a:off x="1080" y="1800"/>
            <a:ext cx="60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8000" rIns="108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    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8"/>
          <p:cNvSpPr/>
          <p:nvPr/>
        </p:nvSpPr>
        <p:spPr>
          <a:xfrm>
            <a:off x="214200" y="1000080"/>
            <a:ext cx="8643960" cy="56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, эксперимент не подтвердил такой вывод квантовой теории. Пучок невозбужденных атомов серебра расщепился на два пучка, которые напылили на стеклянной пластинке две узкие зеркальные полоски, сдвинутые симметрично вверх и вниз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ие этих сдвигов позволило определить магнитный момент невозбужденного атома серебра. Его проекция на направление магнитного поля оказалась равной +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-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25 г. С.Гаудсмит и Дж.Уленбек выдвинули теорию о том, что сам электрон является носителем "собственных" механического и магнитного моментов, не связанных с движением электрона в пространств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а гипотеза получила название гипотезы о спине электрона. Такое название связано с английским словом , которое переводится как "кружение", "верчение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н электрона не имеет классического аналога. Он характеризует внутреннее свойство квантовой частицы, связанное с наличием у нее дополнительной степени свободы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енная характеристика этой степени свобод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= 1/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пин является для электрона такой же величиной как, например, его мас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заряд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сп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гласовании теории и эксперимента Гаудсмит и Уленбек, по аналогии с орбитальными моментами, предположили, что величины собственных механического и магнитного моментов электрона определяются формула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аких моментов гиромагнитное 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и собственных моментов на выделенное направление в такой теории определяются спиновым квантовым число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ри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Рисунок 3" descr="fml15.gif"/>
          <p:cNvPicPr/>
          <p:nvPr/>
        </p:nvPicPr>
        <p:blipFill>
          <a:blip r:embed="rId1"/>
          <a:stretch/>
        </p:blipFill>
        <p:spPr>
          <a:xfrm>
            <a:off x="6286680" y="3071880"/>
            <a:ext cx="1950840" cy="64296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4" descr="fml13.gif"/>
          <p:cNvPicPr/>
          <p:nvPr/>
        </p:nvPicPr>
        <p:blipFill>
          <a:blip r:embed="rId2"/>
          <a:stretch/>
        </p:blipFill>
        <p:spPr>
          <a:xfrm>
            <a:off x="3643200" y="2143080"/>
            <a:ext cx="1989360" cy="57168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fml14.gif"/>
          <p:cNvPicPr/>
          <p:nvPr/>
        </p:nvPicPr>
        <p:blipFill>
          <a:blip r:embed="rId3"/>
          <a:stretch/>
        </p:blipFill>
        <p:spPr>
          <a:xfrm>
            <a:off x="3643200" y="2786040"/>
            <a:ext cx="2175120" cy="35712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fml19.gif"/>
          <p:cNvPicPr/>
          <p:nvPr/>
        </p:nvPicPr>
        <p:blipFill>
          <a:blip r:embed="rId4"/>
          <a:stretch/>
        </p:blipFill>
        <p:spPr>
          <a:xfrm>
            <a:off x="3929040" y="5500800"/>
            <a:ext cx="1798560" cy="35712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fml18.gif"/>
          <p:cNvPicPr/>
          <p:nvPr/>
        </p:nvPicPr>
        <p:blipFill>
          <a:blip r:embed="rId5"/>
          <a:stretch/>
        </p:blipFill>
        <p:spPr>
          <a:xfrm>
            <a:off x="3929040" y="4857840"/>
            <a:ext cx="151596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ипотеза сп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сюда следует, что величина спиновых моментов электрона постоянна, а с дополнительной степенью свободы электрона связан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проекции этих моментов, которые определяются спиновым квантовым число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принимают два значения. О таких двух квантовых состояниях обычно говорят как о состояниях со спином, направленным вверх или вниз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вантовое состояние электрона в атоме следует определять набором четырех квантовых чисе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Рисунок 8" descr="fml22.gif"/>
          <p:cNvPicPr/>
          <p:nvPr/>
        </p:nvPicPr>
        <p:blipFill>
          <a:blip r:embed="rId1"/>
          <a:stretch/>
        </p:blipFill>
        <p:spPr>
          <a:xfrm>
            <a:off x="3143160" y="2857680"/>
            <a:ext cx="857520" cy="50616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9" descr="fml23.gif"/>
          <p:cNvPicPr/>
          <p:nvPr/>
        </p:nvPicPr>
        <p:blipFill>
          <a:blip r:embed="rId2"/>
          <a:stretch/>
        </p:blipFill>
        <p:spPr>
          <a:xfrm>
            <a:off x="4286160" y="2857680"/>
            <a:ext cx="857520" cy="50616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0" descr="quant.jpg"/>
          <p:cNvPicPr/>
          <p:nvPr/>
        </p:nvPicPr>
        <p:blipFill>
          <a:blip r:embed="rId3"/>
          <a:stretch/>
        </p:blipFill>
        <p:spPr>
          <a:xfrm>
            <a:off x="714240" y="4357800"/>
            <a:ext cx="7769520" cy="1500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равнение Шрединг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бщее </a:t>
            </a:r>
            <a:r>
              <a:rPr b="0" i="1" lang="ru-RU" sz="2000" spc="-1" strike="noStrike">
                <a:solidFill>
                  <a:srgbClr val="339900"/>
                </a:solidFill>
                <a:latin typeface="Arial"/>
                <a:ea typeface="Times New Roman"/>
              </a:rPr>
              <a:t>временное уравнение Шредингер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зволяющее определить в любой момент времени волновую функцию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ля частицы масс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движущейся в силовом пол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a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описываемом скалярной потенциальной функцие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y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z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имее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равнение Шредингера тесно связано с гипотезой де Бройля и вытекающим из неё корпускулярно-волновым дуализмом материи. Действительно, непосредственной проверкой легко убедиться, что для свободной частицы, с кинетической энерги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/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движущейся в отсутствие силовых полей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в направлении ос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решением соответствующего уравнения Шрединг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волновая фун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4"/>
              <p:cNvSpPr txBox="1"/>
              <p:nvPr/>
            </p:nvSpPr>
            <p:spPr>
              <a:xfrm>
                <a:off x="3132000" y="2060640"/>
                <a:ext cx="2664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ΔΨ</m:t>
                    </m:r>
                    <m:r>
                      <m:t xml:space="preserve">+</m:t>
                    </m:r>
                    <m:r>
                      <m:t xml:space="preserve">UΨ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6"/>
              <p:cNvSpPr txBox="1"/>
              <p:nvPr/>
            </p:nvSpPr>
            <p:spPr>
              <a:xfrm>
                <a:off x="2786040" y="4929120"/>
                <a:ext cx="2303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ℏ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Ψ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81" name="Rectangle 9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8"/>
              <p:cNvSpPr txBox="1"/>
              <p:nvPr/>
            </p:nvSpPr>
            <p:spPr>
              <a:xfrm>
                <a:off x="4714920" y="5715000"/>
                <a:ext cx="34560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ца в прямоугольной я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частицу, находящуюся в одномерной прямоугольной потенциальной яме с бесконечно высокими стенками. В этом случае потенциальная энергия частиц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.е. всюду внутри ямы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отенциальная энерги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стоянна и равна нулю, а вне ямы обращается в бесконечность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шем уравнение Шредингера для одномерного движения частицы вдоль ос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"/>
          <p:cNvPicPr/>
          <p:nvPr/>
        </p:nvPicPr>
        <p:blipFill>
          <a:blip r:embed="rId1"/>
          <a:stretch/>
        </p:blipFill>
        <p:spPr>
          <a:xfrm>
            <a:off x="3492360" y="1844640"/>
            <a:ext cx="2951280" cy="68436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725" descr="Рис.4.1"/>
          <p:cNvPicPr/>
          <p:nvPr/>
        </p:nvPicPr>
        <p:blipFill>
          <a:blip r:embed="rId2"/>
          <a:stretch/>
        </p:blipFill>
        <p:spPr>
          <a:xfrm>
            <a:off x="3492360" y="3213000"/>
            <a:ext cx="2519640" cy="1811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"/>
          <p:cNvPicPr/>
          <p:nvPr/>
        </p:nvPicPr>
        <p:blipFill>
          <a:blip r:embed="rId3"/>
          <a:stretch/>
        </p:blipFill>
        <p:spPr>
          <a:xfrm>
            <a:off x="2843280" y="5734080"/>
            <a:ext cx="417672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ца в прямоугольной я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е ямы потенциальная энергия обращается в бесконечность, волновая функция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обращалась в нол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силу непрерывности волновая функция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должна обращаться в нуль и на границах ямы: п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задача о движении частицы в яме сводится к решению уравнени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дем обозна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уравне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нимает ви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ение которого е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2916360" y="3141720"/>
            <a:ext cx="3816360" cy="5572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"/>
          <p:cNvPicPr/>
          <p:nvPr/>
        </p:nvPicPr>
        <p:blipFill>
          <a:blip r:embed="rId2"/>
          <a:stretch/>
        </p:blipFill>
        <p:spPr>
          <a:xfrm>
            <a:off x="3564000" y="5300640"/>
            <a:ext cx="2592360" cy="449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"/>
          <p:cNvPicPr/>
          <p:nvPr/>
        </p:nvPicPr>
        <p:blipFill>
          <a:blip r:embed="rId3"/>
          <a:stretch/>
        </p:blipFill>
        <p:spPr>
          <a:xfrm>
            <a:off x="3419640" y="6093000"/>
            <a:ext cx="3024000" cy="37296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4"/>
          <a:stretch/>
        </p:blipFill>
        <p:spPr>
          <a:xfrm>
            <a:off x="3643200" y="4071960"/>
            <a:ext cx="1000080" cy="7556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0"/>
          <p:cNvSpPr/>
          <p:nvPr/>
        </p:nvSpPr>
        <p:spPr>
          <a:xfrm>
            <a:off x="0" y="99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ца в прямоугольной я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спользуя граничное услови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0)=0, пол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in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уда следуе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то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π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, 1, 2,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тметим, что при четных значения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пр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нечетных значениях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, физический смысл имеет не сама волновая функция, а квадрат ее моду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|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|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который от выбора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от знака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не зависи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е граничное условие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водит к соотношению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торое д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≠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ыполняется п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π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1,2,3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4" descr=""/>
          <p:cNvPicPr/>
          <p:nvPr/>
        </p:nvPicPr>
        <p:blipFill>
          <a:blip r:embed="rId1"/>
          <a:stretch/>
        </p:blipFill>
        <p:spPr>
          <a:xfrm>
            <a:off x="3132000" y="2133720"/>
            <a:ext cx="2303640" cy="3538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5" descr=""/>
          <p:cNvPicPr/>
          <p:nvPr/>
        </p:nvPicPr>
        <p:blipFill>
          <a:blip r:embed="rId2"/>
          <a:stretch/>
        </p:blipFill>
        <p:spPr>
          <a:xfrm>
            <a:off x="4067280" y="2565360"/>
            <a:ext cx="2233440" cy="312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6" descr=""/>
          <p:cNvPicPr/>
          <p:nvPr/>
        </p:nvPicPr>
        <p:blipFill>
          <a:blip r:embed="rId3"/>
          <a:stretch/>
        </p:blipFill>
        <p:spPr>
          <a:xfrm>
            <a:off x="3429000" y="4572000"/>
            <a:ext cx="2087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ца в прямоугольной я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171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тавля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π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1,2,3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м к выражению для полной энергии частицы, движущейся в потенциальной яме с непроницаемыми стен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ой особенностью полученного энергетического спект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его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ость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Частица, находящая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ой яме, может иметь только дискретные значения энергии. Решение уравнения Шредингера к квантованию энергии не приводит, квантование возникает из-за граничных условий, накладываемых на волновую функцию, т.е. из-за равенства нулю волновой функции на границе потенциальной ямы. Числ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овым число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соответствующее ему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ровнем энергии. Состояние частицы с наименьшей энергией, в данном случае с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 состоянием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се остальные состояния являются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бужденным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вечает первому возбужденному состоянию, значени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3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торому возбужденному состоянию и т.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3071880" y="2214720"/>
            <a:ext cx="3495600" cy="5713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6" descr=""/>
          <p:cNvPicPr/>
          <p:nvPr/>
        </p:nvPicPr>
        <p:blipFill>
          <a:blip r:embed="rId2"/>
          <a:stretch/>
        </p:blipFill>
        <p:spPr>
          <a:xfrm>
            <a:off x="2286000" y="571680"/>
            <a:ext cx="857160" cy="647640"/>
          </a:xfrm>
          <a:prstGeom prst="rect">
            <a:avLst/>
          </a:prstGeom>
          <a:ln w="0">
            <a:noFill/>
          </a:ln>
        </p:spPr>
      </p:pic>
      <p:sp>
        <p:nvSpPr>
          <p:cNvPr id="206" name="Rectangle 8"/>
          <p:cNvSpPr/>
          <p:nvPr/>
        </p:nvSpPr>
        <p:spPr>
          <a:xfrm>
            <a:off x="0" y="99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3"/>
          <a:stretch/>
        </p:blipFill>
        <p:spPr>
          <a:xfrm>
            <a:off x="7358040" y="1785960"/>
            <a:ext cx="121464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ы через потенциальный ба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случай, когда потенциальная энерг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висит только о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чем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терпев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ачок. У такого барье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слева на границу барьера налетает частица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.е. падает дебройлевская 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возможны два случа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gt;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7000920" y="1000080"/>
            <a:ext cx="2143080" cy="1982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" descr=""/>
          <p:cNvPicPr/>
          <p:nvPr/>
        </p:nvPicPr>
        <p:blipFill>
          <a:blip r:embed="rId2"/>
          <a:stretch/>
        </p:blipFill>
        <p:spPr>
          <a:xfrm>
            <a:off x="3000240" y="2286000"/>
            <a:ext cx="2170080" cy="6429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"/>
          <p:cNvPicPr/>
          <p:nvPr/>
        </p:nvPicPr>
        <p:blipFill>
          <a:blip r:embed="rId3"/>
          <a:stretch/>
        </p:blipFill>
        <p:spPr>
          <a:xfrm>
            <a:off x="2928960" y="3643200"/>
            <a:ext cx="2190600" cy="500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"/>
          <p:cNvPicPr/>
          <p:nvPr/>
        </p:nvPicPr>
        <p:blipFill>
          <a:blip r:embed="rId4"/>
          <a:srcRect l="0" t="25000" r="0" b="0"/>
          <a:stretch/>
        </p:blipFill>
        <p:spPr>
          <a:xfrm>
            <a:off x="2357280" y="4143240"/>
            <a:ext cx="4430880" cy="428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"/>
          <p:cNvPicPr/>
          <p:nvPr/>
        </p:nvPicPr>
        <p:blipFill>
          <a:blip r:embed="rId5"/>
          <a:stretch/>
        </p:blipFill>
        <p:spPr>
          <a:xfrm>
            <a:off x="3643200" y="4714920"/>
            <a:ext cx="1571760" cy="287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6"/>
          <a:stretch/>
        </p:blipFill>
        <p:spPr>
          <a:xfrm>
            <a:off x="2143080" y="5429160"/>
            <a:ext cx="564984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ы через потенциальный ба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ласт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ся только проходящая волн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Из условия непрерыв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очк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едует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овестного решения этих двух уравнений находим соотношения амплитуд отраженной и прошедшей к амплиту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дающей волн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выражения для коэффициентов отражен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опускания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юда следует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+ D = 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метим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ят от направления движения част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7000920" y="1000080"/>
            <a:ext cx="2143080" cy="198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tretch/>
        </p:blipFill>
        <p:spPr>
          <a:xfrm>
            <a:off x="5286240" y="1500120"/>
            <a:ext cx="706680" cy="2858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"/>
          <p:cNvPicPr/>
          <p:nvPr/>
        </p:nvPicPr>
        <p:blipFill>
          <a:blip r:embed="rId3"/>
          <a:stretch/>
        </p:blipFill>
        <p:spPr>
          <a:xfrm>
            <a:off x="2428920" y="2286000"/>
            <a:ext cx="3730680" cy="64296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5" descr=""/>
          <p:cNvPicPr/>
          <p:nvPr/>
        </p:nvPicPr>
        <p:blipFill>
          <a:blip r:embed="rId4"/>
          <a:stretch/>
        </p:blipFill>
        <p:spPr>
          <a:xfrm>
            <a:off x="3071880" y="3643200"/>
            <a:ext cx="2724120" cy="64296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9" descr=""/>
          <p:cNvPicPr/>
          <p:nvPr/>
        </p:nvPicPr>
        <p:blipFill>
          <a:blip r:embed="rId5"/>
          <a:stretch/>
        </p:blipFill>
        <p:spPr>
          <a:xfrm>
            <a:off x="946080" y="4786200"/>
            <a:ext cx="2183040" cy="57168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6"/>
          <a:stretch/>
        </p:blipFill>
        <p:spPr>
          <a:xfrm>
            <a:off x="3786120" y="4714920"/>
            <a:ext cx="293076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сновы квантовой тео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стояние квантовой частицы полностью определяется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функции, вид которой зависит от конкретного потенциального пол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функция описывает распределение частицы по координатам, а также распределение по импульсам, кинетической энергии, момент импульса и д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ы через потенциальный барь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уча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&lt;U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т мнимым, при э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числитель и знаменатель – величины комплексно –сопряженны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ит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=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отражение будет полным. Но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функция пр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&gt;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бращается в ноль. Ес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им, что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лотность вероятности местоположения частицы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величением глубины проникновения вероятность обнаружить частицу в барьере убывает экспоненциально. Глубина проникновения, на которо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бывает в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и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 ≈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-3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2" descr=""/>
          <p:cNvPicPr/>
          <p:nvPr/>
        </p:nvPicPr>
        <p:blipFill>
          <a:blip r:embed="rId1"/>
          <a:stretch/>
        </p:blipFill>
        <p:spPr>
          <a:xfrm>
            <a:off x="7000920" y="1000080"/>
            <a:ext cx="2143080" cy="198288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2" descr=""/>
          <p:cNvPicPr/>
          <p:nvPr/>
        </p:nvPicPr>
        <p:blipFill>
          <a:blip r:embed="rId2"/>
          <a:stretch/>
        </p:blipFill>
        <p:spPr>
          <a:xfrm>
            <a:off x="3357720" y="1785960"/>
            <a:ext cx="1444320" cy="7858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"/>
          <p:cNvPicPr/>
          <p:nvPr/>
        </p:nvPicPr>
        <p:blipFill>
          <a:blip r:embed="rId3"/>
          <a:srcRect l="0" t="11111" r="0" b="0"/>
          <a:stretch/>
        </p:blipFill>
        <p:spPr>
          <a:xfrm>
            <a:off x="3571920" y="3857760"/>
            <a:ext cx="3929040" cy="37944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"/>
          <p:cNvPicPr/>
          <p:nvPr/>
        </p:nvPicPr>
        <p:blipFill>
          <a:blip r:embed="rId4"/>
          <a:stretch/>
        </p:blipFill>
        <p:spPr>
          <a:xfrm>
            <a:off x="2000160" y="4357800"/>
            <a:ext cx="1071720" cy="2887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"/>
          <p:cNvPicPr/>
          <p:nvPr/>
        </p:nvPicPr>
        <p:blipFill>
          <a:blip r:embed="rId5"/>
          <a:srcRect l="0" t="17226" r="0" b="0"/>
          <a:stretch/>
        </p:blipFill>
        <p:spPr>
          <a:xfrm>
            <a:off x="1714680" y="4643280"/>
            <a:ext cx="1714320" cy="3445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"/>
          <p:cNvPicPr/>
          <p:nvPr/>
        </p:nvPicPr>
        <p:blipFill>
          <a:blip r:embed="rId6"/>
          <a:stretch/>
        </p:blipFill>
        <p:spPr>
          <a:xfrm>
            <a:off x="3143160" y="5929200"/>
            <a:ext cx="28195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ь пространства, в которой потенциальная энергия частицы больше, чем в окружающих областях,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альным барьер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потенциальная энергия частицы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значим цифрой I область слева от барьера, цифрой II обла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цифрой III область справа от барьера. Будем считать, что частица приближается к барьеру со стороны отрицательных значени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.е. движется слева направо. Рассмотрим случай, когда энергия частицы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 высоты потенциального барьер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Рисунок 20773" descr="Рис.4.8"/>
          <p:cNvPicPr/>
          <p:nvPr/>
        </p:nvPicPr>
        <p:blipFill>
          <a:blip r:embed="rId1"/>
          <a:stretch/>
        </p:blipFill>
        <p:spPr>
          <a:xfrm>
            <a:off x="3357720" y="1571760"/>
            <a:ext cx="2000160" cy="1449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"/>
          <p:cNvPicPr/>
          <p:nvPr/>
        </p:nvPicPr>
        <p:blipFill>
          <a:blip r:embed="rId2"/>
          <a:stretch/>
        </p:blipFill>
        <p:spPr>
          <a:xfrm>
            <a:off x="3429000" y="3714840"/>
            <a:ext cx="2203560" cy="500040"/>
          </a:xfrm>
          <a:prstGeom prst="rect">
            <a:avLst/>
          </a:prstGeom>
          <a:ln w="0">
            <a:noFill/>
          </a:ln>
        </p:spPr>
      </p:pic>
      <p:pic>
        <p:nvPicPr>
          <p:cNvPr id="240" name="Рисунок 20772" descr="http://www.lgrflab.ru/physbook/tom5/ch4/images/ch4_3/fml146.gif"/>
          <p:cNvPicPr/>
          <p:nvPr/>
        </p:nvPicPr>
        <p:blipFill>
          <a:blip r:embed="rId3"/>
          <a:stretch/>
        </p:blipFill>
        <p:spPr>
          <a:xfrm>
            <a:off x="8001000" y="4513320"/>
            <a:ext cx="714240" cy="2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равнение Шредингера в областях I, II и III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3" descr=""/>
          <p:cNvPicPr/>
          <p:nvPr/>
        </p:nvPicPr>
        <p:blipFill>
          <a:blip r:embed="rId1"/>
          <a:stretch/>
        </p:blipFill>
        <p:spPr>
          <a:xfrm>
            <a:off x="3214800" y="1500120"/>
            <a:ext cx="2000160" cy="530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2"/>
          <a:stretch/>
        </p:blipFill>
        <p:spPr>
          <a:xfrm>
            <a:off x="3214800" y="2214720"/>
            <a:ext cx="2301840" cy="50004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3"/>
          <a:stretch/>
        </p:blipFill>
        <p:spPr>
          <a:xfrm>
            <a:off x="3143160" y="2914560"/>
            <a:ext cx="2214720" cy="585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4"/>
          <a:stretch/>
        </p:blipFill>
        <p:spPr>
          <a:xfrm>
            <a:off x="3214800" y="3994200"/>
            <a:ext cx="1217520" cy="6490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5"/>
          <a:stretch/>
        </p:blipFill>
        <p:spPr>
          <a:xfrm>
            <a:off x="3214800" y="4643280"/>
            <a:ext cx="1760400" cy="63684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6203160" y="73872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0"/>
          <p:cNvSpPr/>
          <p:nvPr/>
        </p:nvSpPr>
        <p:spPr>
          <a:xfrm>
            <a:off x="179712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лновые функции, являющиеся решением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удем считать амплитуду падающей на барьер волны де Бройля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и будем учитывать то, что в области III будет распространяться только проходящая волна (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=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"/>
          <p:cNvSpPr/>
          <p:nvPr/>
        </p:nvSpPr>
        <p:spPr>
          <a:xfrm>
            <a:off x="6203160" y="73872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,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"/>
          <p:cNvSpPr/>
          <p:nvPr/>
        </p:nvSpPr>
        <p:spPr>
          <a:xfrm>
            <a:off x="179712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2714760" y="2000160"/>
            <a:ext cx="3792240" cy="4287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2714760" y="2643120"/>
            <a:ext cx="3417840" cy="357120"/>
          </a:xfrm>
          <a:prstGeom prst="rect">
            <a:avLst/>
          </a:prstGeom>
          <a:ln w="0">
            <a:noFill/>
          </a:ln>
        </p:spPr>
      </p:pic>
      <p:sp>
        <p:nvSpPr>
          <p:cNvPr id="25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0" descr=""/>
          <p:cNvPicPr/>
          <p:nvPr/>
        </p:nvPicPr>
        <p:blipFill>
          <a:blip r:embed="rId3"/>
          <a:stretch/>
        </p:blipFill>
        <p:spPr>
          <a:xfrm>
            <a:off x="2714760" y="3214800"/>
            <a:ext cx="2643120" cy="414360"/>
          </a:xfrm>
          <a:prstGeom prst="rect">
            <a:avLst/>
          </a:prstGeom>
          <a:ln w="0">
            <a:noFill/>
          </a:ln>
        </p:spPr>
      </p:pic>
      <p:sp>
        <p:nvSpPr>
          <p:cNvPr id="260" name="Rectangle 12"/>
          <p:cNvSpPr/>
          <p:nvPr/>
        </p:nvSpPr>
        <p:spPr>
          <a:xfrm>
            <a:off x="4444200" y="44640"/>
            <a:ext cx="25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условия непрерывности волновых функций и их производных на границах барьера получим следующую систему уравне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 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i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= 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 k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я эту систему, для амплитуд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ошедшей через барьер волны получ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0"/>
          <p:cNvSpPr/>
          <p:nvPr/>
        </p:nvSpPr>
        <p:spPr>
          <a:xfrm>
            <a:off x="179712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3500280" y="2786040"/>
            <a:ext cx="3286440" cy="3351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"/>
          <p:cNvPicPr/>
          <p:nvPr/>
        </p:nvPicPr>
        <p:blipFill>
          <a:blip r:embed="rId2"/>
          <a:stretch/>
        </p:blipFill>
        <p:spPr>
          <a:xfrm>
            <a:off x="3500280" y="3286080"/>
            <a:ext cx="3714840" cy="2970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4" descr=""/>
          <p:cNvPicPr/>
          <p:nvPr/>
        </p:nvPicPr>
        <p:blipFill>
          <a:blip r:embed="rId3"/>
          <a:stretch/>
        </p:blipFill>
        <p:spPr>
          <a:xfrm>
            <a:off x="2571840" y="4786200"/>
            <a:ext cx="456408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2876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гда коэффициент прохождения частицы через барье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гиперболический син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лучае, когда ширина барьер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довлетворяет условию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&gt;&gt;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для электрона это условие выполняется уже при ширин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несколько атомных слоев), &lt;&lt;1, тогда коэффициент прохождения частицы через порог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м случае принима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10"/>
          <p:cNvSpPr/>
          <p:nvPr/>
        </p:nvSpPr>
        <p:spPr>
          <a:xfrm>
            <a:off x="179712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2" descr=""/>
          <p:cNvPicPr/>
          <p:nvPr/>
        </p:nvPicPr>
        <p:blipFill>
          <a:blip r:embed="rId1"/>
          <a:stretch/>
        </p:blipFill>
        <p:spPr>
          <a:xfrm>
            <a:off x="2500200" y="1428840"/>
            <a:ext cx="4278600" cy="642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3" descr=""/>
          <p:cNvPicPr/>
          <p:nvPr/>
        </p:nvPicPr>
        <p:blipFill>
          <a:blip r:embed="rId2"/>
          <a:stretch/>
        </p:blipFill>
        <p:spPr>
          <a:xfrm>
            <a:off x="3071880" y="2857680"/>
            <a:ext cx="2355840" cy="5000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3"/>
          <a:stretch/>
        </p:blipFill>
        <p:spPr>
          <a:xfrm>
            <a:off x="3500280" y="5429160"/>
            <a:ext cx="2600640" cy="7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ждение частиц через потенциальный барье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2876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ставляя сюда выражения дл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олуч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де коэффициент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является медленно изменяющейся функцией отнош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численное значение которой по порядку величины сравнимо с единице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вклад в зависимо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параметров задачи дает экспонента. Поэтому в большинстве случаев при оценке коэффициента прохождения через потенциальный барьер полагают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Откуда следует, что коэффициент прохожд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ытывает сильную (экспоненциальную) зависимость от ширины барьер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массы частиц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 разности энерги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1797120" y="1327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2" descr=""/>
          <p:cNvPicPr/>
          <p:nvPr/>
        </p:nvPicPr>
        <p:blipFill>
          <a:blip r:embed="rId1"/>
          <a:stretch/>
        </p:blipFill>
        <p:spPr>
          <a:xfrm>
            <a:off x="2928960" y="1357200"/>
            <a:ext cx="3848040" cy="57168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" descr=""/>
          <p:cNvPicPr/>
          <p:nvPr/>
        </p:nvPicPr>
        <p:blipFill>
          <a:blip r:embed="rId2"/>
          <a:stretch/>
        </p:blipFill>
        <p:spPr>
          <a:xfrm>
            <a:off x="3500280" y="2643120"/>
            <a:ext cx="283860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уннельный эффек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ь квантовых частиц в силу волнов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 заходить под барьер приводит к т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мому  туннельному эффек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ть эффекта. Если частица с энергией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лет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некоторый потенциальный барьер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(x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которой определенной вероятностью может прой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барьер как бы по туннелю, т.е. пройти в область, 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&lt; 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ятно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(x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положения налетающей частицы убывает экспоненциально. Коэффициент прозрачности барьера произвольной формы можно оцен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 объясняет многие физические явле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одная эмиссия электронов из металлов, альфа-распад, спонтанное деление ядер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6858000" y="714240"/>
            <a:ext cx="2030400" cy="20178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" descr=""/>
          <p:cNvPicPr/>
          <p:nvPr/>
        </p:nvPicPr>
        <p:blipFill>
          <a:blip r:embed="rId2"/>
          <a:stretch/>
        </p:blipFill>
        <p:spPr>
          <a:xfrm>
            <a:off x="2286000" y="4500720"/>
            <a:ext cx="2830680" cy="8571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4" descr=""/>
          <p:cNvPicPr/>
          <p:nvPr/>
        </p:nvPicPr>
        <p:blipFill>
          <a:blip r:embed="rId3"/>
          <a:stretch/>
        </p:blipFill>
        <p:spPr>
          <a:xfrm>
            <a:off x="6784920" y="4143240"/>
            <a:ext cx="2359080" cy="15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вантование момента импуль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е момента импуль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ранстве является неопределе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ное значение имеет лишь проекция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деленное направление, две другие прое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азываются полностью неопределенны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 момента импульс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битальное квантовое числ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ция момента импульса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сферических координа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с учетом               получим                                        Функция конечна, непрерывная и гладкая, тогда                               Следовательно, проекция углового момента на ос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является кратной постоянной План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7358040" y="1071720"/>
            <a:ext cx="1571760" cy="16635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3" descr=""/>
          <p:cNvPicPr/>
          <p:nvPr/>
        </p:nvPicPr>
        <p:blipFill>
          <a:blip r:embed="rId2"/>
          <a:stretch/>
        </p:blipFill>
        <p:spPr>
          <a:xfrm>
            <a:off x="2500200" y="2928960"/>
            <a:ext cx="3897360" cy="5713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" descr=""/>
          <p:cNvPicPr/>
          <p:nvPr/>
        </p:nvPicPr>
        <p:blipFill>
          <a:blip r:embed="rId3"/>
          <a:stretch/>
        </p:blipFill>
        <p:spPr>
          <a:xfrm>
            <a:off x="2857680" y="4429080"/>
            <a:ext cx="1571400" cy="5526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"/>
          <p:cNvPicPr/>
          <p:nvPr/>
        </p:nvPicPr>
        <p:blipFill>
          <a:blip r:embed="rId4"/>
          <a:stretch/>
        </p:blipFill>
        <p:spPr>
          <a:xfrm>
            <a:off x="2143080" y="5072040"/>
            <a:ext cx="949320" cy="2858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"/>
          <p:cNvPicPr/>
          <p:nvPr/>
        </p:nvPicPr>
        <p:blipFill>
          <a:blip r:embed="rId5"/>
          <a:stretch/>
        </p:blipFill>
        <p:spPr>
          <a:xfrm>
            <a:off x="4000680" y="5072040"/>
            <a:ext cx="2539800" cy="3873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"/>
          <p:cNvPicPr/>
          <p:nvPr/>
        </p:nvPicPr>
        <p:blipFill>
          <a:blip r:embed="rId6"/>
          <a:stretch/>
        </p:blipFill>
        <p:spPr>
          <a:xfrm>
            <a:off x="3857760" y="5429160"/>
            <a:ext cx="1804680" cy="2858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7"/>
          <a:stretch/>
        </p:blipFill>
        <p:spPr>
          <a:xfrm>
            <a:off x="2714760" y="6072120"/>
            <a:ext cx="335592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мплексна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функция не доступна наблю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функция определяется с точностью до произвольного множител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ероятность нахождения частицы в объем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V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в момент времен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t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яется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- комплексно-сопряженная функ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2411280" y="4437000"/>
            <a:ext cx="4219560" cy="9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отность вероятности т.е. вероятность нахождения частицы в ед. объ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а величина является экспериментально наблюдаемой величиной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ункция удовлетворяет условию нормиров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2771640" y="2708280"/>
            <a:ext cx="28195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2"/>
          <a:stretch/>
        </p:blipFill>
        <p:spPr>
          <a:xfrm>
            <a:off x="2124000" y="5229360"/>
            <a:ext cx="479124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</a:t>
            </a:r>
            <a:r>
              <a:rPr b="0" lang="ru-RU" sz="44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функ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нцип суперпозиции: если у некоторой системы возможны являются состояния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то для нее существует также состоя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– некоторые постоянные коэффициенты. Найдя таким образом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можно определить плотность вероятности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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* пребывания системы в этом состоя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327636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квантовой теории.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реднее значение физических велич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м вопрос о среднем значении физической величины на пример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ункции как функции одной пространственной координаты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ость вероятности найти частицу в окрестности точк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x, x+dx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P =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dx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среднее значение определяется к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интегрирование проводится по интересующей области. При этом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функция должна удовлетворять условию нормиров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ее значение любой функции определяется формул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3357720" y="3071880"/>
            <a:ext cx="2017440" cy="5666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3643200" y="4500720"/>
            <a:ext cx="1692360" cy="785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3"/>
          <a:stretch/>
        </p:blipFill>
        <p:spPr>
          <a:xfrm>
            <a:off x="3214800" y="5715000"/>
            <a:ext cx="275256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квантовой теории.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ом называют символическое обозначение математической операции, которую необходимо совершить с интересующей функцией, например оператор дифференцирования можно представить т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ы принято обозначать буквами со «шляпкой» и его действие на некоторую функцию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(x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исывается ка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йства операторо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мутирующие операторы, и не коммутирующие, наприме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3357720" y="1714680"/>
            <a:ext cx="1643040" cy="58248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5929200" y="2643120"/>
            <a:ext cx="617760" cy="2858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7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2928960" y="3357720"/>
            <a:ext cx="3467160" cy="35712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10"/>
          <p:cNvSpPr/>
          <p:nvPr/>
        </p:nvSpPr>
        <p:spPr>
          <a:xfrm>
            <a:off x="0" y="663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1" descr=""/>
          <p:cNvPicPr/>
          <p:nvPr/>
        </p:nvPicPr>
        <p:blipFill>
          <a:blip r:embed="rId4"/>
          <a:stretch/>
        </p:blipFill>
        <p:spPr>
          <a:xfrm>
            <a:off x="2928960" y="3786120"/>
            <a:ext cx="2500200" cy="3571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13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4" descr=""/>
          <p:cNvPicPr/>
          <p:nvPr/>
        </p:nvPicPr>
        <p:blipFill>
          <a:blip r:embed="rId5"/>
          <a:stretch/>
        </p:blipFill>
        <p:spPr>
          <a:xfrm>
            <a:off x="3429000" y="4429080"/>
            <a:ext cx="1143000" cy="36216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0" y="647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7" descr=""/>
          <p:cNvPicPr/>
          <p:nvPr/>
        </p:nvPicPr>
        <p:blipFill>
          <a:blip r:embed="rId6"/>
          <a:stretch/>
        </p:blipFill>
        <p:spPr>
          <a:xfrm>
            <a:off x="2500200" y="5072040"/>
            <a:ext cx="4019760" cy="5716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"/>
          <p:cNvPicPr/>
          <p:nvPr/>
        </p:nvPicPr>
        <p:blipFill>
          <a:blip r:embed="rId7"/>
          <a:stretch/>
        </p:blipFill>
        <p:spPr>
          <a:xfrm>
            <a:off x="3429000" y="5786280"/>
            <a:ext cx="15080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ы квантовой теории. Опе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 называется линейным, если для любых двух функций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любых двух констант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ся соотно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оры физических велич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тор полной энергии гамильтони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ператор момента импуль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2714760" y="1571760"/>
            <a:ext cx="3452760" cy="428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2"/>
          <a:stretch/>
        </p:blipFill>
        <p:spPr>
          <a:xfrm>
            <a:off x="3357720" y="2428920"/>
            <a:ext cx="2357280" cy="63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143000" y="3071880"/>
            <a:ext cx="2908440" cy="6429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1643040" y="3929040"/>
            <a:ext cx="2371680" cy="9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9T22:36:00Z</dcterms:created>
  <dc:creator>VIENNA XP</dc:creator>
  <dc:description/>
  <dc:language>en-US</dc:language>
  <cp:lastModifiedBy>user</cp:lastModifiedBy>
  <dcterms:modified xsi:type="dcterms:W3CDTF">2009-04-21T06:21:01Z</dcterms:modified>
  <cp:revision>82</cp:revision>
  <dc:subject/>
  <dc:title>Основы квантовой механики </dc:title>
</cp:coreProperties>
</file>