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78.png" ContentType="image/png"/>
  <Override PartName="/ppt/media/image31.png" ContentType="image/png"/>
  <Override PartName="/ppt/media/image68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28.png" ContentType="image/png"/>
  <Override PartName="/ppt/media/image67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4B7A-C1ED-4A9E-A1B2-9698FCAAA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A64D-3A6A-498C-AE53-EBFECAD02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1EC9-DD8B-4F34-9AA0-EF1C39C59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DB26-8030-450E-91BE-71BF40231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11FEA-72D4-4DE3-82DE-EF7D10114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72F6-7994-4A78-A1B1-6EE71D21A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855E-CEAE-48A4-BC33-86233FE28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BADC-7D78-46BE-9931-9CA28F168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AD6D-FA64-46EB-B839-B425ED1F1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BB4C-DFBB-41DF-A2DE-FA3D7729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0035-97C4-4C8E-A939-CF89681FE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FC27-9348-410B-B6D4-252AB38BF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37D14-C3EA-4C4C-83A2-CB6A9BE7E23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image" Target="../media/image57.png"/><Relationship Id="rId6" Type="http://schemas.openxmlformats.org/officeDocument/2006/relationships/image" Target="../media/image58.png"/><Relationship Id="rId7" Type="http://schemas.openxmlformats.org/officeDocument/2006/relationships/image" Target="../media/image59.png"/><Relationship Id="rId8" Type="http://schemas.openxmlformats.org/officeDocument/2006/relationships/image" Target="../media/image60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image" Target="../media/image63.png"/><Relationship Id="rId5" Type="http://schemas.openxmlformats.org/officeDocument/2006/relationships/image" Target="../media/image64.png"/><Relationship Id="rId6" Type="http://schemas.openxmlformats.org/officeDocument/2006/relationships/image" Target="../media/image65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image" Target="../media/image68.png"/><Relationship Id="rId4" Type="http://schemas.openxmlformats.org/officeDocument/2006/relationships/image" Target="../media/image69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image" Target="../media/image75.png"/><Relationship Id="rId3" Type="http://schemas.openxmlformats.org/officeDocument/2006/relationships/image" Target="../media/image76.png"/><Relationship Id="rId4" Type="http://schemas.openxmlformats.org/officeDocument/2006/relationships/image" Target="../media/image77.png"/><Relationship Id="rId5" Type="http://schemas.openxmlformats.org/officeDocument/2006/relationships/image" Target="../media/image7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38.pn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45.png"/><Relationship Id="rId9" Type="http://schemas.openxmlformats.org/officeDocument/2006/relationships/image" Target="../media/image46.png"/><Relationship Id="rId10" Type="http://schemas.openxmlformats.org/officeDocument/2006/relationships/image" Target="../media/image47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Взаимодействие света с вещество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Дисперсия св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Групповая скорость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2"/>
          <p:cNvSpPr/>
          <p:nvPr/>
        </p:nvSpPr>
        <p:spPr>
          <a:xfrm>
            <a:off x="0" y="50004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уравнения двух монохроматических волн имеют вид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езультате их наложения образуется суммарная вол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выражение можно рассматривать как уравнение монохроматической волны, амплитуда которой меняется по зак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сюда следует, что точки, соответствующие, максимуму амплитуды, движутся по зак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куд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Это и есть групповая скорость. Выражение для групповой скорости можно представить в ином ви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 как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 получим  формулу Реле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3143160" y="857160"/>
            <a:ext cx="2981520" cy="6429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3" descr=""/>
          <p:cNvPicPr/>
          <p:nvPr/>
        </p:nvPicPr>
        <p:blipFill>
          <a:blip r:embed="rId2"/>
          <a:stretch/>
        </p:blipFill>
        <p:spPr>
          <a:xfrm>
            <a:off x="2786040" y="2000160"/>
            <a:ext cx="4143240" cy="5050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"/>
          <p:cNvPicPr/>
          <p:nvPr/>
        </p:nvPicPr>
        <p:blipFill>
          <a:blip r:embed="rId3"/>
          <a:stretch/>
        </p:blipFill>
        <p:spPr>
          <a:xfrm>
            <a:off x="3286080" y="3000240"/>
            <a:ext cx="2121120" cy="5446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"/>
          <p:cNvPicPr/>
          <p:nvPr/>
        </p:nvPicPr>
        <p:blipFill>
          <a:blip r:embed="rId4"/>
          <a:stretch/>
        </p:blipFill>
        <p:spPr>
          <a:xfrm>
            <a:off x="3500280" y="4024440"/>
            <a:ext cx="1592280" cy="261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"/>
          <p:cNvPicPr/>
          <p:nvPr/>
        </p:nvPicPr>
        <p:blipFill>
          <a:blip r:embed="rId5"/>
          <a:stretch/>
        </p:blipFill>
        <p:spPr>
          <a:xfrm>
            <a:off x="928800" y="4357800"/>
            <a:ext cx="1422360" cy="298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"/>
          <p:cNvPicPr/>
          <p:nvPr/>
        </p:nvPicPr>
        <p:blipFill>
          <a:blip r:embed="rId6"/>
          <a:stretch/>
        </p:blipFill>
        <p:spPr>
          <a:xfrm>
            <a:off x="3071880" y="4857840"/>
            <a:ext cx="2492280" cy="6429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"/>
          <p:cNvPicPr/>
          <p:nvPr/>
        </p:nvPicPr>
        <p:blipFill>
          <a:blip r:embed="rId7"/>
          <a:stretch/>
        </p:blipFill>
        <p:spPr>
          <a:xfrm>
            <a:off x="857160" y="5715000"/>
            <a:ext cx="2719440" cy="357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"/>
          <p:cNvPicPr/>
          <p:nvPr/>
        </p:nvPicPr>
        <p:blipFill>
          <a:blip r:embed="rId8"/>
          <a:stretch/>
        </p:blipFill>
        <p:spPr>
          <a:xfrm>
            <a:off x="3786120" y="6072120"/>
            <a:ext cx="1571760" cy="6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Групповая скорость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0" y="1000080"/>
            <a:ext cx="9144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бласти нормальной дисперси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групповая скорост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казывается меньше скорости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В отсутствие дисперсии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и групповая скорость совпадает с фазов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лучае группы волн роль играет только малый участок кривой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в узком диапазон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Отрезок, который отсекает на оси ординат касательной к кривой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, проведенная через точку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.е. групповой скорости при данной длине волны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9" descr=""/>
          <p:cNvPicPr/>
          <p:nvPr/>
        </p:nvPicPr>
        <p:blipFill>
          <a:blip r:embed="rId1"/>
          <a:stretch/>
        </p:blipFill>
        <p:spPr>
          <a:xfrm>
            <a:off x="3643200" y="571680"/>
            <a:ext cx="1571760" cy="6141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3786120" y="1357200"/>
            <a:ext cx="970200" cy="2206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"/>
          <p:cNvPicPr/>
          <p:nvPr/>
        </p:nvPicPr>
        <p:blipFill>
          <a:blip r:embed="rId3"/>
          <a:stretch/>
        </p:blipFill>
        <p:spPr>
          <a:xfrm>
            <a:off x="4929120" y="1643040"/>
            <a:ext cx="890640" cy="2113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4" descr=""/>
          <p:cNvPicPr/>
          <p:nvPr/>
        </p:nvPicPr>
        <p:blipFill>
          <a:blip r:embed="rId4"/>
          <a:stretch/>
        </p:blipFill>
        <p:spPr>
          <a:xfrm>
            <a:off x="2786040" y="2214720"/>
            <a:ext cx="3071880" cy="22842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"/>
          <p:cNvPicPr/>
          <p:nvPr/>
        </p:nvPicPr>
        <p:blipFill>
          <a:blip r:embed="rId5"/>
          <a:stretch/>
        </p:blipFill>
        <p:spPr>
          <a:xfrm>
            <a:off x="1285920" y="4857840"/>
            <a:ext cx="1079280" cy="3045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"/>
          <p:cNvPicPr/>
          <p:nvPr/>
        </p:nvPicPr>
        <p:blipFill>
          <a:blip r:embed="rId6"/>
          <a:stretch/>
        </p:blipFill>
        <p:spPr>
          <a:xfrm>
            <a:off x="4143240" y="5143680"/>
            <a:ext cx="1409760" cy="29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оглощение света. Закон Бугер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2"/>
          <p:cNvSpPr/>
          <p:nvPr/>
        </p:nvSpPr>
        <p:spPr>
          <a:xfrm>
            <a:off x="0" y="785880"/>
            <a:ext cx="9144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хождение света  через вещество сопровождается потерей энергии, затрачиваемой на возбуждение колебаний электронов (на изменение их состояния в атоме). Часть энергии возвращается в виде вторичных волн, порождаемых колеблющимися электронами, часть энергии переходит в другие фор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через однородное вещество распространяется параллельный пучок с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делим в этом веществе бесконечно тонкий плоский сл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щин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При прохождении этого слоя интенсивность св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еньшится так, что ее убыль можно представить как –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еличина будет пропорциональна интенсивности в данном сл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 его толщи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где      - коэффициент поглощения.  Разделяя переменные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нтегрируя полученное выражение от 0 д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получ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Это и есть закон Бугера. Таким образом, интенсивность света при прохождении однородного вещества уменьшается по экспоненциальному зако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7143840" y="1928880"/>
            <a:ext cx="1695240" cy="1992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"/>
          <p:cNvPicPr/>
          <p:nvPr/>
        </p:nvPicPr>
        <p:blipFill>
          <a:blip r:embed="rId2"/>
          <a:stretch/>
        </p:blipFill>
        <p:spPr>
          <a:xfrm>
            <a:off x="2857680" y="3643200"/>
            <a:ext cx="1131840" cy="2858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"/>
          <p:cNvPicPr/>
          <p:nvPr/>
        </p:nvPicPr>
        <p:blipFill>
          <a:blip r:embed="rId3"/>
          <a:stretch/>
        </p:blipFill>
        <p:spPr>
          <a:xfrm>
            <a:off x="500040" y="4143240"/>
            <a:ext cx="198360" cy="2127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4"/>
          <a:stretch/>
        </p:blipFill>
        <p:spPr>
          <a:xfrm>
            <a:off x="3000240" y="4857840"/>
            <a:ext cx="144792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Поглощение света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2"/>
          <p:cNvSpPr/>
          <p:nvPr/>
        </p:nvSpPr>
        <p:spPr>
          <a:xfrm>
            <a:off x="0" y="50004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всех веществ поглощение имеет селективный характер, т.е. коэффициент поглощение  зависит от длины волны    .   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идно что, сильно поглощение обнаруживается в  достаточно широком интервале длин вол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В случае поглощения света газами или параметрами металлов при не высоком давлении коэффициент выглядит иначе. Эти максимумы соответствую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езонансным частотам колебаний электронов внутри атомов. При увеличении давления максимумы поглощения уширяются и приближается к спектрам поглощения жидк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4143240" y="857160"/>
            <a:ext cx="428760" cy="2844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"/>
          <p:cNvPicPr/>
          <p:nvPr/>
        </p:nvPicPr>
        <p:blipFill>
          <a:blip r:embed="rId2"/>
          <a:stretch/>
        </p:blipFill>
        <p:spPr>
          <a:xfrm>
            <a:off x="3143160" y="1357200"/>
            <a:ext cx="2700360" cy="19749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" descr=""/>
          <p:cNvPicPr/>
          <p:nvPr/>
        </p:nvPicPr>
        <p:blipFill>
          <a:blip r:embed="rId3"/>
          <a:stretch/>
        </p:blipFill>
        <p:spPr>
          <a:xfrm>
            <a:off x="3214800" y="3857760"/>
            <a:ext cx="250020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Рассеяние света.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6"/>
          <p:cNvSpPr/>
          <p:nvPr/>
        </p:nvSpPr>
        <p:spPr>
          <a:xfrm>
            <a:off x="0" y="642960"/>
            <a:ext cx="9144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классической точки зрения рассеяние света состоит в том, что световая волна, проходящая через вещество, вызывает колебания электронов в атомах. Эти электроны возбуждают вторичные волны, распространяющиеся по всем направлениям.  Эти волны, дифрагируя на мелких неоднородностях среды, да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фракционную картину в виде равномерного распределения интенсивности по всем направлениям. Это явление и называют рассеянием с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кон Реле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еянный свет голубой, а прошедший свет красный. Электроны, совершающие вынужденные колебания в атомах электрически изотропной частицы малого размера (не более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, эквивалентны одному колеблющемуся диполю. Этот диполь колеблется с частотой падающей на него световой волны, тогда интенсивность излучаемого им св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у зависимость называют законом Релея. Из него следует, что коротковолновая часть спектра рассеивается значительно более интенсивно чем длинноволнов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лубой свет, частота которого в 1.5 раза больше частоты красного света, рассеивается почти в 5 раз интенсивнее, чем крас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3154320" y="4000680"/>
            <a:ext cx="191772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ляризация рассеянного све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0" y="571680"/>
            <a:ext cx="9144000" cy="644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рассеянии естественного света в мутной среде зависимость интенсивности рассеянного света от угла рассеяния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меет ви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интенсивность света, рассеянного под прямым углом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2 к направлению первичного светового пучка.  Если молекулы рассеивающих частичек электрически изотропны (неполярные молекулы), то рассеиваемый свет частично-поляризован и под углом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2  - полностью поляризованным. Плоскость светового векто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ерпендикулярна направлению первичного светового пучка. Если размеры неоднородностей порядка длины волн, закон Релея нарушается  и све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еянный под углом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2 поляризован частично. Если размеры неоднородностей много больше световой волны, то спектральный состав рассеянного света совпадает со спектральным состава первичного пучк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лабление узкого светового пучка. Для мутных сред в законе Бугера вместо коэффициента поглощения следует ставить коэффициент ослаб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      - коэффициент экстинкции, связанный с рассеивающими свойствами среды. Тогда можно запис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а зависимость относится к узкому световому пуч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3286080" y="1214280"/>
            <a:ext cx="2195640" cy="3747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3" descr=""/>
          <p:cNvPicPr/>
          <p:nvPr/>
        </p:nvPicPr>
        <p:blipFill>
          <a:blip r:embed="rId2"/>
          <a:stretch/>
        </p:blipFill>
        <p:spPr>
          <a:xfrm>
            <a:off x="3429000" y="3403440"/>
            <a:ext cx="2090880" cy="4543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"/>
          <p:cNvPicPr/>
          <p:nvPr/>
        </p:nvPicPr>
        <p:blipFill>
          <a:blip r:embed="rId3"/>
          <a:stretch/>
        </p:blipFill>
        <p:spPr>
          <a:xfrm>
            <a:off x="3429000" y="5286240"/>
            <a:ext cx="1428840" cy="360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4"/>
          <a:stretch/>
        </p:blipFill>
        <p:spPr>
          <a:xfrm>
            <a:off x="501480" y="5572080"/>
            <a:ext cx="239760" cy="233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"/>
          <p:cNvPicPr/>
          <p:nvPr/>
        </p:nvPicPr>
        <p:blipFill>
          <a:blip r:embed="rId5"/>
          <a:stretch/>
        </p:blipFill>
        <p:spPr>
          <a:xfrm>
            <a:off x="3500280" y="5929200"/>
            <a:ext cx="132408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600" cy="29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Дисперсия свет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81000" y="1357200"/>
            <a:ext cx="9024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исперсия света – это явление, обусловленные зависимостью показателя прелом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щества от длины волны (частоты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де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 длина волны света в вакууме. Производную              называют дисперсией ве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тервал длин волн, в котором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, соответствует нормальной дисперсии. Те ж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нтервалы длин волн, где дисперсия веществ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соответствует аномаль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исперсии.  Область аномальной дисперсии совпадает с полосой поглощ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3714840" y="2071800"/>
            <a:ext cx="982440" cy="357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"/>
          <p:cNvPicPr/>
          <p:nvPr/>
        </p:nvPicPr>
        <p:blipFill>
          <a:blip r:embed="rId2"/>
          <a:stretch/>
        </p:blipFill>
        <p:spPr>
          <a:xfrm>
            <a:off x="5143680" y="2500200"/>
            <a:ext cx="701640" cy="2858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"/>
          <p:cNvPicPr/>
          <p:nvPr/>
        </p:nvPicPr>
        <p:blipFill>
          <a:blip r:embed="rId3"/>
          <a:stretch/>
        </p:blipFill>
        <p:spPr>
          <a:xfrm>
            <a:off x="1285920" y="3000240"/>
            <a:ext cx="2214360" cy="1990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"/>
          <p:cNvPicPr/>
          <p:nvPr/>
        </p:nvPicPr>
        <p:blipFill>
          <a:blip r:embed="rId4"/>
          <a:stretch/>
        </p:blipFill>
        <p:spPr>
          <a:xfrm>
            <a:off x="4286160" y="3021120"/>
            <a:ext cx="2643120" cy="2050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5"/>
          <a:stretch/>
        </p:blipFill>
        <p:spPr>
          <a:xfrm>
            <a:off x="3286080" y="4983120"/>
            <a:ext cx="992160" cy="249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"/>
          <p:cNvPicPr/>
          <p:nvPr/>
        </p:nvPicPr>
        <p:blipFill>
          <a:blip r:embed="rId6"/>
          <a:stretch/>
        </p:blipFill>
        <p:spPr>
          <a:xfrm>
            <a:off x="4714920" y="5214960"/>
            <a:ext cx="1209600" cy="285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"/>
          <p:cNvPicPr/>
          <p:nvPr/>
        </p:nvPicPr>
        <p:blipFill>
          <a:blip r:embed="rId7"/>
          <a:stretch/>
        </p:blipFill>
        <p:spPr>
          <a:xfrm>
            <a:off x="7869240" y="5521320"/>
            <a:ext cx="488880" cy="26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600" cy="29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Дисперсия свет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43920" y="928800"/>
            <a:ext cx="8800560" cy="75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налитический вид зависимости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(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области нормальной дисперсии для не слиш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ольших интервалов длин волн можно представить формул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де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оложительные постоянные, значения которых для каждого веще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пределяются из опы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 рисунках дисперсия вещества в зависимости от частоты. Формулу дисперсии мож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пис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де  постоя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3643200" y="1714680"/>
            <a:ext cx="1527120" cy="285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1071720" y="2786040"/>
            <a:ext cx="2492280" cy="2055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3"/>
          <a:stretch/>
        </p:blipFill>
        <p:spPr>
          <a:xfrm>
            <a:off x="4572000" y="2928960"/>
            <a:ext cx="3171960" cy="18572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"/>
          <p:cNvPicPr/>
          <p:nvPr/>
        </p:nvPicPr>
        <p:blipFill>
          <a:blip r:embed="rId4"/>
          <a:stretch/>
        </p:blipFill>
        <p:spPr>
          <a:xfrm>
            <a:off x="3286080" y="5286240"/>
            <a:ext cx="1757520" cy="4287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"/>
          <p:cNvPicPr/>
          <p:nvPr/>
        </p:nvPicPr>
        <p:blipFill>
          <a:blip r:embed="rId5"/>
          <a:stretch/>
        </p:blipFill>
        <p:spPr>
          <a:xfrm>
            <a:off x="1714680" y="5929200"/>
            <a:ext cx="118584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600" cy="29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лассическая теория дисперси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8"/>
          <p:cNvSpPr/>
          <p:nvPr/>
        </p:nvSpPr>
        <p:spPr>
          <a:xfrm>
            <a:off x="0" y="1071720"/>
            <a:ext cx="9144000" cy="50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усть имеется изотропная немагнитная сред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. В свою очередь диэлектрическ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ницаемость можно найти из соотношен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  , где     - диэлектрическая восприимчивость, которая является коэффициентом в соотношени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поляризованность, т.е. дипольный момент единицы объема. Таким образ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де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проекция вектор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на ось Х, вдоль которой совершаются колебания вектор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Полагая, что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где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0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концентрация диполей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x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проекция дипольного момента отдельного диполя. Будем считать, что каждый атом будет обладать дипольным моментов в присутствии внешнего поля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а в отсутствии его дипольный момент будет равен нулю. Будем пренебрегать взаимодействием атомов друг с другом. В присутствие внешнего поля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электрическое облако атома будет смещаться относительно практически неподвижного ядра, и будет возникать дипольный момент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= ql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где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 &gt;0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 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ектор, проведенный из центра облака к ядру. Проекция вектор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на ось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вн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десь х – смещение центра облака 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ложения равновесия, центр облака ведет себя как точечный заряд –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гда получи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4643280" y="1143000"/>
            <a:ext cx="508320" cy="214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4643280" y="1390680"/>
            <a:ext cx="857520" cy="2523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3"/>
          <a:stretch/>
        </p:blipFill>
        <p:spPr>
          <a:xfrm>
            <a:off x="5929200" y="1393920"/>
            <a:ext cx="201600" cy="249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"/>
          <p:cNvPicPr/>
          <p:nvPr/>
        </p:nvPicPr>
        <p:blipFill>
          <a:blip r:embed="rId4"/>
          <a:stretch/>
        </p:blipFill>
        <p:spPr>
          <a:xfrm>
            <a:off x="6786720" y="1643040"/>
            <a:ext cx="938160" cy="298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"/>
          <p:cNvPicPr/>
          <p:nvPr/>
        </p:nvPicPr>
        <p:blipFill>
          <a:blip r:embed="rId5"/>
          <a:stretch/>
        </p:blipFill>
        <p:spPr>
          <a:xfrm>
            <a:off x="3143160" y="2214720"/>
            <a:ext cx="1720800" cy="714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"/>
          <p:cNvPicPr/>
          <p:nvPr/>
        </p:nvPicPr>
        <p:blipFill>
          <a:blip r:embed="rId6"/>
          <a:stretch/>
        </p:blipFill>
        <p:spPr>
          <a:xfrm>
            <a:off x="1357200" y="3286080"/>
            <a:ext cx="1001880" cy="28584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8"/>
          <p:cNvGrpSpPr/>
          <p:nvPr/>
        </p:nvGrpSpPr>
        <p:grpSpPr>
          <a:xfrm>
            <a:off x="7078320" y="4800240"/>
            <a:ext cx="1858320" cy="2021760"/>
            <a:chOff x="7078320" y="4800240"/>
            <a:chExt cx="1858320" cy="2021760"/>
          </a:xfrm>
        </p:grpSpPr>
        <p:sp>
          <p:nvSpPr>
            <p:cNvPr id="68" name="Oval 9"/>
            <p:cNvSpPr/>
            <p:nvPr/>
          </p:nvSpPr>
          <p:spPr>
            <a:xfrm>
              <a:off x="7727400" y="6000120"/>
              <a:ext cx="172440" cy="189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9" name="AutoShape 10"/>
            <p:cNvCxnSpPr/>
            <p:nvPr/>
          </p:nvCxnSpPr>
          <p:spPr>
            <a:xfrm flipH="1">
              <a:off x="7799400" y="5752440"/>
              <a:ext cx="275400" cy="335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Oval 11"/>
            <p:cNvSpPr/>
            <p:nvPr/>
          </p:nvSpPr>
          <p:spPr>
            <a:xfrm rot="2169000">
              <a:off x="7500960" y="4929120"/>
              <a:ext cx="1013040" cy="1763640"/>
            </a:xfrm>
            <a:prstGeom prst="ellipse">
              <a:avLst/>
            </a:prstGeom>
            <a:solidFill>
              <a:srgbClr val="548dd4">
                <a:alpha val="13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 Box 12"/>
            <p:cNvSpPr/>
            <p:nvPr/>
          </p:nvSpPr>
          <p:spPr>
            <a:xfrm>
              <a:off x="7900200" y="5053680"/>
              <a:ext cx="680040" cy="49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100" spc="-1" strike="noStrike">
                  <a:solidFill>
                    <a:srgbClr val="000000"/>
                  </a:solidFill>
                  <a:latin typeface="Calibri"/>
                </a:rPr>
                <a:t>-</a:t>
              </a: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q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13"/>
            <p:cNvSpPr/>
            <p:nvPr/>
          </p:nvSpPr>
          <p:spPr>
            <a:xfrm>
              <a:off x="7900200" y="5694480"/>
              <a:ext cx="680040" cy="49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   </a:t>
              </a:r>
              <a:r>
                <a:rPr b="0" lang="en-US" sz="1100" spc="-1" strike="noStrike">
                  <a:solidFill>
                    <a:srgbClr val="000000"/>
                  </a:solidFill>
                  <a:latin typeface="Calibri"/>
                </a:rPr>
                <a:t>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" name="Picture 14" descr=""/>
          <p:cNvPicPr/>
          <p:nvPr/>
        </p:nvPicPr>
        <p:blipFill>
          <a:blip r:embed="rId7"/>
          <a:srcRect l="3277" t="0" r="0" b="20028"/>
          <a:stretch/>
        </p:blipFill>
        <p:spPr>
          <a:xfrm>
            <a:off x="714240" y="5214960"/>
            <a:ext cx="2111400" cy="2858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5" descr=""/>
          <p:cNvPicPr/>
          <p:nvPr/>
        </p:nvPicPr>
        <p:blipFill>
          <a:blip r:embed="rId8"/>
          <a:stretch/>
        </p:blipFill>
        <p:spPr>
          <a:xfrm>
            <a:off x="2571840" y="5857920"/>
            <a:ext cx="185904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600" cy="29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лассическая теория дисперси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15" descr=""/>
          <p:cNvPicPr/>
          <p:nvPr/>
        </p:nvPicPr>
        <p:blipFill>
          <a:blip r:embed="rId1"/>
          <a:stretch/>
        </p:blipFill>
        <p:spPr>
          <a:xfrm>
            <a:off x="3286080" y="857160"/>
            <a:ext cx="1859040" cy="714600"/>
          </a:xfrm>
          <a:prstGeom prst="rect">
            <a:avLst/>
          </a:prstGeom>
          <a:ln w="0">
            <a:noFill/>
          </a:ln>
        </p:spPr>
      </p:pic>
      <p:sp>
        <p:nvSpPr>
          <p:cNvPr id="77" name="TextBox 19"/>
          <p:cNvSpPr/>
          <p:nvPr/>
        </p:nvSpPr>
        <p:spPr>
          <a:xfrm>
            <a:off x="142920" y="1643040"/>
            <a:ext cx="9001080" cy="45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ак видно, задача сводится к определению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(t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 действием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t)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этого запишем уравнение движения электронного облака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де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m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масса электронного облака, а справа записаны проекции на ось Х квазиупругой силы, обусловленной взаимодействием облака с ядром, и вынуждающей силы со стороны гармонической электромагнитной волны частоты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Разделим обе части уравнения н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получ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д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Для теории дисперсии имеет значение не общее, а только частное (установившееся) ре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де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– амплитуда колебаний,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- разность фаз между смещением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и сил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становка этого решения позволяет найти с помощью векторной диаграммы значения амплитуды и разности фаз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2"/>
          <a:stretch/>
        </p:blipFill>
        <p:spPr>
          <a:xfrm>
            <a:off x="2857680" y="2357280"/>
            <a:ext cx="3477960" cy="373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3"/>
          <a:stretch/>
        </p:blipFill>
        <p:spPr>
          <a:xfrm>
            <a:off x="3286080" y="3786120"/>
            <a:ext cx="2760840" cy="357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4"/>
          <a:stretch/>
        </p:blipFill>
        <p:spPr>
          <a:xfrm>
            <a:off x="571680" y="4071960"/>
            <a:ext cx="3663720" cy="3571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"/>
          <p:cNvPicPr/>
          <p:nvPr/>
        </p:nvPicPr>
        <p:blipFill>
          <a:blip r:embed="rId5"/>
          <a:stretch/>
        </p:blipFill>
        <p:spPr>
          <a:xfrm>
            <a:off x="3143160" y="4888080"/>
            <a:ext cx="2071800" cy="326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6"/>
          <a:stretch/>
        </p:blipFill>
        <p:spPr>
          <a:xfrm>
            <a:off x="7643880" y="5214960"/>
            <a:ext cx="928800" cy="287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"/>
          <p:cNvPicPr/>
          <p:nvPr/>
        </p:nvPicPr>
        <p:blipFill>
          <a:blip r:embed="rId7"/>
          <a:stretch/>
        </p:blipFill>
        <p:spPr>
          <a:xfrm>
            <a:off x="1857240" y="6072120"/>
            <a:ext cx="2963880" cy="785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8"/>
          <a:stretch/>
        </p:blipFill>
        <p:spPr>
          <a:xfrm>
            <a:off x="5000760" y="6072120"/>
            <a:ext cx="144936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600" cy="29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лассическая теория дисперси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11"/>
          <p:cNvSpPr/>
          <p:nvPr/>
        </p:nvSpPr>
        <p:spPr>
          <a:xfrm>
            <a:off x="0" y="714240"/>
            <a:ext cx="9144000" cy="62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граничимся простейшим случаем, когд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т.е. когда вынуждающая частота поля не очень близка к собственной частоте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колебаний электронного облака и коэффициент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характеризующий затухание, достаточно мал. В этом случае, если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акой же результат будет и при                 когда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. В результате получи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де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- концентрация электрон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здесь учтено, что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 –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число электронов в атом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Разрыв функции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 при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и обращение ее в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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не имеют физического смысла, э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следствие игнорирования затухания (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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0), если затухание учесть, то получим зависимость, которая хорошо согласуется с эксперимен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висимость          характеризует полосу поглощения, 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ей совпадает область аномальной дисперс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обственных частот в атоме может быть несколько, знач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 областей аномальной дисперсии может быть нескольк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идно что, при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gt;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показатель преломления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 &lt; 1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, а э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начит что, фазовая скорость волны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gt;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 – скорости света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4249800" y="766800"/>
            <a:ext cx="1465200" cy="3049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"/>
          <p:cNvPicPr/>
          <p:nvPr/>
        </p:nvPicPr>
        <p:blipFill>
          <a:blip r:embed="rId2"/>
          <a:stretch/>
        </p:blipFill>
        <p:spPr>
          <a:xfrm>
            <a:off x="8298000" y="1355760"/>
            <a:ext cx="631800" cy="216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"/>
          <p:cNvPicPr/>
          <p:nvPr/>
        </p:nvPicPr>
        <p:blipFill>
          <a:blip r:embed="rId3"/>
          <a:srcRect l="0" t="9991" r="0" b="0"/>
          <a:stretch/>
        </p:blipFill>
        <p:spPr>
          <a:xfrm>
            <a:off x="3071880" y="1714680"/>
            <a:ext cx="2217600" cy="6426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"/>
          <p:cNvPicPr/>
          <p:nvPr/>
        </p:nvPicPr>
        <p:blipFill>
          <a:blip r:embed="rId4"/>
          <a:stretch/>
        </p:blipFill>
        <p:spPr>
          <a:xfrm>
            <a:off x="3143160" y="2428920"/>
            <a:ext cx="776520" cy="2858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"/>
          <p:cNvPicPr/>
          <p:nvPr/>
        </p:nvPicPr>
        <p:blipFill>
          <a:blip r:embed="rId5"/>
          <a:stretch/>
        </p:blipFill>
        <p:spPr>
          <a:xfrm>
            <a:off x="3143160" y="2714760"/>
            <a:ext cx="1928880" cy="728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"/>
          <p:cNvPicPr/>
          <p:nvPr/>
        </p:nvPicPr>
        <p:blipFill>
          <a:blip r:embed="rId6"/>
          <a:stretch/>
        </p:blipFill>
        <p:spPr>
          <a:xfrm>
            <a:off x="428760" y="3532320"/>
            <a:ext cx="2617560" cy="2538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"/>
          <p:cNvPicPr/>
          <p:nvPr/>
        </p:nvPicPr>
        <p:blipFill>
          <a:blip r:embed="rId7"/>
          <a:stretch/>
        </p:blipFill>
        <p:spPr>
          <a:xfrm>
            <a:off x="1857240" y="3786120"/>
            <a:ext cx="2713320" cy="2858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"/>
          <p:cNvPicPr/>
          <p:nvPr/>
        </p:nvPicPr>
        <p:blipFill>
          <a:blip r:embed="rId8"/>
          <a:stretch/>
        </p:blipFill>
        <p:spPr>
          <a:xfrm>
            <a:off x="6000840" y="4714920"/>
            <a:ext cx="3057480" cy="1901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0" descr=""/>
          <p:cNvPicPr/>
          <p:nvPr/>
        </p:nvPicPr>
        <p:blipFill>
          <a:blip r:embed="rId9"/>
          <a:stretch/>
        </p:blipFill>
        <p:spPr>
          <a:xfrm>
            <a:off x="1357200" y="4857840"/>
            <a:ext cx="428760" cy="2840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1" descr=""/>
          <p:cNvPicPr/>
          <p:nvPr/>
        </p:nvPicPr>
        <p:blipFill>
          <a:blip r:embed="rId10"/>
          <a:stretch/>
        </p:blipFill>
        <p:spPr>
          <a:xfrm>
            <a:off x="2000160" y="5429160"/>
            <a:ext cx="1258920" cy="2732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2" descr=""/>
          <p:cNvPicPr/>
          <p:nvPr/>
        </p:nvPicPr>
        <p:blipFill>
          <a:blip r:embed="rId11"/>
          <a:stretch/>
        </p:blipFill>
        <p:spPr>
          <a:xfrm>
            <a:off x="3649680" y="6500880"/>
            <a:ext cx="99360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Классическая теория дисперси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14"/>
          <p:cNvSpPr/>
          <p:nvPr/>
        </p:nvSpPr>
        <p:spPr>
          <a:xfrm>
            <a:off x="142920" y="1500120"/>
            <a:ext cx="9001080" cy="42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з этого выражения еще одно следствие, когда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Calibri"/>
              </a:rPr>
              <a:t>0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= 0 (например в плазме).  При этом условии, когда частота ЭМВ             оказывается, что диэлектрическая проницаем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 следовательно, показатель преломления для таких частот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тановится мнимым, и его можно представить как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Запишем уравнение ЭМВ в комплекс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орм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где                    - длина волны в среде. Если длина волны в вакууме                           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или для действительной ча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результате мы имеем стоячую волну, амплитуда которой экспоненциально затухает. Фактически это означает, что излучение при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&lt;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0 не может пройти плазму и происходит полное отражение его в пограничном сл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3571920" y="571680"/>
            <a:ext cx="1928880" cy="728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2"/>
          <a:stretch/>
        </p:blipFill>
        <p:spPr>
          <a:xfrm>
            <a:off x="3000240" y="1843200"/>
            <a:ext cx="527040" cy="228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"/>
          <p:cNvPicPr/>
          <p:nvPr/>
        </p:nvPicPr>
        <p:blipFill>
          <a:blip r:embed="rId3"/>
          <a:stretch/>
        </p:blipFill>
        <p:spPr>
          <a:xfrm>
            <a:off x="214200" y="2143080"/>
            <a:ext cx="669960" cy="211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"/>
          <p:cNvPicPr/>
          <p:nvPr/>
        </p:nvPicPr>
        <p:blipFill>
          <a:blip r:embed="rId4"/>
          <a:stretch/>
        </p:blipFill>
        <p:spPr>
          <a:xfrm>
            <a:off x="6853320" y="2114640"/>
            <a:ext cx="647640" cy="2426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5"/>
          <a:stretch/>
        </p:blipFill>
        <p:spPr>
          <a:xfrm>
            <a:off x="4054320" y="2395440"/>
            <a:ext cx="803520" cy="247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"/>
          <p:cNvPicPr/>
          <p:nvPr/>
        </p:nvPicPr>
        <p:blipFill>
          <a:blip r:embed="rId6"/>
          <a:stretch/>
        </p:blipFill>
        <p:spPr>
          <a:xfrm>
            <a:off x="3571920" y="2714760"/>
            <a:ext cx="1336680" cy="414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"/>
          <p:cNvPicPr/>
          <p:nvPr/>
        </p:nvPicPr>
        <p:blipFill>
          <a:blip r:embed="rId7"/>
          <a:stretch/>
        </p:blipFill>
        <p:spPr>
          <a:xfrm>
            <a:off x="642960" y="3214800"/>
            <a:ext cx="884160" cy="226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"/>
          <p:cNvPicPr/>
          <p:nvPr/>
        </p:nvPicPr>
        <p:blipFill>
          <a:blip r:embed="rId8"/>
          <a:stretch/>
        </p:blipFill>
        <p:spPr>
          <a:xfrm>
            <a:off x="6643800" y="3214800"/>
            <a:ext cx="1414440" cy="2365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"/>
          <p:cNvPicPr/>
          <p:nvPr/>
        </p:nvPicPr>
        <p:blipFill>
          <a:blip r:embed="rId9"/>
          <a:stretch/>
        </p:blipFill>
        <p:spPr>
          <a:xfrm>
            <a:off x="3571920" y="3500280"/>
            <a:ext cx="1387440" cy="5004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1" descr=""/>
          <p:cNvPicPr/>
          <p:nvPr/>
        </p:nvPicPr>
        <p:blipFill>
          <a:blip r:embed="rId10"/>
          <a:stretch/>
        </p:blipFill>
        <p:spPr>
          <a:xfrm>
            <a:off x="3571920" y="4214880"/>
            <a:ext cx="197172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Групповая скорость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785880"/>
            <a:ext cx="91440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нохроматическая волна  - это математическая идеализация. Таких волн в природе нет. Любая волна может представлена как суперпозиция  монохроматических волн с различными амплитудами и частотами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интервале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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перпозицию волн, отличающихся друг от друга по частотам (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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&lt;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, называют волновым пакетом или группой волн. В пределах пакета монохроматические  составляющие усиливают друг друга, вне пакета гасят друг дру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вакууме все монохроматические волны распространяются с одинаковой фазовой скорост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такой же скоростью  распространяется в вакууме и сам волновой пакет, не изменяя своей форм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2428920" y="2786040"/>
            <a:ext cx="3389400" cy="16891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"/>
          <p:cNvPicPr/>
          <p:nvPr/>
        </p:nvPicPr>
        <p:blipFill>
          <a:blip r:embed="rId2"/>
          <a:stretch/>
        </p:blipFill>
        <p:spPr>
          <a:xfrm>
            <a:off x="3714840" y="5000760"/>
            <a:ext cx="110484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Calibri"/>
              </a:rPr>
              <a:t>Групповая скорость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0" y="785880"/>
            <a:ext cx="9144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спергирующей среде волновой пакет расплывается, поскольку скорости его монохроматических составляющих отличаются друг от друг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дисперсия достаточно мала, расплывание волнового пакета происходит не слишком быстро. Припишем волновому пакету скорос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с которой перемещается «центр тяжести» пакета. Тогд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будет групповой скоростью. Тог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рисунке а) показано относительное расположение двух волн с одинаковой амплитудой и несколько отличным друг от друга частотами. На рис. б) результат суперпозиции.  Нас будет интересовать скорость, с которой перемещается место 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аксимальной амплитудой это и будет скорость волнового пакета – групповая скорос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3429000" y="2357280"/>
            <a:ext cx="1692360" cy="5716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"/>
          <p:cNvPicPr/>
          <p:nvPr/>
        </p:nvPicPr>
        <p:blipFill>
          <a:blip r:embed="rId2"/>
          <a:stretch/>
        </p:blipFill>
        <p:spPr>
          <a:xfrm>
            <a:off x="1857240" y="2928960"/>
            <a:ext cx="4738680" cy="8715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"/>
          <p:cNvPicPr/>
          <p:nvPr/>
        </p:nvPicPr>
        <p:blipFill>
          <a:blip r:embed="rId3"/>
          <a:stretch/>
        </p:blipFill>
        <p:spPr>
          <a:xfrm>
            <a:off x="1928880" y="3786120"/>
            <a:ext cx="4643280" cy="11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30T03:27:47Z</dcterms:created>
  <dc:creator>user</dc:creator>
  <dc:description/>
  <dc:language>en-US</dc:language>
  <cp:lastModifiedBy>user</cp:lastModifiedBy>
  <dcterms:modified xsi:type="dcterms:W3CDTF">2009-03-31T04:41:43Z</dcterms:modified>
  <cp:revision>64</cp:revision>
  <dc:subject/>
  <dc:title>Взаимодействие света с веществом</dc:title>
</cp:coreProperties>
</file>