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0.png" ContentType="image/png"/>
  <Override PartName="/ppt/media/image5.png" ContentType="image/png"/>
  <Override PartName="/ppt/media/image4.wmf" ContentType="image/x-wmf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7860-F928-4A65-8472-C6C5842CA27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D17D-BACD-446E-B5EF-60FAFCCBB56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B304-D74B-4566-9B9F-B2A7148CD79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FFD9-2F1D-4CDA-A9F1-61771205C5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042D-957E-4FBF-9EB6-8DB7C23766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9EF8-A772-4FA0-81A8-C1B8231E8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7069-31CF-42EF-8AAE-EB20837A0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4DC4-28D0-4752-9BD0-EFEFA3C9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C7F4-D031-4344-93F0-10A80060E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5D26-EEF6-437C-8E17-9371750C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7CB8-7FD0-41F8-94E1-A15B12CF5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2C87-BE24-4F2B-BB72-8BF96D02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71898-2B61-47CE-A75B-8DBB6C66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50679-4834-43BD-8025-ABF006AAF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CC8F-2913-4299-9C07-DA501556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4A0CF-A7F3-40C3-81DD-90C0A8958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627-C714-4FE0-B7DC-9530A25FC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DF87-28AA-4F76-90DA-05CF45CD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17609-7744-4EBD-AC6C-657849308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38EE2-D44B-4BD4-93BC-590437EE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7CB9D-3E7D-4FB2-B640-658D33176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7A663-C985-463E-BC44-A3CD2A0BB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ED30A-9AFE-49A3-A938-A9E4F29DC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12F7C-FD1D-44F4-8956-F1522BCF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93AC0-DF2C-4D6E-9093-93524DA1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73854F-C28D-4683-8CF6-4691D83B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8BB50-B804-4ECF-8764-B7BA8941F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FDDB-05CE-4853-961C-02F9095AC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1DBB5-1C37-40EF-81A2-CDE3EBD6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AB727-09B0-442B-AD13-FAC472125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06990-26AA-4625-815C-2CBB7971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2BD2C4-791B-4F92-B375-A493703C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AC91B-F4A8-44AD-88A8-E68F7764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9E9C51-99CF-47BE-B8F7-C36F1E6F9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B2D2B-7180-45D8-953A-94CA04328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24CA-A347-440F-824C-5BBBBDB75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F147E-D5CE-477D-8A47-500F14215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F54AC4-7A08-4B76-A2F1-D0949F2E8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8B7F-E8C6-40A1-BBDE-9E9B40555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4C570F-BF64-43F8-A333-F8F3F3FD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26A1FF-47C9-4979-B33F-5E24A8EE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04CEE-570A-40F7-8A7A-AF9393AA2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64E31F-E2DB-4387-B777-9C6A4989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EED10-7327-4D65-9AE7-6C9656F6B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DF832E-7D47-472E-A35C-AB9EAE984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88EA6-C61E-4357-95B3-A936C580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14C2B-931B-4D38-9F71-19F9C0D5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A5E7A0-D362-41A6-9462-86AE8BF4B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172-73A3-4350-84D9-0FEE08DD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187-F478-456A-8049-8621F728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8280-FAE6-4C10-97F6-FFA553FB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17AD-6CDB-42E9-A8CD-98FD5E30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BDBF-8374-4BF9-9C67-29B67ED66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3E717-6EB1-411A-8A92-D0FF9D1773E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45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D459-FFA9-449D-91C1-50BE1C6A3DD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D112-AC17-45A4-807F-58C87A67942F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32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9515-324D-4A88-AAB5-C18F35B3253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8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9"/>
          <p:cNvSpPr/>
          <p:nvPr/>
        </p:nvSpPr>
        <p:spPr>
          <a:xfrm>
            <a:off x="6429240" y="6072120"/>
            <a:ext cx="928800" cy="428760"/>
          </a:xfrm>
          <a:prstGeom prst="rect">
            <a:avLst/>
          </a:prstGeom>
          <a:solidFill>
            <a:srgbClr val="ffffff"/>
          </a:solidFill>
          <a:ln w="399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Rectangle 9" descr=""/>
          <p:cNvPicPr/>
          <p:nvPr/>
        </p:nvPicPr>
        <p:blipFill>
          <a:blip r:embed="rId1"/>
          <a:stretch/>
        </p:blipFill>
        <p:spPr>
          <a:xfrm>
            <a:off x="493560" y="-6480"/>
            <a:ext cx="7255080" cy="835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10"/>
          <p:cNvSpPr/>
          <p:nvPr/>
        </p:nvSpPr>
        <p:spPr>
          <a:xfrm>
            <a:off x="179280" y="857160"/>
            <a:ext cx="7932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ракция света – явление огибания световыми волнами препятст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проникновение света в область геометрической т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ое определение – явление отклонения света от прямолиней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остранения не связанного с преломлением, отражением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лонениям в оптически не однородных средах называют дифракци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ракцию можно объяснить с помощью принципа Гюйгенса-Френ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нцип Гюйгенса-Френе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экран 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некотор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рстием, через которо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ходит свет от точеч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а монохроматическ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лучения. Предполагает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сюду, где волна совп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ет с с отверстием напря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енность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а напряж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ы так если бы экрана не был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справедливо, когда размеры экра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ного больше длины волны излу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1" descr=""/>
          <p:cNvPicPr/>
          <p:nvPr/>
        </p:nvPicPr>
        <p:blipFill>
          <a:blip r:embed="rId2"/>
          <a:stretch/>
        </p:blipFill>
        <p:spPr>
          <a:xfrm>
            <a:off x="4211640" y="3429000"/>
            <a:ext cx="3759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Rectangle 2" descr=""/>
          <p:cNvPicPr/>
          <p:nvPr/>
        </p:nvPicPr>
        <p:blipFill>
          <a:blip r:embed="rId1"/>
          <a:stretch/>
        </p:blipFill>
        <p:spPr>
          <a:xfrm>
            <a:off x="450720" y="219240"/>
            <a:ext cx="7255080" cy="622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4" descr=""/>
          <p:cNvPicPr/>
          <p:nvPr/>
        </p:nvPicPr>
        <p:blipFill>
          <a:blip r:embed="rId2"/>
          <a:stretch/>
        </p:blipFill>
        <p:spPr>
          <a:xfrm>
            <a:off x="4356000" y="1125360"/>
            <a:ext cx="3759480" cy="23050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5"/>
          <p:cNvSpPr/>
          <p:nvPr/>
        </p:nvSpPr>
        <p:spPr>
          <a:xfrm>
            <a:off x="0" y="1052640"/>
            <a:ext cx="8143920" cy="342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роем экран произвольной поверхность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обьем поверхность на элементар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ст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Каждый участок стан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точником вторичных волн. Амплиту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торичной волны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порционально амплиту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воначально падающ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ходящей к элемент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также площади самого элемент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братно расстоянию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 элеме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до точки наблюдени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оме того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до учесть, что волны в точку наблюдения приходят с разными фаз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2050920" y="4437000"/>
            <a:ext cx="3243240" cy="372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0" y="4869000"/>
            <a:ext cx="80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дополнительная фаза. Таким образом, результирующая амплиту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а суперпозиции элементарных амплитуд с учетом и взаимных фазовых соотношени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4"/>
          <a:stretch/>
        </p:blipFill>
        <p:spPr>
          <a:xfrm>
            <a:off x="2050920" y="5877000"/>
            <a:ext cx="3435480" cy="7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Rectangle 2" descr=""/>
          <p:cNvPicPr/>
          <p:nvPr/>
        </p:nvPicPr>
        <p:blipFill>
          <a:blip r:embed="rId1"/>
          <a:stretch/>
        </p:blipFill>
        <p:spPr>
          <a:xfrm>
            <a:off x="244440" y="133200"/>
            <a:ext cx="7461360" cy="6588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214200" y="1785960"/>
            <a:ext cx="7572600" cy="42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интеграл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еличина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пределяемая амплитуд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етовой во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месте нахождения элемент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(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екоторый коэффициен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висящий от угла между первоначальн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ием свет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ы в данной точке – волновым векторо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направлением на точ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эффициен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онотонно убывает с ростом угла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большинства случаев удобно брать в качестве поверхн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олновую поверхность падающей волны, что значительно упрощает расчеты. Тогда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угол между нормалью к поверхн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направлением на точку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 а дополнительную фазу можно считать равной нулю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8" descr=""/>
          <p:cNvPicPr/>
          <p:nvPr/>
        </p:nvPicPr>
        <p:blipFill>
          <a:blip r:embed="rId2"/>
          <a:stretch/>
        </p:blipFill>
        <p:spPr>
          <a:xfrm>
            <a:off x="2214720" y="1000080"/>
            <a:ext cx="3435120" cy="71604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3"/>
          <a:stretch/>
        </p:blipFill>
        <p:spPr>
          <a:xfrm>
            <a:off x="4429080" y="1214280"/>
            <a:ext cx="3759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Заголовок 1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6437160" cy="963720"/>
          </a:xfrm>
          <a:prstGeom prst="rect">
            <a:avLst/>
          </a:prstGeom>
          <a:ln w="0">
            <a:noFill/>
          </a:ln>
        </p:spPr>
      </p:pic>
      <p:sp>
        <p:nvSpPr>
          <p:cNvPr id="197" name="TextBox 3"/>
          <p:cNvSpPr/>
          <p:nvPr/>
        </p:nvSpPr>
        <p:spPr>
          <a:xfrm>
            <a:off x="857160" y="1357200"/>
            <a:ext cx="4357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уть принципа – для определения амплитуды колебаний в точк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ежащей перед некоторой поверхностью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до найти амплиту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ебаний, приходящих в эту точку от всех элемен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верх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затем сложить их с учетом амплитуд и фаз. Пр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м предполагается, что все элементы поверхност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огерентн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Рисунок 4" descr="Рис.5.4"/>
          <p:cNvPicPr/>
          <p:nvPr/>
        </p:nvPicPr>
        <p:blipFill>
          <a:blip r:embed="rId2"/>
          <a:stretch/>
        </p:blipFill>
        <p:spPr>
          <a:xfrm>
            <a:off x="5143680" y="928800"/>
            <a:ext cx="3000240" cy="23288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"/>
          <p:cNvPicPr/>
          <p:nvPr/>
        </p:nvPicPr>
        <p:blipFill>
          <a:blip r:embed="rId3"/>
          <a:stretch/>
        </p:blipFill>
        <p:spPr>
          <a:xfrm>
            <a:off x="5214960" y="3071880"/>
            <a:ext cx="2422440" cy="1571400"/>
          </a:xfrm>
          <a:prstGeom prst="rect">
            <a:avLst/>
          </a:prstGeom>
          <a:ln w="0">
            <a:noFill/>
          </a:ln>
        </p:spPr>
      </p:pic>
      <p:sp>
        <p:nvSpPr>
          <p:cNvPr id="200" name="TextBox 6"/>
          <p:cNvSpPr/>
          <p:nvPr/>
        </p:nvSpPr>
        <p:spPr>
          <a:xfrm>
            <a:off x="928800" y="4572000"/>
            <a:ext cx="71434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ирующая амплитуда: векторная сумма амплитуд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ебаний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различных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верхност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с учетом их  фаз, т.е. углов между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Заголовок 1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6437160" cy="963720"/>
          </a:xfrm>
          <a:prstGeom prst="rect">
            <a:avLst/>
          </a:prstGeom>
          <a:ln w="0">
            <a:noFill/>
          </a:ln>
        </p:spPr>
      </p:pic>
      <p:sp>
        <p:nvSpPr>
          <p:cNvPr id="202" name="TextBox 3"/>
          <p:cNvSpPr/>
          <p:nvPr/>
        </p:nvSpPr>
        <p:spPr>
          <a:xfrm>
            <a:off x="285840" y="1071720"/>
            <a:ext cx="7786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ифракция Френеля на кругл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рсти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енель предложил «нарезать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ов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онт на зоны, отличающиеся тем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 волны от соседних зон приходя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у наблюдения 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ностью фаз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часть поверхности волнов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ронта, которая затем  получила наз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ервой зоны Френе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Границей, отделяющей первую зону Френеля от остальной части поверхности волнового фронта, является окружность, в каждой точке которой фаза волн, приходящих в точку наблюдения , отличается на 18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фазы волны центрального сегмен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7" descr="Рис.5.10"/>
          <p:cNvPicPr/>
          <p:nvPr/>
        </p:nvPicPr>
        <p:blipFill>
          <a:blip r:embed="rId2"/>
          <a:stretch/>
        </p:blipFill>
        <p:spPr>
          <a:xfrm>
            <a:off x="4643280" y="2000160"/>
            <a:ext cx="33847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Заголовок 1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6437160" cy="9637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928800" y="4500720"/>
            <a:ext cx="64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ны выбираем так, чтоб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тояние от краев каждой зон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чк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блюдени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личалось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rcRect l="2221" t="0" r="0" b="0"/>
          <a:stretch/>
        </p:blipFill>
        <p:spPr>
          <a:xfrm>
            <a:off x="1285920" y="1143000"/>
            <a:ext cx="5357880" cy="32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Заголовок 1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6437160" cy="963720"/>
          </a:xfrm>
          <a:prstGeom prst="rect">
            <a:avLst/>
          </a:prstGeom>
          <a:ln w="0">
            <a:noFill/>
          </a:ln>
        </p:spPr>
      </p:pic>
      <p:sp>
        <p:nvSpPr>
          <p:cNvPr id="208" name="TextBox 3"/>
          <p:cNvSpPr/>
          <p:nvPr/>
        </p:nvSpPr>
        <p:spPr>
          <a:xfrm>
            <a:off x="214200" y="3071880"/>
            <a:ext cx="7715520" cy="34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ем внешний радиу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ой зоны Френеля,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резо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м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через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соответствующие радиусы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b + m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о теореме Пифаг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крыв скобки и приведя подобные, получи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случае волн с большим радиусом кривизны т.е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&lt;&lt; 2a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запи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2"/>
          <a:stretch/>
        </p:blipFill>
        <p:spPr>
          <a:xfrm>
            <a:off x="3214800" y="4429080"/>
            <a:ext cx="1709640" cy="2858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"/>
          <p:cNvPicPr/>
          <p:nvPr/>
        </p:nvPicPr>
        <p:blipFill>
          <a:blip r:embed="rId3"/>
          <a:stretch/>
        </p:blipFill>
        <p:spPr>
          <a:xfrm>
            <a:off x="3214800" y="5143680"/>
            <a:ext cx="1685880" cy="2854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4"/>
          <a:stretch/>
        </p:blipFill>
        <p:spPr>
          <a:xfrm>
            <a:off x="3357720" y="6000840"/>
            <a:ext cx="1285560" cy="45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5"/>
          <a:srcRect l="0" t="3838" r="0" b="0"/>
          <a:stretch/>
        </p:blipFill>
        <p:spPr>
          <a:xfrm>
            <a:off x="1500120" y="1143000"/>
            <a:ext cx="5346720" cy="1785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0" descr=""/>
          <p:cNvPicPr/>
          <p:nvPr/>
        </p:nvPicPr>
        <p:blipFill>
          <a:blip r:embed="rId6"/>
          <a:stretch/>
        </p:blipFill>
        <p:spPr>
          <a:xfrm>
            <a:off x="3143160" y="3429000"/>
            <a:ext cx="18954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1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6437160" cy="963720"/>
          </a:xfrm>
          <a:prstGeom prst="rect">
            <a:avLst/>
          </a:prstGeom>
          <a:ln w="0">
            <a:noFill/>
          </a:ln>
        </p:spPr>
      </p:pic>
      <p:sp>
        <p:nvSpPr>
          <p:cNvPr id="215" name="TextBox 3"/>
          <p:cNvSpPr/>
          <p:nvPr/>
        </p:nvSpPr>
        <p:spPr>
          <a:xfrm>
            <a:off x="214200" y="3071880"/>
            <a:ext cx="7715520" cy="36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уждая аналогично для правой части получим следующе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небрегая здесь в последней скобке слагаемыми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сравнению 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2b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уч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разим теперь радиус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й зоны Френ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если волна плоская (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)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9" descr=""/>
          <p:cNvPicPr/>
          <p:nvPr/>
        </p:nvPicPr>
        <p:blipFill>
          <a:blip r:embed="rId2"/>
          <a:srcRect l="0" t="3838" r="0" b="0"/>
          <a:stretch/>
        </p:blipFill>
        <p:spPr>
          <a:xfrm>
            <a:off x="1500120" y="1143000"/>
            <a:ext cx="5346720" cy="17859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3"/>
          <a:stretch/>
        </p:blipFill>
        <p:spPr>
          <a:xfrm>
            <a:off x="1428840" y="3429000"/>
            <a:ext cx="5724360" cy="35712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4"/>
          <a:stretch/>
        </p:blipFill>
        <p:spPr>
          <a:xfrm>
            <a:off x="3357720" y="4429080"/>
            <a:ext cx="1214280" cy="397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"/>
          <p:cNvPicPr/>
          <p:nvPr/>
        </p:nvPicPr>
        <p:blipFill>
          <a:blip r:embed="rId5"/>
          <a:stretch/>
        </p:blipFill>
        <p:spPr>
          <a:xfrm>
            <a:off x="3500280" y="5214960"/>
            <a:ext cx="1481400" cy="650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6"/>
          <a:stretch/>
        </p:blipFill>
        <p:spPr>
          <a:xfrm>
            <a:off x="3429000" y="6143760"/>
            <a:ext cx="1492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Заголовок 1" descr=""/>
          <p:cNvPicPr/>
          <p:nvPr/>
        </p:nvPicPr>
        <p:blipFill>
          <a:blip r:embed="rId1"/>
          <a:stretch/>
        </p:blipFill>
        <p:spPr>
          <a:xfrm>
            <a:off x="755640" y="109440"/>
            <a:ext cx="6437160" cy="9637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3"/>
          <p:cNvSpPr/>
          <p:nvPr/>
        </p:nvSpPr>
        <p:spPr>
          <a:xfrm>
            <a:off x="285840" y="1214280"/>
            <a:ext cx="7715160" cy="57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ощади зон Френеля: площадь шарового сегмента радиус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вно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 ,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огда площадь зоны Френеля: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 = 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+1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е. практически одинаковы и не зависит от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Но амплитуды колебаний, приходящих от этих  зон в точ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нотонно убывают из-за увеличения расстояни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 точки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и роста угла </a:t>
            </a:r>
            <a:r>
              <a:rPr b="0" i="1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между нормалью к элементам зоны и направлением на точку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зы колебаний возбуждаемых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от соседних зон, отличаются н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поэтому векторы-амплитуды нечетных зон противоположны векторам- амплитудам четных зон. И результирующая амплитуда зависит от того какое количество зон открыто четное или нечетное. Если число зон нечетное, то в точ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будет наблюдаться максимум, иначе миниму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5" descr=""/>
          <p:cNvPicPr/>
          <p:nvPr/>
        </p:nvPicPr>
        <p:blipFill>
          <a:blip r:embed="rId2"/>
          <a:stretch/>
        </p:blipFill>
        <p:spPr>
          <a:xfrm>
            <a:off x="3357720" y="2000160"/>
            <a:ext cx="1643040" cy="7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51:52Z</dcterms:created>
  <dc:creator>user</dc:creator>
  <dc:description/>
  <dc:language>en-US</dc:language>
  <cp:lastModifiedBy>user</cp:lastModifiedBy>
  <dcterms:modified xsi:type="dcterms:W3CDTF">2009-03-11T02:56:26Z</dcterms:modified>
  <cp:revision>175</cp:revision>
  <dc:subject/>
  <dc:title>Оптика</dc:title>
</cp:coreProperties>
</file>