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.wmf" ContentType="image/x-wmf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3.wmf" ContentType="image/x-wmf"/>
  <Override PartName="/ppt/media/image27.png" ContentType="image/png"/>
  <Override PartName="/ppt/media/image11.png" ContentType="image/png"/>
  <Override PartName="/ppt/media/image46.png" ContentType="image/png"/>
  <Override PartName="/ppt/media/image6.wmf" ContentType="image/x-wmf"/>
  <Override PartName="/ppt/media/image36.png" ContentType="image/png"/>
  <Override PartName="/ppt/media/image40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5.png" ContentType="image/png"/>
  <Override PartName="/ppt/media/image41.png" ContentType="image/png"/>
  <Override PartName="/ppt/media/image48.jpeg" ContentType="image/jpeg"/>
  <Override PartName="/ppt/media/image7.png" ContentType="image/png"/>
  <Override PartName="/ppt/media/image37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1EA9-72A1-4DC2-9FFF-7C662B893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80DD-4C59-4E44-8DC9-62BD4525F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7CEA-BF69-4BFB-8325-09E40CFB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442A-F910-4CCB-8970-F3622824D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54E3-5A17-481D-9F03-7C204777C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7540-4D54-4373-B028-470AE88D3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9E9-2FDA-451A-A240-0B3E67B7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B499-8BB8-40B5-9783-EBB5A25C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7D73-5127-487E-8D25-8863C90B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D34-EE89-4039-AAEA-FE8B99ED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DC00-250F-4317-B8E0-F6EFE2AA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103D-17CA-4362-A7F2-5B35EDE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7716-AF2C-4A04-A25B-FD7189CDA86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яриз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79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ризация света. Формулы Френ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458640" y="1071720"/>
            <a:ext cx="86983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граничных условий для вектор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найти отнош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амплитудами и фазами падающей, отраженной и преломле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ами – так называемые формулы Френ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угол  падения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гол преломления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эффициент от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й плоскости падения,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оэффициент от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й плоскости падени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этих формул, видно что при падения п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м Брюстера, когда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2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и знач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тогда коэффициент отражения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//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аженный будет полностью плоско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м в плоск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ой плоскости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5335560" cy="8110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3" descr=""/>
          <p:cNvPicPr/>
          <p:nvPr/>
        </p:nvPicPr>
        <p:blipFill>
          <a:blip r:embed="rId2"/>
          <a:stretch/>
        </p:blipFill>
        <p:spPr>
          <a:xfrm>
            <a:off x="3143160" y="4357800"/>
            <a:ext cx="2016360" cy="4284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3"/>
          <a:stretch/>
        </p:blipFill>
        <p:spPr>
          <a:xfrm>
            <a:off x="5929200" y="4286160"/>
            <a:ext cx="3032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600" cy="29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ризация света при двойном лучепрелом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28800" y="1357200"/>
            <a:ext cx="9152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Явление при котором падающий на кристалл пучок света разделяется вну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а на два пучка, распространяющиеся в различных направлениях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ыми скор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осные и двуосные кристалл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 одноосных кристаллов один из преломле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чков подчиняется закону прелом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й луч  называется обыкновенным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ой пучок необыкновенный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ый не подчиняется закону преломл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даже при нормальном падении светового пучка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 поверхность кристалла необыкновенный пучо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отклоняться от нормали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`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птическая ось, ось вдоль кот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и необыкновенная волны распространяются,  не разделяяс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странственно и с одинаковой скоростью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юбую плоскость, проходящую через оптическую ось, называют главным сеч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главной плоскостью крис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42960" y="3143160"/>
            <a:ext cx="2897280" cy="3571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"/>
          <p:cNvPicPr/>
          <p:nvPr/>
        </p:nvPicPr>
        <p:blipFill>
          <a:blip r:embed="rId2"/>
          <a:srcRect l="3801" t="2600" r="0" b="4311"/>
          <a:stretch/>
        </p:blipFill>
        <p:spPr>
          <a:xfrm>
            <a:off x="5715000" y="2000160"/>
            <a:ext cx="342900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ризация света при двойном лучепреломл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3"/>
          <p:cNvSpPr/>
          <p:nvPr/>
        </p:nvSpPr>
        <p:spPr>
          <a:xfrm>
            <a:off x="142920" y="1000080"/>
            <a:ext cx="5572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ая и необыкновенная волны линейно поляризованы. Колеб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обыкновенной волне совершаются в направлении, перпендикуляр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ому сеч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а луча, вышедшие из кристалла, отличаются друг друга только направлением поляризации, так что названия обыкновенный и необыкновенный имеют сколько только внутри крис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ихроизм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ристаллы, в которых один из лучей (о или е) поглощается сильнее другого. Это явление называется дихроизм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rcRect l="3801" t="2600" r="0" b="4311"/>
          <a:stretch/>
        </p:blipFill>
        <p:spPr>
          <a:xfrm>
            <a:off x="5715000" y="928800"/>
            <a:ext cx="3429000" cy="257148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5" descr="dv_prel.jpg"/>
          <p:cNvPicPr/>
          <p:nvPr/>
        </p:nvPicPr>
        <p:blipFill>
          <a:blip r:embed="rId2"/>
          <a:stretch/>
        </p:blipFill>
        <p:spPr>
          <a:xfrm>
            <a:off x="6215040" y="4071960"/>
            <a:ext cx="257184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28760" y="601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Поляризация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202680" y="714240"/>
            <a:ext cx="891180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изотропия кристалла по-разному отражается на скорости распрост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ой и необыкновенной волн. Скорост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зависит от на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кристалле, скорост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распространение вдоль оптической оси кристал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выше по сравнению с направлением в перпендикулярным или наоборот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ь необыкновенного луча от направления связано с анизотроп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а, вследствие чего диэлектрическая постоянна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показат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ломл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ываются разными для обыкновенног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обыкновенного лучей и зависят от направления луча относительно оптиче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и кристал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дноосных кристаллов показатель преломления обыкновенного луча 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казатель преломления для необыкновенного луча, перпендикуляр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ой 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света длиной вол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785960" y="2428920"/>
            <a:ext cx="662040" cy="24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"/>
          <p:cNvPicPr/>
          <p:nvPr/>
        </p:nvPicPr>
        <p:blipFill>
          <a:blip r:embed="rId2"/>
          <a:stretch/>
        </p:blipFill>
        <p:spPr>
          <a:xfrm>
            <a:off x="4143240" y="3571920"/>
            <a:ext cx="1143000" cy="3189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"/>
          <p:cNvPicPr/>
          <p:nvPr/>
        </p:nvPicPr>
        <p:blipFill>
          <a:blip r:embed="rId3"/>
          <a:stretch/>
        </p:blipFill>
        <p:spPr>
          <a:xfrm>
            <a:off x="4071960" y="4500720"/>
            <a:ext cx="1285920" cy="336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"/>
          <p:cNvPicPr/>
          <p:nvPr/>
        </p:nvPicPr>
        <p:blipFill>
          <a:blip r:embed="rId4"/>
          <a:stretch/>
        </p:blipFill>
        <p:spPr>
          <a:xfrm>
            <a:off x="1571760" y="5429160"/>
            <a:ext cx="6357960" cy="10843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"/>
          <p:cNvPicPr/>
          <p:nvPr/>
        </p:nvPicPr>
        <p:blipFill>
          <a:blip r:embed="rId5"/>
          <a:stretch/>
        </p:blipFill>
        <p:spPr>
          <a:xfrm>
            <a:off x="3071880" y="4857840"/>
            <a:ext cx="142380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27432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ризация света. Поверхности лучевых скорост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285840" y="928800"/>
            <a:ext cx="8715240" cy="53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орость распространения обыкновенного луча в одноосном кристалле одинакова в всех направлениях, скорость необыкновенного луча зависит от направления. Это можно представить с помощью поверхностей лучевых скоростей. Для этого из произвольной точ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водят во всевозможных направлениях отрезки пропорциональные скоростям лучей в этих направл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ают положительные и отрицательные кристаллы: у положительных кристалло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у отрицательных кристалло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l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(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&g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Видно, что при распространении света вдоль оптической оси обе волны имеют одинаковую скорость, равную скорости обыкновенной вол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214720" y="2571840"/>
            <a:ext cx="4458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ризация света. Суперпозиция поляризованных во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786720" y="1071720"/>
            <a:ext cx="2176200" cy="15318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142920" y="1143000"/>
            <a:ext cx="6715080" cy="48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а кристаллическую пластинку, вырезанную параллельно оптической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дает нормально линейно –поляризованный свет, плоскость поляризации которого составляет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оптической осью пластинки (обычно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. В кристалле в одном и том же направлении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О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т распространяться две волны с разными скоростя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c/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c/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лоскость поляризации падающего на пластинку света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 его вектор-амплитуда,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ОО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ось кристалла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екторы-амплитуды обыкновенной и необыкновенной волн в кристаллической пластинки. Разность фаз, вышедших из кристалла волн будет зависит от толщины пластинк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разности х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тоге, с учетом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лина волны в вакуу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2"/>
          <a:stretch/>
        </p:blipFill>
        <p:spPr>
          <a:xfrm>
            <a:off x="6746760" y="2857680"/>
            <a:ext cx="2397240" cy="22190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"/>
          <p:cNvPicPr/>
          <p:nvPr/>
        </p:nvPicPr>
        <p:blipFill>
          <a:blip r:embed="rId3"/>
          <a:stretch/>
        </p:blipFill>
        <p:spPr>
          <a:xfrm>
            <a:off x="2643120" y="4714920"/>
            <a:ext cx="1468440" cy="3571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4"/>
          <a:stretch/>
        </p:blipFill>
        <p:spPr>
          <a:xfrm>
            <a:off x="2786040" y="6000840"/>
            <a:ext cx="2027160" cy="642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5"/>
          <a:stretch/>
        </p:blipFill>
        <p:spPr>
          <a:xfrm>
            <a:off x="2143080" y="5286240"/>
            <a:ext cx="1104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ризация света. Суперпозиция поляризованных во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8"/>
          <p:cNvSpPr/>
          <p:nvPr/>
        </p:nvSpPr>
        <p:spPr>
          <a:xfrm>
            <a:off x="90360" y="1428840"/>
            <a:ext cx="69105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пластинки будет выходить две взаимно ортогональные плоскополяризованные волны: одн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 главному сечению кристалла, а другая – в плоскости этого се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произвольной точке за кристаллической пластинкой соответствующие колебания светового век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шедший из кристалла свет будет эллиптически поляризованным. Ве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ет вращаться с угловой скоростью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зменяясь по модулю. Т.о. сложение двух взаимно ортогональных колебаний приводит в общем случае к эллиптической поляризации. На рисунке, ос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правление распространения волны направлены на нас. Если вращение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исходит по часовой стрелке, то такую волну принято называть правополяризованной, иначе левополяризова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6967440" y="1214280"/>
            <a:ext cx="2176560" cy="1532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2286000" y="3000240"/>
            <a:ext cx="2044800" cy="6429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3"/>
          <a:stretch/>
        </p:blipFill>
        <p:spPr>
          <a:xfrm>
            <a:off x="7000920" y="2786040"/>
            <a:ext cx="2143080" cy="16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ризация света. Суперпозиция поляризованных вол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8"/>
          <p:cNvSpPr/>
          <p:nvPr/>
        </p:nvSpPr>
        <p:spPr>
          <a:xfrm>
            <a:off x="0" y="928800"/>
            <a:ext cx="8929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несколько частных случае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нка в четверть волны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4) – это пластинка, толщина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торой удовлетворяет услов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при нечетных значен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а пластинка вносит дополнительную разность ход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ное  между обыкновенной и необыкновенной волнами, поляризованных во взаимно перпендикулярных  плоскостях. Эти плоскости называются главными направлениями пластинки: одна параллельна оптической оси, другая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таких значениях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ет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липтически – поляризованным, причем эллипс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еден к ося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ращение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редоваться: например, при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1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часовой стрелке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=3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тив и т.д. Если линейно поляризованный  с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ает на пластинку под углом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45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плоск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ации и оптической осью пластинки, то амплит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 будут одинаковы, и на выходе из пластинки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 поляризованный по кругу – эллипс поляризован по круг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нку в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4 можно использовать и для обрат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вращения круго – поляризованного света в линейно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ы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3286080" y="1571760"/>
            <a:ext cx="3633840" cy="571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" descr=""/>
          <p:cNvPicPr/>
          <p:nvPr/>
        </p:nvPicPr>
        <p:blipFill>
          <a:blip r:embed="rId2"/>
          <a:stretch/>
        </p:blipFill>
        <p:spPr>
          <a:xfrm>
            <a:off x="6958080" y="3143160"/>
            <a:ext cx="2185920" cy="1839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"/>
          <p:cNvPicPr/>
          <p:nvPr/>
        </p:nvPicPr>
        <p:blipFill>
          <a:blip r:embed="rId3"/>
          <a:stretch/>
        </p:blipFill>
        <p:spPr>
          <a:xfrm>
            <a:off x="7143840" y="4929120"/>
            <a:ext cx="171432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43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ризация света. Суперпозиция поляризованных вол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14400" y="1143000"/>
            <a:ext cx="9246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Пластинка в полволны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). Ее толщи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овлетворяет услов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 при нечетных значениях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выходе из такой пластинки между обыкнове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необыкновенной возникает дополнительная разность фаз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 по-прежнему линейно – поляризованный, однако направление колебан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ернется на угол 2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имметрично главному сечению пластин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такая пластинка поворачивает плоскость поляризации на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 поляризации прошедшего через пластинку света будет ортогональ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и поляризации падающего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2571840" y="1428840"/>
            <a:ext cx="3512880" cy="5713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3" descr=""/>
          <p:cNvPicPr/>
          <p:nvPr/>
        </p:nvPicPr>
        <p:blipFill>
          <a:blip r:embed="rId2"/>
          <a:stretch/>
        </p:blipFill>
        <p:spPr>
          <a:xfrm>
            <a:off x="2786040" y="3071880"/>
            <a:ext cx="257184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ференция поляризованных во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45200" y="428760"/>
            <a:ext cx="2998800" cy="17859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28440" y="857160"/>
            <a:ext cx="6613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а поляриза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дает свет от источни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, К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исталлическая одноосная пластинка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тор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атор.  Пусть угол между плоскостью пропуск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а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и оптической осью кристал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O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этом случае амплитуды волн будут одинаковы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ренционная картина будет наиболее отчетли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2 частных случая. Когд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||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а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||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м случа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гласно теореме косинусов найдем амплитуду прошедш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поляризато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2"/>
          <a:stretch/>
        </p:blipFill>
        <p:spPr>
          <a:xfrm>
            <a:off x="6800760" y="2143080"/>
            <a:ext cx="2343240" cy="1955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"/>
          <p:cNvPicPr/>
          <p:nvPr/>
        </p:nvPicPr>
        <p:blipFill>
          <a:blip r:embed="rId3"/>
          <a:stretch/>
        </p:blipFill>
        <p:spPr>
          <a:xfrm>
            <a:off x="6721560" y="4214880"/>
            <a:ext cx="2422440" cy="22572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"/>
          <p:cNvPicPr/>
          <p:nvPr/>
        </p:nvPicPr>
        <p:blipFill>
          <a:blip r:embed="rId4"/>
          <a:stretch/>
        </p:blipFill>
        <p:spPr>
          <a:xfrm>
            <a:off x="2714760" y="3214800"/>
            <a:ext cx="1214280" cy="285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"/>
          <p:cNvPicPr/>
          <p:nvPr/>
        </p:nvPicPr>
        <p:blipFill>
          <a:blip r:embed="rId5"/>
          <a:stretch/>
        </p:blipFill>
        <p:spPr>
          <a:xfrm>
            <a:off x="1928880" y="3571920"/>
            <a:ext cx="2127240" cy="1071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8" descr=""/>
          <p:cNvPicPr/>
          <p:nvPr/>
        </p:nvPicPr>
        <p:blipFill>
          <a:blip r:embed="rId6"/>
          <a:stretch/>
        </p:blipFill>
        <p:spPr>
          <a:xfrm>
            <a:off x="1928880" y="5286240"/>
            <a:ext cx="4071960" cy="668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"/>
          <p:cNvPicPr/>
          <p:nvPr/>
        </p:nvPicPr>
        <p:blipFill>
          <a:blip r:embed="rId7"/>
          <a:stretch/>
        </p:blipFill>
        <p:spPr>
          <a:xfrm>
            <a:off x="2786040" y="6000840"/>
            <a:ext cx="158904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ризация света. Виды поляр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327640" y="1557360"/>
            <a:ext cx="3816360" cy="16081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5"/>
          <p:cNvSpPr/>
          <p:nvPr/>
        </p:nvSpPr>
        <p:spPr>
          <a:xfrm>
            <a:off x="253800" y="1073160"/>
            <a:ext cx="8961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у, в которой направление колебаний век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порядочено каким-либо образом, назы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колебания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исходят только в одной плоск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одяще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лько в одной плоск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одящей чере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уч, то  волна плоско- (или линейно-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ованн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ь, в которой колеблется ве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плоскостью поляр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ой вид поляризации заключается в том, что ве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ращается вокру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ия распространения волны одновременно изменяясь период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модулю. При этом ве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писывает эллипс, то такую волну назыв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липтически-поляризованной. Если описывает окружность, то – поляризов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кругу. В зависимости от направления вектора различают правую и лев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ллиптические (или круговые) поляризации. Если смотреть навстреч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остранению, и ве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этом поворачивается по часовой стрел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ляризацию называют правой, иначе – ле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ференция поляризованных вол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5480" y="857160"/>
            <a:ext cx="7785360" cy="45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2 случай. Когда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б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уча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’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В этом случае вектора будут направле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аимно противоположно (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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0).  Это значит, что к раз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з необходимо добавлять еще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обуслов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крещенным расположением поляризаторов. Тог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являются дополнительными в сумме они да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ета. Если на поляризатор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ает монохроматический свет, т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ренционных полос мы не увидим, п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ороте поляризаторов друг относительно друг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поле окажется тем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свещать поляризаторы  белым светом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приведет к изменению окраски  поляризато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tretch/>
        </p:blipFill>
        <p:spPr>
          <a:xfrm>
            <a:off x="6572160" y="642960"/>
            <a:ext cx="2422440" cy="22575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" descr=""/>
          <p:cNvPicPr/>
          <p:nvPr/>
        </p:nvPicPr>
        <p:blipFill>
          <a:blip r:embed="rId2"/>
          <a:stretch/>
        </p:blipFill>
        <p:spPr>
          <a:xfrm>
            <a:off x="2928960" y="2428920"/>
            <a:ext cx="1406520" cy="504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"/>
          <p:cNvPicPr/>
          <p:nvPr/>
        </p:nvPicPr>
        <p:blipFill>
          <a:blip r:embed="rId3"/>
          <a:stretch/>
        </p:blipFill>
        <p:spPr>
          <a:xfrm>
            <a:off x="1785960" y="3071880"/>
            <a:ext cx="811080" cy="35712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4" descr="40952.jpg"/>
          <p:cNvPicPr/>
          <p:nvPr/>
        </p:nvPicPr>
        <p:blipFill>
          <a:blip r:embed="rId4"/>
          <a:stretch/>
        </p:blipFill>
        <p:spPr>
          <a:xfrm>
            <a:off x="5672160" y="4071960"/>
            <a:ext cx="347184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яризация света. Естественный св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6894360" y="907920"/>
            <a:ext cx="2249640" cy="1962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307080" y="857160"/>
            <a:ext cx="658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, в котором плоскость колебания светового векто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вероятно, такой свет называют естествен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естественном свете колебания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любой т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реды совершаются в разных направлен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ый свет можно представить как налож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вух некогерентных плоскополяризованных волн с взаим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тогональными плоскостями поляр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"/>
          <p:cNvPicPr/>
          <p:nvPr/>
        </p:nvPicPr>
        <p:blipFill>
          <a:blip r:embed="rId2"/>
          <a:stretch/>
        </p:blipFill>
        <p:spPr>
          <a:xfrm>
            <a:off x="1785960" y="3643200"/>
            <a:ext cx="461628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69840"/>
          </a:xfrm>
          <a:prstGeom prst="rect">
            <a:avLst/>
          </a:prstGeom>
          <a:noFill/>
          <a:ln w="0">
            <a:noFill/>
          </a:ln>
        </p:spPr>
        <p:txBody>
          <a:bodyPr tIns="24120" bIns="24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ризация света. Поляриз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586080" y="857160"/>
            <a:ext cx="8578080" cy="51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тественный свет можно преобразовать в плоскополяризованный св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омощи поляризаторов, пропускающий колебания только определен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ия. В качестве поляризаторов используются среды, анизотроп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отношению к вектор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змы Николя – двойная призма из исландского шпата, склеенной вдол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надским бальзамом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=1.5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ыкновенный луч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.66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ытыва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е отражение, а плоскополяризованный необыкновенный луч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1.5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ходит из призмы. Оптическая ось призмы О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оставляет с входной гран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ол 48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89600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ризаторы. Степень поля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pimg_46_31"/>
          <p:cNvPicPr/>
          <p:nvPr/>
        </p:nvPicPr>
        <p:blipFill>
          <a:blip r:embed="rId1"/>
          <a:stretch/>
        </p:blipFill>
        <p:spPr>
          <a:xfrm>
            <a:off x="1908000" y="549360"/>
            <a:ext cx="5257800" cy="1881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440" y="2565360"/>
            <a:ext cx="9237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аторы – это приборы свободно пропускают колебания светового векто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ллельные плоскости, которую называют плоскостью пропускания поляриза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ебания, перпендикулярные этой плоскости, задерживаются полностью 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о. В первом случае поляризатор является идеальны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о-поляризованнный свет, можно представить в виде наложения дву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когерентных плоскополяризованных волн с взаимно перпендикулярны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остями поляризации, с разными интенсивностя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2"/>
          <a:stretch/>
        </p:blipFill>
        <p:spPr>
          <a:xfrm>
            <a:off x="1571760" y="4429080"/>
            <a:ext cx="5327640" cy="21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ляризаторы. Степень поляр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"/>
          <p:cNvPicPr/>
          <p:nvPr/>
        </p:nvPicPr>
        <p:blipFill>
          <a:blip r:embed="rId1"/>
          <a:stretch/>
        </p:blipFill>
        <p:spPr>
          <a:xfrm>
            <a:off x="1500120" y="785880"/>
            <a:ext cx="6291360" cy="192888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19080" y="2786040"/>
            <a:ext cx="8942040" cy="35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ично-поляризованный свет характеризуют степенью поляризац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ют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дес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интенсивность поляризованный составляющей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полн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 частично – поляризованного света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ax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плоскополяризованного свет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I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степень поляриза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 =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для естественного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ол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 = 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. Это два крайних случа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1928880" y="3500280"/>
            <a:ext cx="448452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ризация света. Закон Малю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6929280" y="3786120"/>
            <a:ext cx="1687680" cy="2693880"/>
          </a:xfrm>
          <a:prstGeom prst="rect">
            <a:avLst/>
          </a:prstGeom>
          <a:ln w="0">
            <a:noFill/>
          </a:ln>
        </p:spPr>
      </p:pic>
      <p:sp>
        <p:nvSpPr>
          <p:cNvPr id="63" name="TextBox 4"/>
          <p:cNvSpPr/>
          <p:nvPr/>
        </p:nvSpPr>
        <p:spPr>
          <a:xfrm>
            <a:off x="285840" y="1143000"/>
            <a:ext cx="592920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аторы можно использовать и в кач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аторов – для определения характера и степ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яризации интересующего нас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а анализатор падает линейнно – поляризован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, вектор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торого составляет угол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лоск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уск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Анализатор пропускает только ту составляющую векто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оторая параллельна плоскости пропуска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.е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=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этому интенсивность прошедшего св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интенсивность падающего плоскополяризованного света. Это закон Малю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5" descr="image8_3.gif"/>
          <p:cNvPicPr/>
          <p:nvPr/>
        </p:nvPicPr>
        <p:blipFill>
          <a:blip r:embed="rId2"/>
          <a:stretch/>
        </p:blipFill>
        <p:spPr>
          <a:xfrm>
            <a:off x="6215040" y="500040"/>
            <a:ext cx="2928960" cy="305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tretch/>
        </p:blipFill>
        <p:spPr>
          <a:xfrm>
            <a:off x="2357280" y="4714920"/>
            <a:ext cx="17910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ризация света. Закон Малю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3" descr="image8_4.gif"/>
          <p:cNvPicPr/>
          <p:nvPr/>
        </p:nvPicPr>
        <p:blipFill>
          <a:blip r:embed="rId1"/>
          <a:stretch/>
        </p:blipFill>
        <p:spPr>
          <a:xfrm>
            <a:off x="4857840" y="571680"/>
            <a:ext cx="3929040" cy="2522520"/>
          </a:xfrm>
          <a:prstGeom prst="rect">
            <a:avLst/>
          </a:prstGeom>
          <a:ln w="0">
            <a:noFill/>
          </a:ln>
        </p:spPr>
      </p:pic>
      <p:sp>
        <p:nvSpPr>
          <p:cNvPr id="68" name="TextBox 4"/>
          <p:cNvSpPr/>
          <p:nvPr/>
        </p:nvSpPr>
        <p:spPr>
          <a:xfrm>
            <a:off x="18000" y="928800"/>
            <a:ext cx="9076320" cy="32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наблюдение закона Малюс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гда через поляризато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оходи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оляризованная электромагнитная вол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интенсивностью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пример, све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лучаемый от некоторого естествен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а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едшей первый поляризатор  вол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в два раза  меньше интенсивности волн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ваемой источник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огда интенсивность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шедшей второй поляризатор  волны, может быть определена из соотнош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мого законом Малюса для неполяризованной электромагнитной волн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Группа 8"/>
          <p:cNvGrpSpPr/>
          <p:nvPr/>
        </p:nvGrpSpPr>
        <p:grpSpPr>
          <a:xfrm>
            <a:off x="3398760" y="4711680"/>
            <a:ext cx="2239920" cy="511200"/>
            <a:chOff x="3398760" y="4711680"/>
            <a:chExt cx="2239920" cy="511200"/>
          </a:xfrm>
        </p:grpSpPr>
        <p:pic>
          <p:nvPicPr>
            <p:cNvPr id="70" name="Picture 2" descr=""/>
            <p:cNvPicPr/>
            <p:nvPr/>
          </p:nvPicPr>
          <p:blipFill>
            <a:blip r:embed="rId2"/>
            <a:stretch/>
          </p:blipFill>
          <p:spPr>
            <a:xfrm>
              <a:off x="3398760" y="4711680"/>
              <a:ext cx="2239920" cy="42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Box 7"/>
            <p:cNvSpPr/>
            <p:nvPr/>
          </p:nvSpPr>
          <p:spPr>
            <a:xfrm>
              <a:off x="3470040" y="4854600"/>
              <a:ext cx="14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ляризация при отражении и преломлении. Закон Брюс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1"/>
          <a:stretch/>
        </p:blipFill>
        <p:spPr>
          <a:xfrm>
            <a:off x="6054840" y="1214280"/>
            <a:ext cx="3089160" cy="20718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266040" y="1428840"/>
            <a:ext cx="8728920" cy="49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а границу раздела двух диэлектри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ает естественный свет под некоторым углом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раженном свет преобладают колебания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е к плоскости падения, а преломлен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е – параллельные плоскости пад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угол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Бр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отраженный свет оказывае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остью поляризованным, и его плоскость поляр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плоскость колебаний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 оказывается перпендикулярной к плоск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дения. Этот угол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Бр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довлетворяют условию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ное соотношение называют законом Брюстера, а угол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Бр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углом Брю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ли полной поляризации. Здесь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показателей прел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ой среды и перв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2928960" y="4429080"/>
            <a:ext cx="24224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01:40:40Z</dcterms:created>
  <dc:creator>VIENNA XP</dc:creator>
  <dc:description/>
  <dc:language>en-US</dc:language>
  <cp:lastModifiedBy>Tatsu</cp:lastModifiedBy>
  <dcterms:modified xsi:type="dcterms:W3CDTF">2010-01-09T23:33:02Z</dcterms:modified>
  <cp:revision>102</cp:revision>
  <dc:subject/>
  <dc:title>Поляризация</dc:title>
</cp:coreProperties>
</file>