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3.png" ContentType="image/png"/>
  <Override PartName="/ppt/media/image50.png" ContentType="image/png"/>
  <Override PartName="/ppt/media/image40.png" ContentType="image/png"/>
  <Override PartName="/ppt/media/image4.png" ContentType="image/png"/>
  <Override PartName="/ppt/media/image34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76A-C0F6-4326-B33F-504B7F4A7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817C-CD18-41BC-9FA8-911EC158A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30AB-D336-43D7-85A2-396159C0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72E7-7278-4813-8FEB-8E674C81A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E32A-EF1F-4D7C-AE9C-CC2825E33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A873-5DB3-4A33-9FF2-2AA9FA4E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F22B-E1BB-4C3B-9707-D127ADEA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A3E6-8197-4A61-BAEC-E3E825AE1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E4FF-6725-4801-B23A-51B5C331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06CE-4084-4FA5-A137-D77FA6276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6FE42-7770-4239-B773-9EF65D596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412-A1B6-4199-BB0C-E5535A90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76669-916A-4997-8280-7D66E6C45A4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Квантование атом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4214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и спектры щелочн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400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 отбора. Излучение и поглощение происходит результате перехода внешнего электрона с одного уровня на другой. Возможные переходы лишь те, которые удовлетворяют правилу отбора для квантового чис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ые сер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Symbol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та испускаемой линии. Спектральная линия главной серии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-2p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вляется самой интенсивной, она называется резонанс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2071800" y="3071880"/>
            <a:ext cx="1198440" cy="571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4857840" y="22320"/>
            <a:ext cx="3714840" cy="6207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tretch/>
        </p:blipFill>
        <p:spPr>
          <a:xfrm>
            <a:off x="571680" y="4286160"/>
            <a:ext cx="4122720" cy="8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28400" y="214200"/>
            <a:ext cx="4214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и спектры щелочн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44006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и могут быть записаны и символической форме. Как разность двух соответствующих термов, так для главной серии лития можно запис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ично и для других сер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дберговские поправки слабо меняются в пределах каждой серии и поэтому их считают практически постоянными, но сильно меняются  от серии к се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4857840" y="22320"/>
            <a:ext cx="3714840" cy="6207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2" descr=""/>
          <p:cNvPicPr/>
          <p:nvPr/>
        </p:nvPicPr>
        <p:blipFill>
          <a:blip r:embed="rId2"/>
          <a:stretch/>
        </p:blipFill>
        <p:spPr>
          <a:xfrm>
            <a:off x="857160" y="2714760"/>
            <a:ext cx="38624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 момент многоэлектронного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329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угловых моментов. Суммарный орбитальный момент системы определяется выр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ьное квантовое число результирующего момента. В случае системы с двумя электронами с орбитальными момента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суммарный орбитальный момент системы будет иметь следующие 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следует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инимать  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ных значений. Если система состоит из многих частиц, то следует последовательно применить правило сложения момен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я результирующего орбитального момента на некоторое направл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ется по форму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3429000" y="1571760"/>
            <a:ext cx="192564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2"/>
          <a:stretch/>
        </p:blipFill>
        <p:spPr>
          <a:xfrm>
            <a:off x="2500200" y="3500280"/>
            <a:ext cx="4313520" cy="357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4" descr=""/>
          <p:cNvPicPr/>
          <p:nvPr/>
        </p:nvPicPr>
        <p:blipFill>
          <a:blip r:embed="rId3"/>
          <a:stretch/>
        </p:blipFill>
        <p:spPr>
          <a:xfrm>
            <a:off x="2214720" y="5786280"/>
            <a:ext cx="494820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ханический момент многоэлектронного ат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3296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спиновый момент системы определяется выражени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овое квантовое число.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целым или полуцелым – в зависимости от числа электронов – четного или нечетно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электрон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0,…,Ns-1, Ns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4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0, 1, 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электронов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четно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s, s+1,…,Ns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 = 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есл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5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1/2, 3/2, 5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3429000" y="1285920"/>
            <a:ext cx="20304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 свя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многоэлектронном атоме каждый электрон можно характеризовать орбитальным и спиновыми момент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более распространенной является связь, которая получила название связь Рассела – Саундерса или нормальная связь. Суть, которой в том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ьные моменты электронов взаимодействуют между собой сильнее, чем со спиновыми моментами. Аналогично ведут себя и спиновые моменты. В итоге все орбитальные моменты складываются в общий орбитальный моме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пиновые -  в общий спиновый момен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результате образуется результирующий момент атом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вантовое число полного момента и может иметь одно из следующих знач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3429000" y="3929040"/>
            <a:ext cx="1959120" cy="500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"/>
          <p:cNvPicPr/>
          <p:nvPr/>
        </p:nvPicPr>
        <p:blipFill>
          <a:blip r:embed="rId2"/>
          <a:stretch/>
        </p:blipFill>
        <p:spPr>
          <a:xfrm>
            <a:off x="2571840" y="5072040"/>
            <a:ext cx="3786120" cy="3571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3"/>
          <a:stretch/>
        </p:blipFill>
        <p:spPr>
          <a:xfrm>
            <a:off x="2357280" y="5500800"/>
            <a:ext cx="4079880" cy="107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ипы связи. Спектральные обо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й тип связи так называема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-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вязь, когда спин орбитальное взаимодействие у каждого электрона оказывается основ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лучае суммарный момент ато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равен сумме отдельных спин-орбитальных моменто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ая связь встречается у тяжелых атомов, но достаточно редко. В основном реализуются промежуточные виды связи, они более сложные чем рассмотр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ые обозначения.  В случае нормальной связи термы принято обозначать символами вид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S+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ультиплетность атома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вантовое число полного момен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786120" y="2143080"/>
            <a:ext cx="1096920" cy="2858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929040" y="4643280"/>
            <a:ext cx="835200" cy="428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3"/>
          <a:stretch/>
        </p:blipFill>
        <p:spPr>
          <a:xfrm>
            <a:off x="2357280" y="5500800"/>
            <a:ext cx="4816800" cy="11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 Паули. Заполнение электронных оболоч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ау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м квантовом состоянии может находиться не более одного электрона. Поэтому каждый следующий электрон невозбужденного атома должен занимать самый глубокий из еще не заполненны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атоме не может быть электронов с одинаковым набором квантовых числ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электронов атома с одинаковы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бразуют оболочку. Принято следующее обозначение оболоче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очки подразделяют на подоболочки с  разны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Различные состояния в подоболочке отличаются значениями квантовых чисе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лностью заполненной оболочке суммарны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0, S=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2571840" y="3571920"/>
            <a:ext cx="4145040" cy="642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" descr=""/>
          <p:cNvPicPr/>
          <p:nvPr/>
        </p:nvPicPr>
        <p:blipFill>
          <a:blip r:embed="rId2"/>
          <a:stretch/>
        </p:blipFill>
        <p:spPr>
          <a:xfrm>
            <a:off x="2571840" y="5000760"/>
            <a:ext cx="3986280" cy="110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ериодической системе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1714680" y="714240"/>
            <a:ext cx="5567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 периодической системе эле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аспределение электронов по состояниям называют электронной конфигураци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очку, полностью заполненную электронами, называют замкнутой. Электроны в каждой подоболочке называют эквивалентным, если у них одинаковы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овательность заполнения оболочек выполняется вплоть до атома К (калия). Электрон занимает соседний уровень поскольку он более энергетически выгодне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ичность химических и физических свойств объясняется поведением внешних валентных электрон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ьный терм, или основное состояние атома определяется по правилу Хун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571920" y="1428840"/>
            <a:ext cx="123516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вила Хун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28400" y="857160"/>
            <a:ext cx="835812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  Минимальной энергией данной электронной конфигурации обладает терм с наибольшим возможным значением спи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 наибольшим возможным при так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-444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 для конфигурации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м им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4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  <a:tab algn="l" pos="560088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785960" y="2236680"/>
            <a:ext cx="6589800" cy="692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414360" y="4143240"/>
            <a:ext cx="75232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истему, состоящую из электро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торый движется в кулоновском поле ядра заряд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ую систему называют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родоподобно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атом водорода, 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днократно ионизированный атом гелия – ион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=3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укратно ионизированный атом лит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+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ая энергия взаимодействия электрона с ядром в такой системе ра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сстояние между электроном и ядром. Уравнение Шредингера в этом случае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3643200" y="4143240"/>
            <a:ext cx="1341720" cy="642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3143160" y="5572080"/>
            <a:ext cx="28162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ческие рентгеновские спект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528624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ый элемент обладает своим, характерным для него линейчатым спектром, которые называют характеристически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спектр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С ростом атомного номе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мент спектры монотонно смещаются в коротковолновую стор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Характеристические спектры разных элементов имеют сходный характер,  если элемент находится в соединении с другим. Характеристические спектры возникают при переходах электронов во внутренних частях ат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пектры состоят из нескольких серий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, L, M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Рисунок 5" descr="met_1_03.gif"/>
          <p:cNvPicPr/>
          <p:nvPr/>
        </p:nvPicPr>
        <p:blipFill>
          <a:blip r:embed="rId1"/>
          <a:stretch/>
        </p:blipFill>
        <p:spPr>
          <a:xfrm>
            <a:off x="6143760" y="857160"/>
            <a:ext cx="2305080" cy="20876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6"/>
          <p:cNvSpPr/>
          <p:nvPr/>
        </p:nvSpPr>
        <p:spPr>
          <a:xfrm>
            <a:off x="6143760" y="2928960"/>
            <a:ext cx="2571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ый спектр тормозного излучения и линии K-серии характеристического спектра для молибденового (Мо) ан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2"/>
          <a:stretch/>
        </p:blipFill>
        <p:spPr>
          <a:xfrm>
            <a:off x="6215040" y="4286160"/>
            <a:ext cx="2357640" cy="23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стические рентгеновские спектры. Закон Моз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28760" y="857160"/>
            <a:ext cx="828648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зли в 1913 экспериментально установил закон согласно которому частота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ий зависит от атомного номер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стоянная Ридберга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постоянная, для легких элементов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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66760"/>
                <a:tab algn="l" pos="533520"/>
                <a:tab algn="l" pos="800280"/>
                <a:tab algn="l" pos="1066680"/>
                <a:tab algn="l" pos="1333440"/>
                <a:tab algn="l" pos="1600200"/>
                <a:tab algn="l" pos="1866960"/>
                <a:tab algn="l" pos="2133720"/>
                <a:tab algn="l" pos="2400480"/>
                <a:tab algn="l" pos="2666880"/>
                <a:tab algn="l" pos="2933640"/>
                <a:tab algn="l" pos="3200400"/>
                <a:tab algn="l" pos="3467160"/>
                <a:tab algn="l" pos="3733920"/>
                <a:tab algn="l" pos="4000680"/>
                <a:tab algn="l" pos="4267080"/>
                <a:tab algn="l" pos="4533840"/>
                <a:tab algn="l" pos="4800600"/>
                <a:tab algn="l" pos="5067360"/>
                <a:tab algn="l" pos="53341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3429000" y="1714680"/>
            <a:ext cx="2360520" cy="6426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7" descr="met_1_02.gif"/>
          <p:cNvPicPr/>
          <p:nvPr/>
        </p:nvPicPr>
        <p:blipFill>
          <a:blip r:embed="rId2"/>
          <a:stretch/>
        </p:blipFill>
        <p:spPr>
          <a:xfrm>
            <a:off x="2571840" y="2928960"/>
            <a:ext cx="32860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, в котором движется электрон, является центрально-симметричным, зависит только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этому решение уравнения Шредингера будем проводить в сферической системе координа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оператор Лапласа      име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уравнения Шредингера проводят методом разделения переменных. В итоге в области отрицательных значений энерг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зможны только дискретные знач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имен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l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связанным состояниям электрона (электрону в атоме). Следовательно, решение уравнения Шредингера приводит в случа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l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скретизации состояний электрона без использования дополнительных постулатов (например постулатов Б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2230560" y="2571840"/>
            <a:ext cx="4838400" cy="714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" descr=""/>
          <p:cNvPicPr/>
          <p:nvPr/>
        </p:nvPicPr>
        <p:blipFill>
          <a:blip r:embed="rId2"/>
          <a:stretch/>
        </p:blipFill>
        <p:spPr>
          <a:xfrm>
            <a:off x="2928960" y="2279520"/>
            <a:ext cx="285840" cy="292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3"/>
          <a:stretch/>
        </p:blipFill>
        <p:spPr>
          <a:xfrm>
            <a:off x="3500280" y="4286160"/>
            <a:ext cx="20653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4"/>
          <a:stretch/>
        </p:blipFill>
        <p:spPr>
          <a:xfrm>
            <a:off x="5715000" y="4500720"/>
            <a:ext cx="152388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е интерпретации относится только к состояниям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ории Бора электрон движется по замкнутой орбит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вантовой теории орбита не имеет физического смы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функции уравнения Шредингера содержат три целочисленных параметра –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, l, 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е квантовое числ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гнитное квантовое число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битальное квантовое число. В процессе решения выяснилось, что решения удовлетворяющие естественным условиям, получаются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&lt; n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аким образом, при дан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инимать 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е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начений. При данн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чис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принима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l+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ных знач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3571920" y="3143160"/>
            <a:ext cx="1652400" cy="400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3071880" y="5143680"/>
            <a:ext cx="3338280" cy="3571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3"/>
          <a:stretch/>
        </p:blipFill>
        <p:spPr>
          <a:xfrm>
            <a:off x="3429000" y="5929200"/>
            <a:ext cx="2679840" cy="3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29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энерг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а зависит только от главного квантового числа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каждому собственному значению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ответствует несколько собственных функци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, отличающихся значениями квантовых чисел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Это означает, что электрон может иметь одно и тоже значение энергии, находясь в нескольких различных состояниях. Например,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обладают четыре состоя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тность вырождения: состояния с одинаковой энергией называют вырожденными,  а число различных состояний с определенным значением энерг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ратностью вырождения данного энергетического уровня. Числ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ных состояний для данног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 спина электрона кратность вырожд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 энергетического уровн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000240" y="1928880"/>
            <a:ext cx="500040" cy="290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071880" y="3214800"/>
            <a:ext cx="2198520" cy="2934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2714760" y="4786200"/>
            <a:ext cx="4116240" cy="5716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4071960" y="6072120"/>
            <a:ext cx="942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29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мволы состояний: различные состояния электрона в атоме принято обозначать малыми буквами латинского алфавита в зависимости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я главного квантового числ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казывают перед символом состояния с данны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ые функции уравнения Шредингера представляют собой произведения двух фун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первый множитель зависит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торой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2143080" y="2000160"/>
            <a:ext cx="4627440" cy="928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3000240" y="4143240"/>
            <a:ext cx="4013280" cy="357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"/>
          <p:cNvPicPr/>
          <p:nvPr/>
        </p:nvPicPr>
        <p:blipFill>
          <a:blip r:embed="rId3"/>
          <a:stretch/>
        </p:blipFill>
        <p:spPr>
          <a:xfrm>
            <a:off x="2857680" y="5643720"/>
            <a:ext cx="3281040" cy="42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296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плотность вероятности местонахождения электрона в состоян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тома водорода, которое является сферически-симметричным, т.е.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ункция зависит только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/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ровский радиу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нахождения электрона в объем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4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хождения электрона 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ое будет ра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А – нормировочный коэффициент. Отсюда плотность вероятности, отнесенной к единице толщины вблизи радиу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ероятности стремится к нулю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лотность вероятности достигает максимума пр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соответствует радиусу первой боровской орбиты электрона в атоме водоро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3286080" y="2357280"/>
            <a:ext cx="1181160" cy="3574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3571920" y="3643200"/>
            <a:ext cx="1844640" cy="428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3016080" y="4643280"/>
            <a:ext cx="2891160" cy="500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4"/>
          <a:stretch/>
        </p:blipFill>
        <p:spPr>
          <a:xfrm>
            <a:off x="3429000" y="5715000"/>
            <a:ext cx="1749600" cy="4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вантование атома водоро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68280"/>
            <a:ext cx="8258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плотности вероятности местонахождения электрона в сферическом слое единичной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электронного облака в других состояниях при усреднени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ункции по углу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идно, что максимумы соответствуют с состояниям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=n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3143160" y="2214720"/>
            <a:ext cx="2374920" cy="1874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2928960" y="5000760"/>
            <a:ext cx="338760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и и спектры щелочных мет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713880"/>
            <a:ext cx="825804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 щелочного металла можно представить как водородопобный, поскольку вокруг относительно нейтрального остова (ядро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-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лектронов) вращается слабосвязанный валентный электрон. Однако движение валентного электрона вызывает деформацию остова так, что потенциальная энергия внешнего электрона в поле остова можно записать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торая постоянная. Решая уравнение Шредингера с учетом вида потенциального взаимодействия получим для отрицательных значений энерг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     - ридберговская поправка (квантовый дефект), зависящая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равка есть следствие того, что поле остова более не является сферически-симметричным полем точечного заряда как считалось ранее. Поле остова не               .  Момент импульса остова равен нулю, значит орбитальный момент атома равен моменту внешнему электрона и определяется  квантовым числ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3357720" y="2500200"/>
            <a:ext cx="1685880" cy="5716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3500280" y="3714840"/>
            <a:ext cx="1710000" cy="714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"/>
          <p:cNvPicPr/>
          <p:nvPr/>
        </p:nvPicPr>
        <p:blipFill>
          <a:blip r:embed="rId3"/>
          <a:stretch/>
        </p:blipFill>
        <p:spPr>
          <a:xfrm>
            <a:off x="928800" y="4429080"/>
            <a:ext cx="285480" cy="21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4"/>
          <a:stretch/>
        </p:blipFill>
        <p:spPr>
          <a:xfrm>
            <a:off x="2286000" y="5357880"/>
            <a:ext cx="785880" cy="26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2:36:00Z</dcterms:created>
  <dc:creator>VIENNA XP</dc:creator>
  <dc:description/>
  <dc:language>en-US</dc:language>
  <cp:lastModifiedBy>user</cp:lastModifiedBy>
  <dcterms:modified xsi:type="dcterms:W3CDTF">2009-04-28T10:03:10Z</dcterms:modified>
  <cp:revision>154</cp:revision>
  <dc:subject/>
  <dc:title>Основы квантовой механики </dc:title>
</cp:coreProperties>
</file>