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7EAE-9A96-4596-8C3C-C9CE0FF1B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2D7E-24A7-45B9-9974-577B240C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6B35-C4C9-4CB4-8F51-E7F7E1245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44FC-67CF-45CF-8BC8-32ED2D1B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7133-9998-4E3B-9CA4-4C684397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7455-A15B-4493-9ADC-6797700D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9DE1-21E5-4309-9FB4-E2CDEE8A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3079-34BD-410C-B3C6-5C76CBF09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3667-E657-4CB6-942D-70827728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D070-3769-4FF0-8C6F-121D39BA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2D7E-3744-4E23-920B-FDF9C1CA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584-B62F-428C-BFEE-C640560FA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011EF-6B5C-4CEE-A74B-A3B5F3BB85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ая физ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Радиоактив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Ядерные реа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ьфа-расп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 частица возникает только в момент радиоактивного распада ядр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- частица преодолевает потенциальный барьер, высота которого превосходит его энергию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нутри барьера – действуют ядреные силы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не – кулоновское отталкивание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еодоление барьера  происходит благодаря туннельному эффект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6429240" y="1643040"/>
            <a:ext cx="242892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Бета-расп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ета-распадом называются процессы самопроизвольного превращения ядер в ядра – изобары с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Calibri"/>
              </a:rPr>
              <a:t>доч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=Z</a:t>
            </a:r>
            <a:r>
              <a:rPr b="0" lang="ru-RU" sz="2700" spc="-1" strike="noStrike" baseline="-25000">
                <a:solidFill>
                  <a:srgbClr val="000000"/>
                </a:solidFill>
                <a:latin typeface="Calibri"/>
              </a:rPr>
              <a:t>мат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±1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зличают три разновидности </a:t>
            </a:r>
            <a:r>
              <a:rPr b="0" lang="ru-RU" sz="27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распада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электронный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распад, в котором ядро испускает электрон и его зарядовое число становитс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+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озитронный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распад, в котором ядро испускает электрон и его зарядовое число становится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– захват, котором ядро захватывает один из электронов электронной оболочки атома (обычно из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- оболочки) (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Z-1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). На освободившееся место переходит электрон, что сопровождается рентгеновским излучени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та-распад. Энергия бета - распа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распаде ядро с порядковым номер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распадается по схе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масса ядра. Для масс нуклид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сюда энерги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расп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857680" y="2857680"/>
            <a:ext cx="2846160" cy="357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2786040" y="4572000"/>
            <a:ext cx="2641680" cy="428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3143160" y="5643720"/>
            <a:ext cx="1973520" cy="42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2928960" y="4000680"/>
            <a:ext cx="26575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та-распад. Энергия бета - распа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налогично дл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распа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едовательно, пр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распад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071800" y="2357280"/>
            <a:ext cx="4071960" cy="15955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2500200" y="5000760"/>
            <a:ext cx="36594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та-распад. Энергия бета - распа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лучае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-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хв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 энергия, выделяющаяся пр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хва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словием протекания процесса является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&gt;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57680" y="2500200"/>
            <a:ext cx="3265200" cy="1143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143160" y="4357800"/>
            <a:ext cx="2214720" cy="60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спределение электронов по энергия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6043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бщим свойством всех бета-спектров- плавность и предельная кинетическая энергия, на которой спектр прерывается.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Энергия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кс соответствуе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ри этом спектр регистрирует около 1/3 выделяемой при распаде энерг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286680" y="1714680"/>
            <a:ext cx="2857320" cy="18968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"/>
          <p:cNvPicPr/>
          <p:nvPr/>
        </p:nvPicPr>
        <p:blipFill>
          <a:blip r:embed="rId2"/>
          <a:srcRect l="29050" t="0" r="0" b="-5547"/>
          <a:stretch/>
        </p:blipFill>
        <p:spPr>
          <a:xfrm>
            <a:off x="2214720" y="4143240"/>
            <a:ext cx="15714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ткрытие нейтрин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Факт подтверждающий существование нейтрино – закон сохранения момента импульс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ета – распад процесс не внутреядерный, внутринуклонный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ри разновидности бета – распад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пин нейтрона, протона и электрона равен ½, если бы нейтрон распадался только как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о суммарный спин был бы равен 1 либо 0, чтобы отличаться от спина предыдущей частицы. Спин третьей частицы должен быть равен либо ½ либо 3/2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3286080" y="3214800"/>
            <a:ext cx="2457360" cy="598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143240" y="4643280"/>
            <a:ext cx="145116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расп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вая теори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распада был предложен а Ферми в 1934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 Ферми электроны и нейтрино рождаются в ядрах в процессе взаимодействия нуклонов с электронно-нейтринным полем, окружающем нукл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ад результат 4-фермионного взаимодействия, который получил название слабого взаимодействи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расп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лабое взаимодействие проявляется в большом времени жизн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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1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диус слабого взаимодействия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 *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-16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хема распада нейтрона и прото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1" name="Группа 32"/>
          <p:cNvGrpSpPr/>
          <p:nvPr/>
        </p:nvGrpSpPr>
        <p:grpSpPr>
          <a:xfrm>
            <a:off x="5143680" y="4929120"/>
            <a:ext cx="1915920" cy="1357560"/>
            <a:chOff x="5143680" y="4929120"/>
            <a:chExt cx="1915920" cy="1357560"/>
          </a:xfrm>
        </p:grpSpPr>
        <p:cxnSp>
          <p:nvCxnSpPr>
            <p:cNvPr id="112" name="AutoShape 21"/>
            <p:cNvCxnSpPr/>
            <p:nvPr/>
          </p:nvCxnSpPr>
          <p:spPr>
            <a:xfrm>
              <a:off x="5160960" y="5356440"/>
              <a:ext cx="958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3" name="AutoShape 22"/>
            <p:cNvCxnSpPr/>
            <p:nvPr/>
          </p:nvCxnSpPr>
          <p:spPr>
            <a:xfrm>
              <a:off x="6119280" y="5356440"/>
              <a:ext cx="9406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AutoShape 23"/>
            <p:cNvCxnSpPr/>
            <p:nvPr/>
          </p:nvCxnSpPr>
          <p:spPr>
            <a:xfrm>
              <a:off x="6119280" y="5356800"/>
              <a:ext cx="591120" cy="428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AutoShape 24"/>
            <p:cNvCxnSpPr/>
            <p:nvPr/>
          </p:nvCxnSpPr>
          <p:spPr>
            <a:xfrm flipV="1">
              <a:off x="5268600" y="5356080"/>
              <a:ext cx="851400" cy="586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6" name="Text Box 25"/>
            <p:cNvSpPr/>
            <p:nvPr/>
          </p:nvSpPr>
          <p:spPr>
            <a:xfrm>
              <a:off x="6459840" y="4929120"/>
              <a:ext cx="34020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 Box 26"/>
            <p:cNvSpPr/>
            <p:nvPr/>
          </p:nvSpPr>
          <p:spPr>
            <a:xfrm>
              <a:off x="5429880" y="4929120"/>
              <a:ext cx="34020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27"/>
            <p:cNvSpPr/>
            <p:nvPr/>
          </p:nvSpPr>
          <p:spPr>
            <a:xfrm>
              <a:off x="6370200" y="5356800"/>
              <a:ext cx="34020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ru-RU" sz="1100" spc="-1" strike="noStrike" baseline="30000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28"/>
            <p:cNvSpPr/>
            <p:nvPr/>
          </p:nvSpPr>
          <p:spPr>
            <a:xfrm>
              <a:off x="5143680" y="5887080"/>
              <a:ext cx="465480" cy="39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Text Box 11"/>
            <p:cNvSpPr/>
            <p:nvPr/>
          </p:nvSpPr>
          <p:spPr>
            <a:xfrm>
              <a:off x="5286240" y="5857920"/>
              <a:ext cx="39600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i="1" lang="en-US" sz="1100" spc="-1" strike="noStrike" baseline="30000">
                  <a:solidFill>
                    <a:srgbClr val="000000"/>
                  </a:solidFill>
                  <a:latin typeface="Calibri"/>
                </a:rPr>
                <a:t>~</a:t>
              </a:r>
              <a:r>
                <a:rPr b="0" i="1" lang="en-US" sz="11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Группа 34"/>
          <p:cNvGrpSpPr/>
          <p:nvPr/>
        </p:nvGrpSpPr>
        <p:grpSpPr>
          <a:xfrm>
            <a:off x="785880" y="4786200"/>
            <a:ext cx="2071800" cy="1425600"/>
            <a:chOff x="785880" y="4786200"/>
            <a:chExt cx="2071800" cy="1425600"/>
          </a:xfrm>
        </p:grpSpPr>
        <p:cxnSp>
          <p:nvCxnSpPr>
            <p:cNvPr id="122" name="AutoShape 12"/>
            <p:cNvCxnSpPr/>
            <p:nvPr/>
          </p:nvCxnSpPr>
          <p:spPr>
            <a:xfrm>
              <a:off x="785880" y="5379120"/>
              <a:ext cx="11376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3" name="AutoShape 13"/>
            <p:cNvCxnSpPr/>
            <p:nvPr/>
          </p:nvCxnSpPr>
          <p:spPr>
            <a:xfrm flipV="1">
              <a:off x="1922400" y="4916160"/>
              <a:ext cx="935640" cy="463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AutoShape 14"/>
            <p:cNvCxnSpPr/>
            <p:nvPr/>
          </p:nvCxnSpPr>
          <p:spPr>
            <a:xfrm>
              <a:off x="1922760" y="5379120"/>
              <a:ext cx="702000" cy="463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5" name="AutoShape 15"/>
            <p:cNvCxnSpPr/>
            <p:nvPr/>
          </p:nvCxnSpPr>
          <p:spPr>
            <a:xfrm>
              <a:off x="1922760" y="5379120"/>
              <a:ext cx="383040" cy="765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6" name="Text Box 16"/>
            <p:cNvSpPr/>
            <p:nvPr/>
          </p:nvSpPr>
          <p:spPr>
            <a:xfrm>
              <a:off x="913320" y="4997160"/>
              <a:ext cx="4035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7"/>
            <p:cNvSpPr/>
            <p:nvPr/>
          </p:nvSpPr>
          <p:spPr>
            <a:xfrm>
              <a:off x="2305440" y="4786200"/>
              <a:ext cx="4035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18"/>
            <p:cNvSpPr/>
            <p:nvPr/>
          </p:nvSpPr>
          <p:spPr>
            <a:xfrm>
              <a:off x="2220120" y="5379480"/>
              <a:ext cx="40356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19"/>
            <p:cNvSpPr/>
            <p:nvPr/>
          </p:nvSpPr>
          <p:spPr>
            <a:xfrm>
              <a:off x="1752840" y="5711400"/>
              <a:ext cx="552240" cy="43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 Box 11"/>
            <p:cNvSpPr/>
            <p:nvPr/>
          </p:nvSpPr>
          <p:spPr>
            <a:xfrm>
              <a:off x="1785960" y="5929560"/>
              <a:ext cx="396000" cy="28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i="1" lang="en-US" sz="1100" spc="-1" strike="noStrike" baseline="30000">
                  <a:solidFill>
                    <a:srgbClr val="000000"/>
                  </a:solidFill>
                  <a:latin typeface="Calibri"/>
                </a:rPr>
                <a:t>~</a:t>
              </a:r>
              <a:r>
                <a:rPr b="0" i="1" lang="en-US" sz="11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еория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распад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хема распада нейтрона и протона с учетом кварковой структу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2"/>
          <p:cNvGrpSpPr/>
          <p:nvPr/>
        </p:nvGrpSpPr>
        <p:grpSpPr>
          <a:xfrm>
            <a:off x="928800" y="3000240"/>
            <a:ext cx="3657600" cy="1158840"/>
            <a:chOff x="928800" y="3000240"/>
            <a:chExt cx="3657600" cy="1158840"/>
          </a:xfrm>
        </p:grpSpPr>
        <p:cxnSp>
          <p:nvCxnSpPr>
            <p:cNvPr id="134" name="AutoShape 3"/>
            <p:cNvCxnSpPr/>
            <p:nvPr/>
          </p:nvCxnSpPr>
          <p:spPr>
            <a:xfrm>
              <a:off x="1637280" y="3152160"/>
              <a:ext cx="221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5" name="AutoShape 4"/>
            <p:cNvCxnSpPr/>
            <p:nvPr/>
          </p:nvCxnSpPr>
          <p:spPr>
            <a:xfrm>
              <a:off x="1637280" y="3380760"/>
              <a:ext cx="221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6" name="AutoShape 5"/>
            <p:cNvCxnSpPr/>
            <p:nvPr/>
          </p:nvCxnSpPr>
          <p:spPr>
            <a:xfrm>
              <a:off x="1637280" y="3632760"/>
              <a:ext cx="221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7" name="AutoShape 6"/>
            <p:cNvCxnSpPr/>
            <p:nvPr/>
          </p:nvCxnSpPr>
          <p:spPr>
            <a:xfrm>
              <a:off x="2742120" y="3632760"/>
              <a:ext cx="396720" cy="526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8" name="AutoShape 7"/>
            <p:cNvCxnSpPr/>
            <p:nvPr/>
          </p:nvCxnSpPr>
          <p:spPr>
            <a:xfrm>
              <a:off x="2741760" y="3632760"/>
              <a:ext cx="975960" cy="191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9" name="Text Box 8"/>
            <p:cNvSpPr/>
            <p:nvPr/>
          </p:nvSpPr>
          <p:spPr>
            <a:xfrm>
              <a:off x="928800" y="326700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9"/>
            <p:cNvSpPr/>
            <p:nvPr/>
          </p:nvSpPr>
          <p:spPr>
            <a:xfrm>
              <a:off x="4296960" y="325152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Text Box 10"/>
            <p:cNvSpPr/>
            <p:nvPr/>
          </p:nvSpPr>
          <p:spPr>
            <a:xfrm>
              <a:off x="3214800" y="378540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11"/>
            <p:cNvSpPr/>
            <p:nvPr/>
          </p:nvSpPr>
          <p:spPr>
            <a:xfrm>
              <a:off x="2597400" y="3876840"/>
              <a:ext cx="396000" cy="28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i="1" lang="en-US" sz="1100" spc="-1" strike="noStrike" baseline="30000">
                  <a:solidFill>
                    <a:srgbClr val="000000"/>
                  </a:solidFill>
                  <a:latin typeface="Calibri"/>
                </a:rPr>
                <a:t>~</a:t>
              </a:r>
              <a:r>
                <a:rPr b="0" i="1" lang="en-US" sz="11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3931200" y="300024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 Box 13"/>
            <p:cNvSpPr/>
            <p:nvPr/>
          </p:nvSpPr>
          <p:spPr>
            <a:xfrm>
              <a:off x="3931200" y="325152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4"/>
            <p:cNvSpPr/>
            <p:nvPr/>
          </p:nvSpPr>
          <p:spPr>
            <a:xfrm>
              <a:off x="3923280" y="346536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5"/>
            <p:cNvSpPr/>
            <p:nvPr/>
          </p:nvSpPr>
          <p:spPr>
            <a:xfrm>
              <a:off x="1347840" y="3015360"/>
              <a:ext cx="2894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6"/>
            <p:cNvSpPr/>
            <p:nvPr/>
          </p:nvSpPr>
          <p:spPr>
            <a:xfrm>
              <a:off x="1347840" y="3213360"/>
              <a:ext cx="28944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7"/>
            <p:cNvSpPr/>
            <p:nvPr/>
          </p:nvSpPr>
          <p:spPr>
            <a:xfrm>
              <a:off x="1347840" y="346536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8"/>
            <p:cNvSpPr/>
            <p:nvPr/>
          </p:nvSpPr>
          <p:spPr>
            <a:xfrm>
              <a:off x="4091040" y="3053520"/>
              <a:ext cx="205560" cy="624960"/>
            </a:xfrm>
            <a:custGeom>
              <a:avLst/>
              <a:gdLst>
                <a:gd name="textAreaLeft" fmla="*/ 0 w 205560"/>
                <a:gd name="textAreaRight" fmla="*/ 74160 w 205560"/>
                <a:gd name="textAreaTop" fmla="*/ 16200 h 624960"/>
                <a:gd name="textAreaBottom" fmla="*/ 608760 h 624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AutoShape 19"/>
            <p:cNvSpPr/>
            <p:nvPr/>
          </p:nvSpPr>
          <p:spPr>
            <a:xfrm>
              <a:off x="1218240" y="3091680"/>
              <a:ext cx="228240" cy="66312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17280 h 663120"/>
                <a:gd name="textAreaBottom" fmla="*/ 645840 h 663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0"/>
          <p:cNvGrpSpPr/>
          <p:nvPr/>
        </p:nvGrpSpPr>
        <p:grpSpPr>
          <a:xfrm>
            <a:off x="785880" y="4714920"/>
            <a:ext cx="4030560" cy="1203120"/>
            <a:chOff x="785880" y="4714920"/>
            <a:chExt cx="4030560" cy="1203120"/>
          </a:xfrm>
        </p:grpSpPr>
        <p:cxnSp>
          <p:nvCxnSpPr>
            <p:cNvPr id="152" name="AutoShape 21"/>
            <p:cNvCxnSpPr/>
            <p:nvPr/>
          </p:nvCxnSpPr>
          <p:spPr>
            <a:xfrm>
              <a:off x="1578240" y="4866840"/>
              <a:ext cx="221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3" name="AutoShape 22"/>
            <p:cNvCxnSpPr/>
            <p:nvPr/>
          </p:nvCxnSpPr>
          <p:spPr>
            <a:xfrm>
              <a:off x="1578240" y="5095080"/>
              <a:ext cx="221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4" name="AutoShape 23"/>
            <p:cNvCxnSpPr/>
            <p:nvPr/>
          </p:nvCxnSpPr>
          <p:spPr>
            <a:xfrm>
              <a:off x="1578240" y="5346720"/>
              <a:ext cx="221040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5" name="AutoShape 24"/>
            <p:cNvCxnSpPr/>
            <p:nvPr/>
          </p:nvCxnSpPr>
          <p:spPr>
            <a:xfrm flipV="1">
              <a:off x="1829520" y="5346360"/>
              <a:ext cx="853920" cy="4042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6" name="AutoShape 25"/>
            <p:cNvCxnSpPr/>
            <p:nvPr/>
          </p:nvCxnSpPr>
          <p:spPr>
            <a:xfrm>
              <a:off x="2682720" y="5347080"/>
              <a:ext cx="975960" cy="190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7" name="Text Box 26"/>
            <p:cNvSpPr/>
            <p:nvPr/>
          </p:nvSpPr>
          <p:spPr>
            <a:xfrm>
              <a:off x="4527000" y="498132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7"/>
            <p:cNvSpPr/>
            <p:nvPr/>
          </p:nvSpPr>
          <p:spPr>
            <a:xfrm>
              <a:off x="785880" y="498132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28"/>
            <p:cNvSpPr/>
            <p:nvPr/>
          </p:nvSpPr>
          <p:spPr>
            <a:xfrm>
              <a:off x="3155400" y="5499360"/>
              <a:ext cx="388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e</a:t>
              </a:r>
              <a:r>
                <a:rPr b="0" lang="en-US" sz="1100" spc="-1" strike="noStrike" baseline="30000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29"/>
            <p:cNvSpPr/>
            <p:nvPr/>
          </p:nvSpPr>
          <p:spPr>
            <a:xfrm>
              <a:off x="1791360" y="5636520"/>
              <a:ext cx="396000" cy="28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100" spc="-1" strike="noStrike">
                  <a:solidFill>
                    <a:srgbClr val="000000"/>
                  </a:solidFill>
                  <a:latin typeface="Calibri"/>
                </a:rPr>
                <a:t>v</a:t>
              </a:r>
              <a:r>
                <a:rPr b="0" i="1" lang="en-US" sz="1100" spc="-1" strike="noStrike" baseline="30000">
                  <a:solidFill>
                    <a:srgbClr val="000000"/>
                  </a:solidFill>
                  <a:latin typeface="Calibri"/>
                </a:rPr>
                <a:t>~</a:t>
              </a:r>
              <a:r>
                <a:rPr b="0" i="1" lang="en-US" sz="1100" spc="-1" strike="noStrike" baseline="-25000">
                  <a:solidFill>
                    <a:srgbClr val="000000"/>
                  </a:solidFill>
                  <a:latin typeface="Calibri"/>
                </a:rPr>
                <a:t>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30"/>
            <p:cNvSpPr/>
            <p:nvPr/>
          </p:nvSpPr>
          <p:spPr>
            <a:xfrm>
              <a:off x="3871440" y="471492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31"/>
            <p:cNvSpPr/>
            <p:nvPr/>
          </p:nvSpPr>
          <p:spPr>
            <a:xfrm>
              <a:off x="3871440" y="496620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32"/>
            <p:cNvSpPr/>
            <p:nvPr/>
          </p:nvSpPr>
          <p:spPr>
            <a:xfrm>
              <a:off x="3863880" y="517932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Text Box 33"/>
            <p:cNvSpPr/>
            <p:nvPr/>
          </p:nvSpPr>
          <p:spPr>
            <a:xfrm>
              <a:off x="1288440" y="472968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34"/>
            <p:cNvSpPr/>
            <p:nvPr/>
          </p:nvSpPr>
          <p:spPr>
            <a:xfrm>
              <a:off x="1288440" y="492804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35"/>
            <p:cNvSpPr/>
            <p:nvPr/>
          </p:nvSpPr>
          <p:spPr>
            <a:xfrm>
              <a:off x="1288440" y="5179320"/>
              <a:ext cx="289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36"/>
            <p:cNvSpPr/>
            <p:nvPr/>
          </p:nvSpPr>
          <p:spPr>
            <a:xfrm>
              <a:off x="4031640" y="4767840"/>
              <a:ext cx="205560" cy="624240"/>
            </a:xfrm>
            <a:custGeom>
              <a:avLst/>
              <a:gdLst>
                <a:gd name="textAreaLeft" fmla="*/ 0 w 205560"/>
                <a:gd name="textAreaRight" fmla="*/ 74160 w 205560"/>
                <a:gd name="textAreaTop" fmla="*/ 16200 h 624240"/>
                <a:gd name="textAreaBottom" fmla="*/ 608040 h 624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37"/>
            <p:cNvSpPr/>
            <p:nvPr/>
          </p:nvSpPr>
          <p:spPr>
            <a:xfrm>
              <a:off x="1159200" y="4806000"/>
              <a:ext cx="228240" cy="662400"/>
            </a:xfrm>
            <a:custGeom>
              <a:avLst/>
              <a:gdLst>
                <a:gd name="textAreaLeft" fmla="*/ 145800 w 228240"/>
                <a:gd name="textAreaRight" fmla="*/ 228600 w 228240"/>
                <a:gd name="textAreaTop" fmla="*/ 17280 h 662400"/>
                <a:gd name="textAreaBottom" fmla="*/ 645120 h 662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диоакти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оактивность – это самопроизвольный распад ядер с испусканием одной или несколько частиц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диоактивное ядро называют материнским, ядра, образующиеся в результате распада – дочерни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обходимое условие радиоактивного распада заключается в том, что масса исходного ядра должна превышать сумму масс продуктов распада. Радиоактивный распад происходит с выделением энерги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мма – распа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ключается в испускании возбужденным ядром при переходе его в нормальное состояние гамма-квантов, энергия которых от 10кэв до 5 Мэ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Спектр гамма-квантов – дискретн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Отдельный нуклон испустить гамма-квант не может из-за нарушения законов сохранения энергии и импульс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оцесс возможен внутри ядра, гамма-квант может обмениваться импульсом не только с порождающим его нуклоном, но и остальными нуклонами ядр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амма-распад – процесс внутриядерный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мма – распа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668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бужденные ядра образуются при бета –распаде в случае, если распад материнского яд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в основное состояние дочернего ядр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преще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чернее ядро оказывается в одном из возбужденных, переход из которого сопровождается испусканием гамма- квант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7072200" y="1500120"/>
            <a:ext cx="207180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Гамма – распад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85520" y="4071600"/>
            <a:ext cx="800100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 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озбужденное ядр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– испускание гамма-кван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II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– конкурирующий процесс, испускание электрона внутренней конверсии  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слоя, характ. рентген. квант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испускание оже-электрона с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-сло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ероятности всех процессов зависят от от правил отбо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Рисунок 4" descr="gamma.gif"/>
          <p:cNvPicPr/>
          <p:nvPr/>
        </p:nvPicPr>
        <p:blipFill>
          <a:blip r:embed="rId1"/>
          <a:stretch/>
        </p:blipFill>
        <p:spPr>
          <a:xfrm>
            <a:off x="1214280" y="1285920"/>
            <a:ext cx="7000920" cy="279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ые реакции. Общие свед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Ядерными реакциями называются процессы, происходящие между частицами и ядрами под действием ядерных сил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ядерных реакциях, происходит изменение энергии и структуры яде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диус действия ядерных сил составляет порядка 10</a:t>
            </a:r>
            <a:r>
              <a:rPr b="0" lang="ru-RU" sz="2700" spc="-1" strike="noStrike" baseline="30000">
                <a:solidFill>
                  <a:srgbClr val="000000"/>
                </a:solidFill>
                <a:latin typeface="Calibri"/>
              </a:rPr>
              <a:t>-13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см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протекания реакции необходимо преодоление потенциального барьера от 0.5 </a:t>
            </a:r>
            <a:r>
              <a:rPr b="0" lang="ru-RU" sz="27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30 Мэ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Для нейтронов ядерные реакции протекают при любой кин. энерги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ые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285560"/>
            <a:ext cx="8686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пространенным типом ядерной реакции является взаимодействие частицы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 ядро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в результате чего образуется частица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ядро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сокращенном вид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оль частиц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чаще всего выполняют нейтрон, протон, дейтрон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 частица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кван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5143680" y="2786040"/>
            <a:ext cx="2889000" cy="500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3" descr=""/>
          <p:cNvPicPr/>
          <p:nvPr/>
        </p:nvPicPr>
        <p:blipFill>
          <a:blip r:embed="rId2"/>
          <a:stretch/>
        </p:blipFill>
        <p:spPr>
          <a:xfrm>
            <a:off x="5786280" y="3714840"/>
            <a:ext cx="2167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ые реакции. Сечение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285560"/>
            <a:ext cx="8686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ероятность взаимодействия частиц характеризуется с помощью эффективного сечения реакции </a:t>
            </a:r>
            <a:r>
              <a:rPr b="0" lang="ru-RU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нтерпретируется как площадь сечения ядр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попадая в которую налетающая частица вызывает реакцию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ероятность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, что частиц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вызовет ядерную реакцию определяется как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n –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исло ядер на единицу площади мишен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Эту величину называют выходом ядерной реакци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>
            <a:off x="3929040" y="4000680"/>
            <a:ext cx="1544760" cy="652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>
            <a:off x="3786120" y="5786280"/>
            <a:ext cx="17715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ые реакции. Сечение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85560"/>
            <a:ext cx="8686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еометрическое сечение ядра имеет порядок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2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 Эту величину принимают за единицу сечений ядерных реакций и называют барном (б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3994200" y="3333600"/>
            <a:ext cx="1893960" cy="309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3429000" y="3929040"/>
            <a:ext cx="285768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ые реакции. Типы ядерных реа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285560"/>
            <a:ext cx="86868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акции, вызываемые медленными частицами, протекают в два этап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й этап – захват налетающей частицы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ядр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 образованием составного яд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ремя жизни составного ядра порядка 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-1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с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й этап разрушение составного ядра, вне зависимости от способа образования составного яд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071880" y="3214800"/>
            <a:ext cx="29289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ые реакции. Типы ядерных реа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99680" y="1499760"/>
            <a:ext cx="8186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акции, вызываемые быстрыми частицами (10 МэВ и выше) называются прямыми ядерными реакц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летающая частица передает свою энергию частице внутри ядра, в результате чего она покидает ядр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ипичная реакция прямого взаимодействия – реакция срыва, например с участием дейтро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попадании одного из нуклонов дейтрона в область действия ядерных сил захватывается  ядром, другой пролетает мимо, оказавшись вне зоны действия. Символическая запись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,n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d,p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ые реакции. Типы ядерных реакци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99680" y="1499760"/>
            <a:ext cx="8186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еакции, вызываемые быстрыми частицами (10 МэВ и выше) называются прямыми ядерными реакция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Налетающая частица передает свою энергию частице внутри ядра, в результате чего она покидает ядро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Типичная реакция прямого взаимодействия – реакция срыва, например с участием дейтрон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ри попадании одного из нуклонов дейтрона в область действия ядерных сил захватывается  ядром, другой пролетает мимо, оказавшись вне зоны действия. Символическая запись (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d,n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ли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(d,p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диоакти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диоактивность разделяют на естественную и искусственну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типы радиоактивности: альфа, бета и гамма –расп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ой закон радиоактивного расп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N –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быль ядер за время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постоянная распад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2987640" y="4149720"/>
            <a:ext cx="285768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ые реакции. Энергия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99680" y="1499760"/>
            <a:ext cx="8186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еакции проходят как с выделением так и с поглощением энерги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Пусть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`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– суммы энергий покоя исходных частиц и продуктов реакции. Полная энергия в реакции сохраняется, т.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K`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суммарные кинетические энергии исходных частиц и продуктов реакции. Отсюда энергия реакции может быть определено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2" descr=""/>
          <p:cNvPicPr/>
          <p:nvPr/>
        </p:nvPicPr>
        <p:blipFill>
          <a:blip r:embed="rId1"/>
          <a:stretch/>
        </p:blipFill>
        <p:spPr>
          <a:xfrm>
            <a:off x="5572080" y="3500280"/>
            <a:ext cx="2246400" cy="5004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"/>
          <p:cNvPicPr/>
          <p:nvPr/>
        </p:nvPicPr>
        <p:blipFill>
          <a:blip r:embed="rId2"/>
          <a:stretch/>
        </p:blipFill>
        <p:spPr>
          <a:xfrm>
            <a:off x="5445000" y="5715000"/>
            <a:ext cx="25005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ые реакции. Энергия реакц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99680" y="1499760"/>
            <a:ext cx="8186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 &gt; 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кзоэнергетические реакции (с выделением энергии, кинетическ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 &lt; 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ндоэнергетические реакции (с поглощением энергии, кинетической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о ядерную реакцию с учет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записывают  ка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расчетов удобно использовать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формул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3857760" y="4214880"/>
            <a:ext cx="2209680" cy="6429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"/>
          <p:cNvPicPr/>
          <p:nvPr/>
        </p:nvPicPr>
        <p:blipFill>
          <a:blip r:embed="rId2"/>
          <a:stretch/>
        </p:blipFill>
        <p:spPr>
          <a:xfrm>
            <a:off x="3857760" y="5661000"/>
            <a:ext cx="35542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ые реакции. Законы сохранения в ядерных реакция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99680" y="1499760"/>
            <a:ext cx="818676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он сохранения заря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кон сохранения массового числ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3286080" y="2286000"/>
            <a:ext cx="1913040" cy="642960"/>
          </a:xfrm>
          <a:prstGeom prst="rect">
            <a:avLst/>
          </a:prstGeom>
          <a:ln w="0">
            <a:noFill/>
          </a:ln>
        </p:spPr>
      </p:pic>
      <p:sp>
        <p:nvSpPr>
          <p:cNvPr id="210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3211560" y="4572000"/>
            <a:ext cx="21574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Радиоактивность. Основной закон радиоактивного распад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гральный вид уравнения распа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0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ядер в момен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исло ядер в момент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Из формулы видно, чт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чину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зывают радиоактивностью, измеряют в беккерелях (Бк) 1 Бк =1 распад/с и кюри (Ки) 1 Ки = 3,7 *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Б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429000" y="2000160"/>
            <a:ext cx="1835280" cy="768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"/>
          <p:cNvPicPr/>
          <p:nvPr/>
        </p:nvPicPr>
        <p:blipFill>
          <a:blip r:embed="rId2"/>
          <a:srcRect l="0" t="11813" r="0" b="0"/>
          <a:stretch/>
        </p:blipFill>
        <p:spPr>
          <a:xfrm>
            <a:off x="1714680" y="3857760"/>
            <a:ext cx="2533320" cy="538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4786200" y="3786120"/>
            <a:ext cx="160992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диоакти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ктивность в расчете на единицу массы радиоактивного препарата называют в удельной активность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риод полураспада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время, за которое распадается половина первоначального количества ядер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словием определения периода полураспад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rcRect l="0" t="12392" r="0" b="0"/>
          <a:stretch/>
        </p:blipFill>
        <p:spPr>
          <a:xfrm>
            <a:off x="971640" y="5877000"/>
            <a:ext cx="2943000" cy="509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286080" y="3071880"/>
            <a:ext cx="3533760" cy="482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4286160" y="5857920"/>
            <a:ext cx="42577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диоакти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ее время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ядер, испытавших распад за промежу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714680" y="1785960"/>
            <a:ext cx="5862600" cy="12668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684360" y="3894120"/>
            <a:ext cx="792000" cy="4190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3"/>
          <a:stretch/>
        </p:blipFill>
        <p:spPr>
          <a:xfrm>
            <a:off x="3059280" y="4581360"/>
            <a:ext cx="2714400" cy="524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4"/>
          <a:stretch/>
        </p:blipFill>
        <p:spPr>
          <a:xfrm>
            <a:off x="3143160" y="2928960"/>
            <a:ext cx="2714760" cy="523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5"/>
          <a:stretch/>
        </p:blipFill>
        <p:spPr>
          <a:xfrm>
            <a:off x="3276720" y="5300640"/>
            <a:ext cx="1981080" cy="60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6"/>
          <a:stretch/>
        </p:blipFill>
        <p:spPr>
          <a:xfrm>
            <a:off x="2411280" y="6021360"/>
            <a:ext cx="39150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Радиоактивнос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ее время жиз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ядер, испытавших распад за промежут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50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1692360" y="2276640"/>
            <a:ext cx="5862600" cy="12668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684360" y="3894120"/>
            <a:ext cx="792000" cy="41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3"/>
          <a:stretch/>
        </p:blipFill>
        <p:spPr>
          <a:xfrm>
            <a:off x="3059280" y="4581360"/>
            <a:ext cx="2714400" cy="5241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"/>
          <p:cNvPicPr/>
          <p:nvPr/>
        </p:nvPicPr>
        <p:blipFill>
          <a:blip r:embed="rId4"/>
          <a:stretch/>
        </p:blipFill>
        <p:spPr>
          <a:xfrm>
            <a:off x="3214800" y="3166920"/>
            <a:ext cx="2714400" cy="524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5"/>
          <a:stretch/>
        </p:blipFill>
        <p:spPr>
          <a:xfrm>
            <a:off x="3276720" y="5300640"/>
            <a:ext cx="1981080" cy="609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6"/>
          <a:stretch/>
        </p:blipFill>
        <p:spPr>
          <a:xfrm>
            <a:off x="2411280" y="6021360"/>
            <a:ext cx="391500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ьфа-расп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амопроизвольно испускание ядром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частиц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X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индекс материнского ядра,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дочернег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Характерная энерги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частиц несколько МэВ, характерный пробег на воздухе несколько сантиметр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2516040" y="2714760"/>
            <a:ext cx="24796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льфа-распа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532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чернее ядро может возникать не только в основном, но и в возбужденных состояния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иболее интенсивной является группа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частиц с переходом в основное состоян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Распад через возбужденные уровни , сопровождаются испусканием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квантов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6302520" y="1643040"/>
            <a:ext cx="284148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8T03:53:23Z</dcterms:created>
  <dc:creator>user</dc:creator>
  <dc:description/>
  <dc:language>en-US</dc:language>
  <cp:lastModifiedBy>user</cp:lastModifiedBy>
  <dcterms:modified xsi:type="dcterms:W3CDTF">2009-05-19T08:33:27Z</dcterms:modified>
  <cp:revision>52</cp:revision>
  <dc:subject/>
  <dc:title>Радиоактивность</dc:title>
</cp:coreProperties>
</file>