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00E2-8021-43F6-B14D-96FAA31DB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9962-D772-485B-9347-F8A146BA5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B6DC-0173-4028-98F8-3D85DED1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C5FF-17BF-4EAB-8345-C7AAFEA54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24F-8FF9-4717-81D3-20F732BC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9BCD-4C25-4DB6-999A-69D77678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801-540F-4533-A0E5-679158B46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CAF0-F3B7-469B-A1E1-041CABC6E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7F0-34F3-49F3-BE12-D64242852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DB06-6CC3-45C4-8D56-5182CE92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A12C-37D2-4E45-B8DA-D35DDA7F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2083-6259-47A9-9D9A-BF95D0A3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7A289-E2E8-4BB3-88D0-620A7BD980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ая физ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Элементарные части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др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оны -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 у гиперонов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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вен 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 у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гиперона равен 3/2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 время жизн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0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9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гипероны распадаются на нуклоны и легкие частицы (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мезоны, электроны, нейтрино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кванты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тика элементарных час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357120" y="2571840"/>
            <a:ext cx="818028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ы сохран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лено пять зарядов: электрически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барионный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3 лептонных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всех элементарных частиц эти заряды имеют только целочисленные значен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3286080" y="3000240"/>
            <a:ext cx="20289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 сохранения барионного заряда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ли барионам и антибарионам приписать барионный заря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акой, что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 всем остальным частицам – барионный заря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=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то для всех процессов с участием барионов и антибарионов суммарный барионный заряд будет сохраняться.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Закон сохранения барионного заря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928800" y="2857680"/>
            <a:ext cx="754848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 сохранения лептонного заря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ри вида лептонных заряд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электронны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юонны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аонный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ля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,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v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электронное, мюонное  и таонное нейтри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В замкнутой системе при любых процессах разность между числом лептонов и антилептонов сохраняетс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 сохранения лептонного заря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лись считать что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всех остальных частиц лептонные заряды равны ну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1857240" y="2428920"/>
            <a:ext cx="5929560" cy="7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Закон сохранения лептонного заря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сохранения лептонного заряда требует, чтобы при распаде, нейтр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месте с электроном рождалось электронное антинейтрино. А поскольку протон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ица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=+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то частицей является и нейтро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(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тож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=+1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Закон сохранения объясняет невозможность процесс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3214800" y="2571840"/>
            <a:ext cx="2530440" cy="5000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2"/>
          <a:stretch/>
        </p:blipFill>
        <p:spPr>
          <a:xfrm>
            <a:off x="2214720" y="5857920"/>
            <a:ext cx="4954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нность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285840" y="16002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оны рождаются при столкновениях адронов высоких энергий (рождение связано с сильным взаимодействием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оны рождаются только парам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че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гиперон рождается только совместно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езоном или с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гипероном, но никогда с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гиперон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2857680" y="3857760"/>
            <a:ext cx="30416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ипероны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мезоны назвали странными частиц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 рождения эти частицы медленно и независимо друг от друга распадаются за счет слабого взаимо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количественного описания парного рождения и распада странных частиц было введено квантовое число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-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ност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тран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транность в сильных и электромагнитных взаимодействиях сохраняется, в слабых меняется на ± 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500040" y="1714680"/>
            <a:ext cx="7745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ментарными, называют микрочастицы, относительно которых нет доказательств, что они являются составны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оны, протоны, нейтроны и д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ядерной физике под термином «элементарные частицы» понимается общее название  для всех субатомных частиц, отличных от атомов и атомных ядер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Шарм и крас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Шарм (очарование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асота (прелесть)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оги квантового числа стран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храняются только в сильных и электромагнитных взаимодействия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нтовые числа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присущи к экзотическим частица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езонам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ариона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ковая модель адр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тановлено существование пяти типов (ароматов) кварков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, d, s, c, b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се кварки имеют спин ½ и барионный заряд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=1/3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357200" y="3857760"/>
            <a:ext cx="6357960" cy="24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ковая мод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мезон является парой кварка и антикварка. Только кварк-антикварк  имее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=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ждый барион состоит из 3 кварко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Только три кварка образуют частицу с полуцелым спином и барионным заряд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=1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2" descr=""/>
          <p:cNvPicPr/>
          <p:nvPr/>
        </p:nvPicPr>
        <p:blipFill>
          <a:blip r:embed="rId1"/>
          <a:stretch/>
        </p:blipFill>
        <p:spPr>
          <a:xfrm>
            <a:off x="928800" y="5500800"/>
            <a:ext cx="7412040" cy="92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ковая мод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гиперон состоит из 3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кварков с параллельными спинами – нарушает правило запрета Паул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бы устранить противоречие предположили, что у кварков есть внутренняя степень свободы – цве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ждый тип кварка характеризуется тремя цветами: красный, зеленый и голубой. Их смесь бесцветна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Цвет каждого антикварка считается дополнительным к цвету кварка, так что пара кварк-антикварк – бесцвет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ковая мод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599840"/>
            <a:ext cx="82296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нцип бесцветности устранил противоречие с принципом Паул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месь кварков разных цветов – бесцветн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гиперон состоит из 3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–кварков разных цветов, смесь которых бесцвет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Рисунок 3" descr="p1.jpg"/>
          <p:cNvPicPr/>
          <p:nvPr/>
        </p:nvPicPr>
        <p:blipFill>
          <a:blip r:embed="rId1"/>
          <a:srcRect l="0" t="0" r="448" b="0"/>
          <a:stretch/>
        </p:blipFill>
        <p:spPr>
          <a:xfrm>
            <a:off x="785880" y="3071880"/>
            <a:ext cx="77868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ковая мод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Содержимое 5" descr="p2.jpg"/>
          <p:cNvPicPr/>
          <p:nvPr/>
        </p:nvPicPr>
        <p:blipFill>
          <a:blip r:embed="rId1"/>
          <a:stretch/>
        </p:blipFill>
        <p:spPr>
          <a:xfrm>
            <a:off x="1643040" y="1785960"/>
            <a:ext cx="5675400" cy="2286000"/>
          </a:xfrm>
          <a:prstGeom prst="rect">
            <a:avLst/>
          </a:prstGeom>
          <a:ln w="0">
            <a:noFill/>
          </a:ln>
        </p:spPr>
      </p:pic>
      <p:pic>
        <p:nvPicPr>
          <p:cNvPr id="103" name="Рисунок 6" descr="p4.jpg"/>
          <p:cNvPicPr/>
          <p:nvPr/>
        </p:nvPicPr>
        <p:blipFill>
          <a:blip r:embed="rId2"/>
          <a:stretch/>
        </p:blipFill>
        <p:spPr>
          <a:xfrm>
            <a:off x="1285920" y="4643280"/>
            <a:ext cx="69962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варковая модел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7" descr="p3.jpg"/>
          <p:cNvPicPr/>
          <p:nvPr/>
        </p:nvPicPr>
        <p:blipFill>
          <a:blip r:embed="rId1"/>
          <a:stretch/>
        </p:blipFill>
        <p:spPr>
          <a:xfrm>
            <a:off x="1357200" y="1857240"/>
            <a:ext cx="6432840" cy="1692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8" descr="p5.jpg"/>
          <p:cNvPicPr/>
          <p:nvPr/>
        </p:nvPicPr>
        <p:blipFill>
          <a:blip r:embed="rId2"/>
          <a:stretch/>
        </p:blipFill>
        <p:spPr>
          <a:xfrm>
            <a:off x="1643040" y="4429080"/>
            <a:ext cx="6230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ю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овой заряд кварков является источником поля, посредством которого осуществляется взаимодействие между квар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нтами этого взаимодействия являются глюоны- безмассовые частицы со спином равным единиц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Цветовые заряды 6 сортов (к,з,г и к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,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г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~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 то и глюнов существует несколько- восем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лю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1928880" y="1357200"/>
          <a:ext cx="5072040" cy="2857680"/>
        </p:xfrm>
        <a:graphic>
          <a:graphicData uri="http://schemas.openxmlformats.org/drawingml/2006/table">
            <a:tbl>
              <a:tblPr/>
              <a:tblGrid>
                <a:gridCol w="1701720"/>
                <a:gridCol w="1117440"/>
                <a:gridCol w="1125720"/>
                <a:gridCol w="1127160"/>
              </a:tblGrid>
              <a:tr h="11430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еле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уб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кра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к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к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к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зеле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з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з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з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голуб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г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г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г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</a:tbl>
          </a:graphicData>
        </a:graphic>
      </p:graphicFrame>
      <p:sp>
        <p:nvSpPr>
          <p:cNvPr id="111" name="TextBox 4"/>
          <p:cNvSpPr/>
          <p:nvPr/>
        </p:nvSpPr>
        <p:spPr>
          <a:xfrm>
            <a:off x="500040" y="4286160"/>
            <a:ext cx="757224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юоны, которым соответствуют 6 не заштрихованных комбинаций, меняют цветовой заряд кварка и при испускании, и при поглощен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но показать, что существуют еще две суперпозиции с «скрытым цветом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к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з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~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*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к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+зз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2гг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~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предел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астицы, которые будем называть элементарными, ведут себя как единое целое и обладают способностью к рождению и взаимопревращению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пример, распад нейтрона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де нейтрон превращается в протон, электрон и нейтрино. Продукты распада нейтрона возникают  только в самом процессе. Они не входили в состав нейтро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2786040" y="3786120"/>
            <a:ext cx="27907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Систематика элементарных частиц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озоны – это частицы с нулевым или целочисленным спином (фотон, мезоны и др.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ермионы – это частицы с полуцелым спином (электрон, мюон, нейтрино, протон, нейтрон и т.д.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ремя жизн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времени жизни частицы различают 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табильны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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(фотон, электрон, протон и нейтрино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вазистабильны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(характерное ядерное время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езонансы (распадаются за счет сильного взаимодействия с временем жизни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23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носчики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тоны – переносчики электромагнитного взаимо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бозоны переносчики слабого взаимо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юоны – переносчики сильного взаимо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равитоны -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Переносчики взаимодейств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42960" y="1714680"/>
          <a:ext cx="8072280" cy="3714480"/>
        </p:xfrm>
        <a:graphic>
          <a:graphicData uri="http://schemas.openxmlformats.org/drawingml/2006/table">
            <a:tbl>
              <a:tblPr/>
              <a:tblGrid>
                <a:gridCol w="1996920"/>
                <a:gridCol w="1984680"/>
                <a:gridCol w="1377720"/>
                <a:gridCol w="789120"/>
                <a:gridCol w="1923840"/>
              </a:tblGrid>
              <a:tr h="103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ïîë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(âçàèìîäåéñòâèå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êâàí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(áîçî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ìàññà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(mc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2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ñïè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ðàäèóñ âçàèìî-äåéñòâèÿ (ñì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ñèëüíî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ãëþîí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(8 âèäîâ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-13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ýëåêòðîìàãíèòíî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ôîòî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7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ñëàáî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W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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, 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80, 91 ÃýÂ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10</a:t>
                      </a:r>
                      <a:r>
                        <a:rPr b="0" lang="ru-RU" sz="1400" spc="-1" strike="noStrike" baseline="30000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-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ãðàâèòàöèîííî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ãðàâèòîí (?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GOST type B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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Элементарные частиц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Лептоны – частицы, не участвуют в сильных взаимодействиях имеют спин ½ (электроны, мюоны, таоны, и соответствующим им нейтрино). За исключением нейтрино участвуют в электромагнитных взаимодействиях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дроны – участвуют в сильных, слабых и электромагнитных взаимодействиях (свыше 400). Подразделяются на мезоны и барионы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дрон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езоны – адроны с нулевым и целочисленным спином. (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, К-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мезоны, а также множество мезонных резонансов, с временем жизни 10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-23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 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арионы – это адроны с полуцелым спином, масса не меньше массы протона.  (протоны, нейтроны, гипероны и множество барионных резонансов). Все барионы нестабильны, кроме протона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Барионы с массой больше массы протона и с временем жизни 10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-23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 называют гиперонам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3T05:38:10Z</dcterms:created>
  <dc:creator>user</dc:creator>
  <dc:description/>
  <dc:language>en-US</dc:language>
  <cp:lastModifiedBy>user</cp:lastModifiedBy>
  <dcterms:modified xsi:type="dcterms:W3CDTF">2009-06-10T08:26:44Z</dcterms:modified>
  <cp:revision>52</cp:revision>
  <dc:subject/>
  <dc:title>Ядерная физика</dc:title>
</cp:coreProperties>
</file>