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9AEDB-5AC9-4810-A999-4CE88AA4A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B61F-1FC1-47D0-A7A2-9EFC648D3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AB3-36FE-4F30-96F0-882FEBD4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786F-325F-4526-AF46-97672853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B6121-6C04-48A6-9519-28425CAC3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8898-E225-465A-9D8E-28999DDC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42A46-3F68-48DB-9AB6-B6089701B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1207-7937-4F83-BB64-C0044F5B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C52C-B721-4955-B22B-CFF4BAA2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A543D-71D7-4B16-8600-0F564D7D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D26FC-42FE-47A2-9289-5DA60054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01E6-FC7E-4E52-A591-7A43EE7E1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BA48-8B94-491B-A073-29F4D365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62944-F2B5-405D-9240-BA7E1730F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27EA5-526F-4B3D-84A4-7374CDCF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BE280-C7EB-48C2-94B0-DA21F70B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3E449-D841-4CF9-A87F-49EB399D6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8B967F-3986-4E14-A934-C9D7C9B71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C43C17-DEC8-4BE7-AB87-3AB87924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982F2-4806-46ED-8EAF-0EB1859DB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B12A2-33E2-43DB-B73C-44408FD1C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A5905-4915-46B8-9A49-046896C0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5219-5FFD-428C-853E-A1E39200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3CC38-2642-4D05-9D1C-B4D609D18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5BE3C-4947-45DB-84F1-D81C5D6E1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DF23D3-0E4E-4794-913B-9F4C2DCBC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7EBE-B751-4AB4-B1BE-F588B9D3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2B128C-C7B4-45C8-85FC-E60296DE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D9B3D-D293-4BE3-8FDE-69B60A2CD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8A28C1-3B17-4BFE-AD28-D286FF4A1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579AC-7D6A-4259-B4C2-D99C31F5B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3DC22-4971-4E75-A104-7D9B318BD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AE850-1AB6-4137-93EB-A436FF1D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5EE4-3042-4E2C-872D-2300FCC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EEE32-2B15-417B-9D5F-9BE3F3BB3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DCBB5-742F-4F33-B9B4-0ED5F390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6A70-120F-4663-A887-0CD54E9E2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252B-14C1-4A4E-A83C-6A039AFCE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3573C-3EE4-4CA8-A327-007507D74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1D40E-92E3-4FD1-BEE9-8AB6406B1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76618-D6A4-4685-BCEF-FB7268C1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BE058E-D2F5-4B80-A7D2-4CCBC9CE3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ACE440-1EB1-4DC7-AC5B-D64C6A66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68136-7F08-40D6-83D7-DCD78EC9A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2AF-087B-46E0-8E78-5D5BBCDE1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11CCFF-BE00-45E0-A3A4-46F5A293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FC861-30E2-4144-8C63-712355B11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F0A6CB-56BB-4E5C-AC8C-C7DF9885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B1E993-E0CC-4F9D-A955-05C440AF2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D9EEA-AD0E-47F4-A86E-AB1261BF1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DBE38-4642-4418-93F9-46CD1053E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DDB6C-60D4-401A-8B20-90A1984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F2A6B-B6F0-46C0-8D59-5EE533B8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9A436F-595D-4919-A06F-BE122BE0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D352F-A8BE-4035-AFD1-F191815F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98E0C-A0E3-4253-BDDA-090BF89B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8D8DA-C9ED-48F5-ACA9-18DA65FE9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4F1-140F-4B6B-B898-095BB2B15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2BF6-2AA6-41C9-A5D2-021AE9E7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5AE2-5ABA-4DE2-9A48-1B798FD6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124D-B9DC-405D-A3A3-016ED7EDA5D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A7B3D-8F3E-49C6-8B06-B037E5AA5A90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22BDA-00C2-4A0E-86A0-98D970622B59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10BF-0548-4F70-883C-D6A692138C20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2210C-CF2B-4648-BC15-5CD0E0CAD511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5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852720" y="633240"/>
            <a:ext cx="5388120" cy="2884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643120" y="3785760"/>
            <a:ext cx="65008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Худайбергенов Гамзат Жапарович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афедра экспериментальной физики и радиофизики, 1 корпус ОмГУ, ауд. 234а, т. 64-44-92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8287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6"/>
          <p:cNvSpPr/>
          <p:nvPr/>
        </p:nvSpPr>
        <p:spPr>
          <a:xfrm>
            <a:off x="357120" y="1500120"/>
            <a:ext cx="7429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лебания некогерентны т.е. начальные фазы беспорядочно меняются во времени, и разность фаз есть функция време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ерывно меняется с равной вероятностью, то среднее значение по време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, тогда последнее слагаемое в выражении для результирующей амплитуды обратится в нол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2"/>
          <a:stretch/>
        </p:blipFill>
        <p:spPr>
          <a:xfrm>
            <a:off x="500040" y="3643200"/>
            <a:ext cx="4086360" cy="357480"/>
          </a:xfrm>
          <a:prstGeom prst="rect">
            <a:avLst/>
          </a:prstGeom>
          <a:ln w="0">
            <a:noFill/>
          </a:ln>
        </p:spPr>
      </p:pic>
      <p:sp>
        <p:nvSpPr>
          <p:cNvPr id="27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7" descr=""/>
          <p:cNvPicPr/>
          <p:nvPr/>
        </p:nvPicPr>
        <p:blipFill>
          <a:blip r:embed="rId3"/>
          <a:stretch/>
        </p:blipFill>
        <p:spPr>
          <a:xfrm>
            <a:off x="2714760" y="2500200"/>
            <a:ext cx="1500120" cy="2826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4"/>
          <a:stretch/>
        </p:blipFill>
        <p:spPr>
          <a:xfrm>
            <a:off x="5429160" y="3214800"/>
            <a:ext cx="2509920" cy="1854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9" descr=""/>
          <p:cNvPicPr/>
          <p:nvPr/>
        </p:nvPicPr>
        <p:blipFill>
          <a:blip r:embed="rId5"/>
          <a:stretch/>
        </p:blipFill>
        <p:spPr>
          <a:xfrm>
            <a:off x="1143000" y="5429160"/>
            <a:ext cx="1500120" cy="393840"/>
          </a:xfrm>
          <a:prstGeom prst="rect">
            <a:avLst/>
          </a:prstGeom>
          <a:ln w="0">
            <a:noFill/>
          </a:ln>
        </p:spPr>
      </p:pic>
      <p:sp>
        <p:nvSpPr>
          <p:cNvPr id="277" name="TextBox 25"/>
          <p:cNvSpPr/>
          <p:nvPr/>
        </p:nvSpPr>
        <p:spPr>
          <a:xfrm>
            <a:off x="642960" y="478620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</a:t>
            </a:r>
            <a:r>
              <a:rPr b="1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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i="1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828720"/>
          </a:xfrm>
          <a:prstGeom prst="rect">
            <a:avLst/>
          </a:prstGeom>
          <a:ln w="0">
            <a:noFill/>
          </a:ln>
        </p:spPr>
      </p:pic>
      <p:sp>
        <p:nvSpPr>
          <p:cNvPr id="279" name="TextBox 6"/>
          <p:cNvSpPr/>
          <p:nvPr/>
        </p:nvSpPr>
        <p:spPr>
          <a:xfrm>
            <a:off x="357120" y="1500120"/>
            <a:ext cx="742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лебания когерентны т.е. начальные фазы не зависят от времени, и разность фаз не есть функция време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1714680" y="2643120"/>
            <a:ext cx="4000320" cy="2222640"/>
          </a:xfrm>
          <a:prstGeom prst="rect">
            <a:avLst/>
          </a:prstGeom>
          <a:ln w="0">
            <a:noFill/>
          </a:ln>
        </p:spPr>
      </p:pic>
      <p:sp>
        <p:nvSpPr>
          <p:cNvPr id="2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" descr=""/>
          <p:cNvPicPr/>
          <p:nvPr/>
        </p:nvPicPr>
        <p:blipFill>
          <a:blip r:embed="rId3"/>
          <a:stretch/>
        </p:blipFill>
        <p:spPr>
          <a:xfrm>
            <a:off x="1643040" y="5072040"/>
            <a:ext cx="4260960" cy="428760"/>
          </a:xfrm>
          <a:prstGeom prst="rect">
            <a:avLst/>
          </a:prstGeom>
          <a:ln w="0">
            <a:noFill/>
          </a:ln>
        </p:spPr>
      </p:pic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3" descr=""/>
          <p:cNvPicPr/>
          <p:nvPr/>
        </p:nvPicPr>
        <p:blipFill>
          <a:blip r:embed="rId4"/>
          <a:stretch/>
        </p:blipFill>
        <p:spPr>
          <a:xfrm>
            <a:off x="1571760" y="5715000"/>
            <a:ext cx="4211640" cy="571680"/>
          </a:xfrm>
          <a:prstGeom prst="rect">
            <a:avLst/>
          </a:prstGeom>
          <a:ln w="0">
            <a:noFill/>
          </a:ln>
        </p:spPr>
      </p:pic>
      <p:sp>
        <p:nvSpPr>
          <p:cNvPr id="290" name="Прямая соединительная линия 18"/>
          <p:cNvSpPr/>
          <p:nvPr/>
        </p:nvSpPr>
        <p:spPr>
          <a:xfrm>
            <a:off x="3714120" y="6286680"/>
            <a:ext cx="218124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Прямая соединительная линия 21"/>
          <p:cNvSpPr/>
          <p:nvPr/>
        </p:nvSpPr>
        <p:spPr>
          <a:xfrm>
            <a:off x="3714840" y="6357960"/>
            <a:ext cx="221436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Прямая соединительная линия 22"/>
          <p:cNvSpPr/>
          <p:nvPr/>
        </p:nvSpPr>
        <p:spPr>
          <a:xfrm>
            <a:off x="3857040" y="5500800"/>
            <a:ext cx="2181240" cy="144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Прямая соединительная линия 23"/>
          <p:cNvSpPr/>
          <p:nvPr/>
        </p:nvSpPr>
        <p:spPr>
          <a:xfrm>
            <a:off x="3857760" y="5572080"/>
            <a:ext cx="2214360" cy="1800"/>
          </a:xfrm>
          <a:prstGeom prst="line">
            <a:avLst/>
          </a:prstGeom>
          <a:ln w="11520">
            <a:solidFill>
              <a:srgbClr val="b83d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82872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357120" y="1500120"/>
            <a:ext cx="7429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колебания когерентны т.е. начальные фазы не зависят от времени, и разность фаз не есть функция времен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1714680" y="2643120"/>
            <a:ext cx="4000320" cy="2222640"/>
          </a:xfrm>
          <a:prstGeom prst="rect">
            <a:avLst/>
          </a:prstGeom>
          <a:ln w="0">
            <a:noFill/>
          </a:ln>
        </p:spPr>
      </p:pic>
      <p:sp>
        <p:nvSpPr>
          <p:cNvPr id="30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" descr=""/>
          <p:cNvPicPr/>
          <p:nvPr/>
        </p:nvPicPr>
        <p:blipFill>
          <a:blip r:embed="rId3"/>
          <a:stretch/>
        </p:blipFill>
        <p:spPr>
          <a:xfrm>
            <a:off x="1643040" y="5072040"/>
            <a:ext cx="4260960" cy="42876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3" descr=""/>
          <p:cNvPicPr/>
          <p:nvPr/>
        </p:nvPicPr>
        <p:blipFill>
          <a:blip r:embed="rId4"/>
          <a:stretch/>
        </p:blipFill>
        <p:spPr>
          <a:xfrm>
            <a:off x="1571760" y="5715000"/>
            <a:ext cx="421164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328680" y="-6480"/>
            <a:ext cx="7419960" cy="115884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500040" y="1571760"/>
            <a:ext cx="72388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1000"/>
          </a:bodyPr>
          <a:p>
            <a:pPr marL="138960" indent="-13896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m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, 1, 2, 3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265320" indent="-11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  <a:p>
            <a:pPr lvl="1" marL="265320" indent="-116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6c6c6c"/>
              </a:solidFill>
              <a:latin typeface="Trebuchet MS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" descr=""/>
          <p:cNvPicPr/>
          <p:nvPr/>
        </p:nvPicPr>
        <p:blipFill>
          <a:blip r:embed="rId2"/>
          <a:stretch/>
        </p:blipFill>
        <p:spPr>
          <a:xfrm>
            <a:off x="857160" y="2428920"/>
            <a:ext cx="2238480" cy="42876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3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6"/>
          <p:cNvSpPr/>
          <p:nvPr/>
        </p:nvSpPr>
        <p:spPr>
          <a:xfrm>
            <a:off x="3171600" y="2428920"/>
            <a:ext cx="28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4" descr=""/>
          <p:cNvPicPr/>
          <p:nvPr/>
        </p:nvPicPr>
        <p:blipFill>
          <a:blip r:embed="rId3"/>
          <a:stretch/>
        </p:blipFill>
        <p:spPr>
          <a:xfrm>
            <a:off x="785880" y="3000240"/>
            <a:ext cx="2905200" cy="42876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6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Содержимое 2"/>
          <p:cNvSpPr/>
          <p:nvPr/>
        </p:nvSpPr>
        <p:spPr>
          <a:xfrm>
            <a:off x="428760" y="3714840"/>
            <a:ext cx="723888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=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+1)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=0, 1, 2,3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r>
              <a:rPr b="0" lang="en-US" sz="23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7" descr=""/>
          <p:cNvPicPr/>
          <p:nvPr/>
        </p:nvPicPr>
        <p:blipFill>
          <a:blip r:embed="rId4"/>
          <a:stretch/>
        </p:blipFill>
        <p:spPr>
          <a:xfrm>
            <a:off x="785880" y="4429080"/>
            <a:ext cx="2428920" cy="4748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9"/>
          <p:cNvSpPr/>
          <p:nvPr/>
        </p:nvSpPr>
        <p:spPr>
          <a:xfrm>
            <a:off x="0" y="800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3340080" y="4500720"/>
            <a:ext cx="2833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5"/>
          <a:stretch/>
        </p:blipFill>
        <p:spPr>
          <a:xfrm>
            <a:off x="857160" y="5143680"/>
            <a:ext cx="1000080" cy="31896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2"/>
          <p:cNvSpPr/>
          <p:nvPr/>
        </p:nvSpPr>
        <p:spPr>
          <a:xfrm>
            <a:off x="0" y="69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Заголовок 1" descr=""/>
          <p:cNvPicPr/>
          <p:nvPr/>
        </p:nvPicPr>
        <p:blipFill>
          <a:blip r:embed="rId1"/>
          <a:stretch/>
        </p:blipFill>
        <p:spPr>
          <a:xfrm>
            <a:off x="285840" y="317520"/>
            <a:ext cx="7419960" cy="115092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28400" y="2500200"/>
            <a:ext cx="114300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д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1000080" y="1857240"/>
            <a:ext cx="4498920" cy="714600"/>
          </a:xfrm>
          <a:prstGeom prst="rect">
            <a:avLst/>
          </a:prstGeom>
          <a:ln w="0">
            <a:noFill/>
          </a:ln>
        </p:spPr>
      </p:pic>
      <p:sp>
        <p:nvSpPr>
          <p:cNvPr id="327" name="Rectangle 6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2571840" y="2928960"/>
            <a:ext cx="1104840" cy="4287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9"/>
          <p:cNvSpPr/>
          <p:nvPr/>
        </p:nvSpPr>
        <p:spPr>
          <a:xfrm>
            <a:off x="0" y="693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одержимое 2"/>
          <p:cNvSpPr/>
          <p:nvPr/>
        </p:nvSpPr>
        <p:spPr>
          <a:xfrm>
            <a:off x="857160" y="4857840"/>
            <a:ext cx="8001000" cy="15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лов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ренцио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умов, колебания возбуждаемые в точк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я будут происходить в противоф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10" descr=""/>
          <p:cNvPicPr/>
          <p:nvPr/>
        </p:nvPicPr>
        <p:blipFill>
          <a:blip r:embed="rId4"/>
          <a:stretch/>
        </p:blipFill>
        <p:spPr>
          <a:xfrm>
            <a:off x="1000080" y="3929040"/>
            <a:ext cx="5005440" cy="64296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12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13" descr=""/>
          <p:cNvPicPr/>
          <p:nvPr/>
        </p:nvPicPr>
        <p:blipFill>
          <a:blip r:embed="rId5"/>
          <a:stretch/>
        </p:blipFill>
        <p:spPr>
          <a:xfrm>
            <a:off x="571680" y="4714920"/>
            <a:ext cx="2439720" cy="714240"/>
          </a:xfrm>
          <a:prstGeom prst="rect">
            <a:avLst/>
          </a:prstGeom>
          <a:ln w="0">
            <a:noFill/>
          </a:ln>
        </p:spPr>
      </p:pic>
      <p:sp>
        <p:nvSpPr>
          <p:cNvPr id="337" name="Rectangle 15"/>
          <p:cNvSpPr/>
          <p:nvPr/>
        </p:nvSpPr>
        <p:spPr>
          <a:xfrm>
            <a:off x="0" y="914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Прямоугольник 16"/>
          <p:cNvSpPr/>
          <p:nvPr/>
        </p:nvSpPr>
        <p:spPr>
          <a:xfrm>
            <a:off x="1000080" y="2949480"/>
            <a:ext cx="5214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услов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ференционных максим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Заголовок 1" descr=""/>
          <p:cNvPicPr/>
          <p:nvPr/>
        </p:nvPicPr>
        <p:blipFill>
          <a:blip r:embed="rId1"/>
          <a:stretch/>
        </p:blipFill>
        <p:spPr>
          <a:xfrm>
            <a:off x="311040" y="231840"/>
            <a:ext cx="7394760" cy="1243080"/>
          </a:xfrm>
          <a:prstGeom prst="rect">
            <a:avLst/>
          </a:prstGeom>
          <a:ln w="0">
            <a:noFill/>
          </a:ln>
        </p:spPr>
      </p:pic>
      <p:grpSp>
        <p:nvGrpSpPr>
          <p:cNvPr id="340" name="Group 49"/>
          <p:cNvGrpSpPr/>
          <p:nvPr/>
        </p:nvGrpSpPr>
        <p:grpSpPr>
          <a:xfrm>
            <a:off x="285840" y="1972440"/>
            <a:ext cx="8000640" cy="4523040"/>
            <a:chOff x="285840" y="1972440"/>
            <a:chExt cx="8000640" cy="4523040"/>
          </a:xfrm>
        </p:grpSpPr>
        <p:sp>
          <p:nvSpPr>
            <p:cNvPr id="341" name="Text Box 50"/>
            <p:cNvSpPr/>
            <p:nvPr/>
          </p:nvSpPr>
          <p:spPr>
            <a:xfrm>
              <a:off x="7078320" y="3174840"/>
              <a:ext cx="1208160" cy="9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z-d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51"/>
            <p:cNvGrpSpPr/>
            <p:nvPr/>
          </p:nvGrpSpPr>
          <p:grpSpPr>
            <a:xfrm>
              <a:off x="285840" y="1972440"/>
              <a:ext cx="7156800" cy="4523040"/>
              <a:chOff x="285840" y="1972440"/>
              <a:chExt cx="7156800" cy="4523040"/>
            </a:xfrm>
          </p:grpSpPr>
          <p:cxnSp>
            <p:nvCxnSpPr>
              <p:cNvPr id="343" name="AutoShape 52"/>
              <p:cNvCxnSpPr/>
              <p:nvPr/>
            </p:nvCxnSpPr>
            <p:spPr>
              <a:xfrm flipV="1">
                <a:off x="1686960" y="2425680"/>
                <a:ext cx="4412160" cy="182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344" name="AutoShape 53"/>
              <p:cNvCxnSpPr/>
              <p:nvPr/>
            </p:nvCxnSpPr>
            <p:spPr>
              <a:xfrm flipV="1">
                <a:off x="1686960" y="2425680"/>
                <a:ext cx="4412160" cy="32097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345" name="AutoShape 54"/>
              <p:cNvCxnSpPr/>
              <p:nvPr/>
            </p:nvCxnSpPr>
            <p:spPr>
              <a:xfrm flipV="1">
                <a:off x="6098400" y="1972440"/>
                <a:ext cx="1080" cy="3942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55"/>
              <p:cNvCxnSpPr/>
              <p:nvPr/>
            </p:nvCxnSpPr>
            <p:spPr>
              <a:xfrm>
                <a:off x="1213920" y="4952520"/>
                <a:ext cx="533592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</p:cxnSp>
          <p:sp>
            <p:nvSpPr>
              <p:cNvPr id="347" name="Text Box 56"/>
              <p:cNvSpPr/>
              <p:nvPr/>
            </p:nvSpPr>
            <p:spPr>
              <a:xfrm>
                <a:off x="3286080" y="3071160"/>
                <a:ext cx="58356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Text Box 57"/>
              <p:cNvSpPr/>
              <p:nvPr/>
            </p:nvSpPr>
            <p:spPr>
              <a:xfrm>
                <a:off x="4452120" y="3174480"/>
                <a:ext cx="58320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r</a:t>
                </a:r>
                <a:r>
                  <a:rPr b="0" i="1" lang="ru-RU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Text Box 58"/>
              <p:cNvSpPr/>
              <p:nvPr/>
            </p:nvSpPr>
            <p:spPr>
              <a:xfrm>
                <a:off x="6055200" y="2000520"/>
                <a:ext cx="58356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Text Box 59"/>
              <p:cNvSpPr/>
              <p:nvPr/>
            </p:nvSpPr>
            <p:spPr>
              <a:xfrm>
                <a:off x="6055200" y="5643360"/>
                <a:ext cx="58356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600" spc="-1" strike="noStrike">
                    <a:solidFill>
                      <a:srgbClr val="000000"/>
                    </a:solidFill>
                    <a:latin typeface="Calibri"/>
                  </a:rPr>
                  <a:t>Э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60"/>
              <p:cNvSpPr/>
              <p:nvPr/>
            </p:nvSpPr>
            <p:spPr>
              <a:xfrm>
                <a:off x="1285920" y="3571200"/>
                <a:ext cx="715680" cy="85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 Box 61"/>
              <p:cNvSpPr/>
              <p:nvPr/>
            </p:nvSpPr>
            <p:spPr>
              <a:xfrm>
                <a:off x="1285920" y="5643360"/>
                <a:ext cx="715680" cy="85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S</a:t>
                </a:r>
                <a:r>
                  <a:rPr b="0" i="1" lang="en-US" sz="1600" spc="-1" strike="noStrike" baseline="-25000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Oval 62"/>
              <p:cNvSpPr/>
              <p:nvPr/>
            </p:nvSpPr>
            <p:spPr>
              <a:xfrm>
                <a:off x="1588320" y="4093560"/>
                <a:ext cx="186480" cy="26208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Oval 63"/>
              <p:cNvSpPr/>
              <p:nvPr/>
            </p:nvSpPr>
            <p:spPr>
              <a:xfrm>
                <a:off x="1566720" y="5505480"/>
                <a:ext cx="186120" cy="2617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55" name="AutoShape 64"/>
              <p:cNvCxnSpPr/>
              <p:nvPr/>
            </p:nvCxnSpPr>
            <p:spPr>
              <a:xfrm>
                <a:off x="1095480" y="4245480"/>
                <a:ext cx="63471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356" name="AutoShape 65"/>
              <p:cNvCxnSpPr/>
              <p:nvPr/>
            </p:nvCxnSpPr>
            <p:spPr>
              <a:xfrm>
                <a:off x="1092600" y="5632920"/>
                <a:ext cx="6350400" cy="25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  <p:sp>
            <p:nvSpPr>
              <p:cNvPr id="357" name="AutoShape 66"/>
              <p:cNvSpPr/>
              <p:nvPr/>
            </p:nvSpPr>
            <p:spPr>
              <a:xfrm>
                <a:off x="937440" y="4245840"/>
                <a:ext cx="155160" cy="1389240"/>
              </a:xfrm>
              <a:custGeom>
                <a:avLst/>
                <a:gdLst>
                  <a:gd name="textAreaLeft" fmla="*/ 99360 w 155160"/>
                  <a:gd name="textAreaRight" fmla="*/ 155520 w 155160"/>
                  <a:gd name="textAreaTop" fmla="*/ 36000 h 1389240"/>
                  <a:gd name="textAreaBottom" fmla="*/ 1353240 h 1389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 Box 67"/>
              <p:cNvSpPr/>
              <p:nvPr/>
            </p:nvSpPr>
            <p:spPr>
              <a:xfrm>
                <a:off x="285840" y="4633920"/>
                <a:ext cx="58320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AutoShape 68"/>
              <p:cNvSpPr/>
              <p:nvPr/>
            </p:nvSpPr>
            <p:spPr>
              <a:xfrm>
                <a:off x="6102000" y="2426040"/>
                <a:ext cx="447840" cy="2527920"/>
              </a:xfrm>
              <a:custGeom>
                <a:avLst/>
                <a:gdLst>
                  <a:gd name="textAreaLeft" fmla="*/ 0 w 447840"/>
                  <a:gd name="textAreaRight" fmla="*/ 161640 w 447840"/>
                  <a:gd name="textAreaTop" fmla="*/ 65880 h 2527920"/>
                  <a:gd name="textAreaBottom" fmla="*/ 2462040 h 25279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69"/>
              <p:cNvSpPr/>
              <p:nvPr/>
            </p:nvSpPr>
            <p:spPr>
              <a:xfrm>
                <a:off x="6494400" y="3174480"/>
                <a:ext cx="58356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Calibri"/>
                  </a:rPr>
                  <a:t>z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70"/>
              <p:cNvSpPr/>
              <p:nvPr/>
            </p:nvSpPr>
            <p:spPr>
              <a:xfrm>
                <a:off x="3596040" y="5604480"/>
                <a:ext cx="583560" cy="75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6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AutoShape 71"/>
              <p:cNvCxnSpPr/>
              <p:nvPr/>
            </p:nvCxnSpPr>
            <p:spPr>
              <a:xfrm>
                <a:off x="6098760" y="2425680"/>
                <a:ext cx="13442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</p:cxnSp>
          <p:cxnSp>
            <p:nvCxnSpPr>
              <p:cNvPr id="363" name="AutoShape 72"/>
              <p:cNvCxnSpPr/>
              <p:nvPr/>
            </p:nvCxnSpPr>
            <p:spPr>
              <a:xfrm>
                <a:off x="6989040" y="2426040"/>
                <a:ext cx="1080" cy="1820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364" name="AutoShape 73"/>
              <p:cNvCxnSpPr/>
              <p:nvPr/>
            </p:nvCxnSpPr>
            <p:spPr>
              <a:xfrm>
                <a:off x="6989040" y="4245840"/>
                <a:ext cx="1080" cy="1388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</p:grpSp>
        <p:sp>
          <p:nvSpPr>
            <p:cNvPr id="365" name="Text Box 74"/>
            <p:cNvSpPr/>
            <p:nvPr/>
          </p:nvSpPr>
          <p:spPr>
            <a:xfrm>
              <a:off x="7078320" y="4469040"/>
              <a:ext cx="1208160" cy="9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z+d/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281160"/>
            <a:ext cx="7493040" cy="725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6840" y="160920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</a:rPr>
              <a:t>Интерференция света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ие в пространстве двух или нескольких когерентных световых волн, при котором в разных его точках получается усиление или ослабление амплитуды результирующей волны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Интерференция све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явление перераспределения энергии в пространстве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2" descr=""/>
          <p:cNvPicPr/>
          <p:nvPr/>
        </p:nvPicPr>
        <p:blipFill>
          <a:blip r:embed="rId2"/>
          <a:stretch/>
        </p:blipFill>
        <p:spPr>
          <a:xfrm>
            <a:off x="1571760" y="3429000"/>
            <a:ext cx="4886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457200" y="1609200"/>
            <a:ext cx="5043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rebuchet MS"/>
              </a:rPr>
              <a:t>Когерентность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ерентностью называется согласованное протекание во времени и пространстве нескольких колебательных или волновых процессов. В соответствии с этим определением две монохроматические волны одной частоты всегда будут когерентным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Монохроматические волны 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граниченные в пространстве волны одной определенной и постоянной частоты — являются  когерентным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Немонохроматический свет можно представить в виде совокупности сменяющих друг друга коротких гармонических импульсов  излучаемых атомами —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волновых цугов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Средняя продолжительность одного цуга τ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rebuchet MS"/>
              </a:rPr>
              <a:t>ког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временем когерентности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7" name="Рисунок 3" descr="Рис.4.6"/>
          <p:cNvPicPr/>
          <p:nvPr/>
        </p:nvPicPr>
        <p:blipFill>
          <a:blip r:embed="rId2"/>
          <a:stretch/>
        </p:blipFill>
        <p:spPr>
          <a:xfrm>
            <a:off x="5500800" y="3214800"/>
            <a:ext cx="260028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212760" y="12600"/>
            <a:ext cx="7462800" cy="11764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40088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волна распространяется в однородной среде, то фаза колебаний в определенной точке пространства сохраняется только в течение времени когерентности. За это время волна распространяется в вакууме на расстояние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ог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cτ 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ког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называемо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ой когерентности (или длиной цуга)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тому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интерференции света возможно лишь при оптических разностях хода, меньших длины когерентности для используемого источника свет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ая когерентность 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, определяемая степенью монохроматично-сти волн, когерентность колебаний, которые совершаются в одной и той же точке пространства. Временная когерентность существует до тех пор, пока разброс фаз в волне в данной точке не достигнет π 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0" name="Рисунок 6" descr="Рис.4.7"/>
          <p:cNvPicPr/>
          <p:nvPr/>
        </p:nvPicPr>
        <p:blipFill>
          <a:blip r:embed="rId2"/>
          <a:stretch/>
        </p:blipFill>
        <p:spPr>
          <a:xfrm>
            <a:off x="2214720" y="4500720"/>
            <a:ext cx="428616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Заголовок 1" descr=""/>
          <p:cNvPicPr/>
          <p:nvPr/>
        </p:nvPicPr>
        <p:blipFill>
          <a:blip r:embed="rId1"/>
          <a:stretch/>
        </p:blipFill>
        <p:spPr>
          <a:xfrm>
            <a:off x="285840" y="12600"/>
            <a:ext cx="7462800" cy="117648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457200" y="1609200"/>
            <a:ext cx="740088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когерентности 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ояние, на которое перемещается волна за время когерентности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2"/>
          <a:srcRect l="4692" t="8737" r="0" b="0"/>
          <a:stretch/>
        </p:blipFill>
        <p:spPr>
          <a:xfrm>
            <a:off x="1000080" y="2286000"/>
            <a:ext cx="5788080" cy="264312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5"/>
          <p:cNvSpPr/>
          <p:nvPr/>
        </p:nvSpPr>
        <p:spPr>
          <a:xfrm>
            <a:off x="857160" y="507204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когерентности определяет размер области экрана, на которой наблюдается интерференционная карти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Заголовок 1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2"/>
          <a:stretch/>
        </p:blipFill>
        <p:spPr>
          <a:xfrm>
            <a:off x="1643040" y="1500120"/>
            <a:ext cx="4087800" cy="2235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5" descr=""/>
          <p:cNvPicPr/>
          <p:nvPr/>
        </p:nvPicPr>
        <p:blipFill>
          <a:blip r:embed="rId3"/>
          <a:stretch/>
        </p:blipFill>
        <p:spPr>
          <a:xfrm>
            <a:off x="2928960" y="5286240"/>
            <a:ext cx="1752480" cy="6429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4"/>
          <a:srcRect l="0" t="14409" r="0" b="0"/>
          <a:stretch/>
        </p:blipFill>
        <p:spPr>
          <a:xfrm>
            <a:off x="1000080" y="4143240"/>
            <a:ext cx="3416400" cy="428760"/>
          </a:xfrm>
          <a:prstGeom prst="rect">
            <a:avLst/>
          </a:prstGeom>
          <a:ln w="0">
            <a:noFill/>
          </a:ln>
        </p:spPr>
      </p:pic>
      <p:sp>
        <p:nvSpPr>
          <p:cNvPr id="239" name="TextBox 9"/>
          <p:cNvSpPr/>
          <p:nvPr/>
        </p:nvSpPr>
        <p:spPr>
          <a:xfrm>
            <a:off x="664560" y="4643280"/>
            <a:ext cx="7620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ельный порядок наблюдения интерференции, начи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которого интерференция не наблю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0"/>
          <p:cNvSpPr/>
          <p:nvPr/>
        </p:nvSpPr>
        <p:spPr>
          <a:xfrm>
            <a:off x="537480" y="6072120"/>
            <a:ext cx="688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Величина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</a:t>
            </a: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 характеризует степень монохроматич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7461360" cy="11764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2"/>
          <a:stretch/>
        </p:blipFill>
        <p:spPr>
          <a:xfrm>
            <a:off x="2214720" y="1214280"/>
            <a:ext cx="210636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" descr=""/>
          <p:cNvPicPr/>
          <p:nvPr/>
        </p:nvPicPr>
        <p:blipFill>
          <a:blip r:embed="rId3"/>
          <a:stretch/>
        </p:blipFill>
        <p:spPr>
          <a:xfrm>
            <a:off x="2214720" y="4071960"/>
            <a:ext cx="2590560" cy="60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4" descr=""/>
          <p:cNvPicPr/>
          <p:nvPr/>
        </p:nvPicPr>
        <p:blipFill>
          <a:blip r:embed="rId4"/>
          <a:stretch/>
        </p:blipFill>
        <p:spPr>
          <a:xfrm>
            <a:off x="1071720" y="4714920"/>
            <a:ext cx="5052960" cy="214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"/>
          <p:cNvPicPr/>
          <p:nvPr/>
        </p:nvPicPr>
        <p:blipFill>
          <a:blip r:embed="rId5"/>
          <a:stretch/>
        </p:blipFill>
        <p:spPr>
          <a:xfrm>
            <a:off x="357120" y="1928880"/>
            <a:ext cx="714384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Заголовок 1" descr=""/>
          <p:cNvPicPr/>
          <p:nvPr/>
        </p:nvPicPr>
        <p:blipFill>
          <a:blip r:embed="rId1"/>
          <a:stretch/>
        </p:blipFill>
        <p:spPr>
          <a:xfrm>
            <a:off x="244440" y="-3024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7" name="TextBox 8"/>
          <p:cNvSpPr/>
          <p:nvPr/>
        </p:nvSpPr>
        <p:spPr>
          <a:xfrm>
            <a:off x="518040" y="1785960"/>
            <a:ext cx="75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получения интерференционной картины  необходим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тобы оптическая разность хода была меньше длины когерентност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2"/>
          <a:stretch/>
        </p:blipFill>
        <p:spPr>
          <a:xfrm>
            <a:off x="1500120" y="3500280"/>
            <a:ext cx="4886280" cy="271476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9"/>
          <p:cNvSpPr/>
          <p:nvPr/>
        </p:nvSpPr>
        <p:spPr>
          <a:xfrm>
            <a:off x="2143080" y="2536920"/>
            <a:ext cx="407196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&lt; l</a:t>
            </a:r>
            <a:r>
              <a:rPr b="0" i="1" lang="ru-RU" sz="2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ког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  , где </a:t>
            </a:r>
            <a:r>
              <a:rPr b="0" i="1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=n(S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-S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675560" cy="8287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2" descr=""/>
          <p:cNvPicPr/>
          <p:nvPr/>
        </p:nvPicPr>
        <p:blipFill>
          <a:blip r:embed="rId2"/>
          <a:stretch/>
        </p:blipFill>
        <p:spPr>
          <a:xfrm>
            <a:off x="5500800" y="1571760"/>
            <a:ext cx="2509560" cy="1854000"/>
          </a:xfrm>
          <a:prstGeom prst="rect">
            <a:avLst/>
          </a:prstGeom>
          <a:ln w="0">
            <a:noFill/>
          </a:ln>
        </p:spPr>
      </p:pic>
      <p:sp>
        <p:nvSpPr>
          <p:cNvPr id="252" name="TextBox 6"/>
          <p:cNvSpPr/>
          <p:nvPr/>
        </p:nvSpPr>
        <p:spPr>
          <a:xfrm>
            <a:off x="428760" y="1571760"/>
            <a:ext cx="4714920" cy="50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им суперпозицию двух плоских монохроматическ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н одинаковой частот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+k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+k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 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A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=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ое числ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волн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корость свет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 пути пройденная волной 1 и 2 соответ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(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r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зность фаз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начальные фазы 2 и 1 волны соответственно.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4929120" y="3714120"/>
            <a:ext cx="3202200" cy="1721520"/>
            <a:chOff x="4929120" y="3714120"/>
            <a:chExt cx="3202200" cy="1721520"/>
          </a:xfrm>
        </p:grpSpPr>
        <p:cxnSp>
          <p:nvCxnSpPr>
            <p:cNvPr id="254" name="AutoShape 4"/>
            <p:cNvCxnSpPr/>
            <p:nvPr/>
          </p:nvCxnSpPr>
          <p:spPr>
            <a:xfrm flipV="1">
              <a:off x="5205960" y="3891600"/>
              <a:ext cx="2584080" cy="7146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255" name="AutoShape 5"/>
            <p:cNvCxnSpPr/>
            <p:nvPr/>
          </p:nvCxnSpPr>
          <p:spPr>
            <a:xfrm flipV="1">
              <a:off x="5205960" y="3891960"/>
              <a:ext cx="2584080" cy="12600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</p:cxnSp>
        <p:cxnSp>
          <p:nvCxnSpPr>
            <p:cNvPr id="256" name="AutoShape 6"/>
            <p:cNvCxnSpPr/>
            <p:nvPr/>
          </p:nvCxnSpPr>
          <p:spPr>
            <a:xfrm flipV="1">
              <a:off x="7789320" y="3714120"/>
              <a:ext cx="1080" cy="1547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257" name="AutoShape 7"/>
            <p:cNvCxnSpPr/>
            <p:nvPr/>
          </p:nvCxnSpPr>
          <p:spPr>
            <a:xfrm>
              <a:off x="4929120" y="4883760"/>
              <a:ext cx="31255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</p:cxnSp>
        <p:sp>
          <p:nvSpPr>
            <p:cNvPr id="258" name="Text Box 8"/>
            <p:cNvSpPr/>
            <p:nvPr/>
          </p:nvSpPr>
          <p:spPr>
            <a:xfrm>
              <a:off x="6081840" y="4032000"/>
              <a:ext cx="34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 Box 9"/>
            <p:cNvSpPr/>
            <p:nvPr/>
          </p:nvSpPr>
          <p:spPr>
            <a:xfrm>
              <a:off x="6049440" y="4373640"/>
              <a:ext cx="34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r</a:t>
              </a:r>
              <a:r>
                <a:rPr b="0" i="1" lang="ru-RU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 Box 10"/>
            <p:cNvSpPr/>
            <p:nvPr/>
          </p:nvSpPr>
          <p:spPr>
            <a:xfrm>
              <a:off x="7789680" y="3736080"/>
              <a:ext cx="34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 Box 11"/>
            <p:cNvSpPr/>
            <p:nvPr/>
          </p:nvSpPr>
          <p:spPr>
            <a:xfrm>
              <a:off x="7789680" y="5101200"/>
              <a:ext cx="34164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600" spc="-1" strike="noStrike">
                  <a:solidFill>
                    <a:srgbClr val="000000"/>
                  </a:solidFill>
                  <a:latin typeface="Calibri"/>
                </a:rPr>
                <a:t>Э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 Box 12"/>
            <p:cNvSpPr/>
            <p:nvPr/>
          </p:nvSpPr>
          <p:spPr>
            <a:xfrm>
              <a:off x="5032440" y="4147560"/>
              <a:ext cx="419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13"/>
            <p:cNvSpPr/>
            <p:nvPr/>
          </p:nvSpPr>
          <p:spPr>
            <a:xfrm>
              <a:off x="4980600" y="5101200"/>
              <a:ext cx="419040" cy="33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Calibri"/>
                </a:rPr>
                <a:t>S</a:t>
              </a:r>
              <a:r>
                <a:rPr b="0" i="1" lang="en-US" sz="1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Oval 14"/>
            <p:cNvSpPr/>
            <p:nvPr/>
          </p:nvSpPr>
          <p:spPr>
            <a:xfrm>
              <a:off x="5148360" y="4546800"/>
              <a:ext cx="109080" cy="102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5"/>
            <p:cNvSpPr/>
            <p:nvPr/>
          </p:nvSpPr>
          <p:spPr>
            <a:xfrm>
              <a:off x="5135400" y="5101200"/>
              <a:ext cx="109080" cy="1026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51:52Z</dcterms:created>
  <dc:creator>user</dc:creator>
  <dc:description/>
  <dc:language>en-US</dc:language>
  <cp:lastModifiedBy>user</cp:lastModifiedBy>
  <dcterms:modified xsi:type="dcterms:W3CDTF">2009-02-25T03:27:43Z</dcterms:modified>
  <cp:revision>98</cp:revision>
  <dc:subject/>
  <dc:title>Оптика</dc:title>
</cp:coreProperties>
</file>