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29.png" ContentType="image/png"/>
  <Override PartName="/ppt/media/image38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39.png" ContentType="image/pn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30.png" ContentType="image/png"/>
  <Override PartName="/ppt/media/image7.png" ContentType="image/png"/>
  <Override PartName="/ppt/media/image37.png" ContentType="image/png"/>
  <Override PartName="/ppt/media/image10.wmf" ContentType="image/x-wmf"/>
  <Override PartName="/ppt/media/image40.png" ContentType="image/png"/>
  <Override PartName="/ppt/media/image8.wmf" ContentType="image/x-wmf"/>
  <Override PartName="/ppt/media/image4.jpeg" ContentType="image/jpeg"/>
  <Override PartName="/ppt/media/image25.png" ContentType="image/png"/>
  <Override PartName="/ppt/media/image6.png" ContentType="image/png"/>
  <Override PartName="/ppt/media/image36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0ABA-E840-4EAA-B01E-119770CBC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B51C-B4A3-4928-A4C1-D7498224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C210-02A2-450A-B582-FE386FB25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E8EB-6622-41C3-A8BB-A7466BDA2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2B99E-1999-4694-8FB8-29E236570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1D88-271E-4A3E-99FB-037D48A4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72C21-E145-4FD8-A7E4-674D6EC1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9F8E1-4776-4B4E-A677-00B81E80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C78F-12B2-4295-80C4-50381650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11D38-D20B-4174-A5C2-F1A0E1A4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DA3A-137B-431D-A991-4178A1B6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942B-FC2E-43DA-A643-1885C707C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2A156-345F-426E-A636-168F90AD1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F4545-7CA0-4858-9A71-3426A196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EAF3-8D9A-4741-BE1B-550DDEAA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BAC08-5BA2-4171-AFF6-E2E6A7F42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AFB2-89F5-4ADC-B868-D95057857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1F473-5396-45B0-AC36-60F0A8210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10AEF-0F78-48E7-9E19-8A501127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6D2CC-80A0-4DDE-8F9E-393EC075E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902B2-A554-4362-AB3F-00D321EA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D7135-204A-41F0-9F99-925D6B166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075F-18C9-4842-93F0-7B25E845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96AC77-964D-4EC1-BD89-4A9F1A061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AF9AD-6234-4EF2-BDD9-8A8D03DB7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39B5D-C3C5-4481-823F-F8E40BA6A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DFB18-61EF-47E8-9CFC-1BEDBFE13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EEC17-D52B-4DF2-A24C-A1F76387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387F44-7CFF-45A3-B917-9189FA43C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4DB76-9F40-4028-85B6-A37F2C013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7080B-F42C-4080-90AA-DF64B566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CFF91-984A-4CEB-AA32-D8C1DB1D2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008B3-7BE2-4FA2-BB8D-1C7C833EB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B5B8-D870-4E9F-B4D1-BE57F79C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00E4C-0E8D-4E28-A6B5-B15CBACC4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DC15C-4C22-47E4-A3F5-8EBD23C4F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8561A-2157-4D39-AEB0-6E2E107C7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6B334-FAA4-4405-8950-88689A378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A0341-7D39-457E-AAC9-47F865C7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DC25BF-E0E6-4699-BD9D-E60414EC8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AFF4E-0344-4ECB-8A74-DF3ED90E4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D339C-05B5-47F3-9CE8-0A5536F6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5FD65-B1DD-4A50-9F2F-372AD35DF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16734-F9BE-42D1-ADE7-362CE84B3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78B1-C110-46C0-B07D-2C81727E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B2E65C-E334-4C90-9A5A-1E009103F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7F1F58-1FDD-4682-9EDA-0DF8FD1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9DE12-FDE5-4EBF-B2A0-43B6C909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32535-F45C-48A2-B649-A72C0BDBD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4036A-29B8-4AB9-8CA3-AB5BAECD0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FA4AB2-D86E-4AD2-BF27-E688A055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3847FE-EC00-4EEA-BD2B-2143EA2D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D20085-898F-401D-8E15-328FAE21C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7147F-9A04-43BC-BBD3-4F3C70C6A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2B56B-DEE3-4FA5-BB1C-F578087D2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522D-B711-438A-9067-DC05E45BC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58FD4-CA3C-49E6-B788-D8464AA5A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17FF-386C-4B42-9421-8EE37300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DD42-3738-4193-BD52-50D8F2C2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7639-5923-4387-9CE7-7714A3D4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1A84D-BF79-4088-B8EB-21F78BA68A85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64000" y="-6480"/>
            <a:ext cx="6486480" cy="6870960"/>
            <a:chOff x="2664000" y="-6480"/>
            <a:chExt cx="6486480" cy="687096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64000" y="-6480"/>
              <a:ext cx="64864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66880" y="0"/>
              <a:ext cx="64771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514AF-3745-4D87-9661-0B87E6DFDB27}" type="slidenum">
              <a:rPr b="0" lang="ru-RU" sz="11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8788-D9F7-4059-BE74-96E4880D44DC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4e7ed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B5A5F-8C31-4F44-B9F6-042DE8614D0B}" type="slidenum">
              <a:rPr b="0" lang="ru-RU" sz="1100" spc="-1" strike="noStrike">
                <a:solidFill>
                  <a:srgbClr val="f4e7ed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0400" y="-6480"/>
            <a:ext cx="1000080" cy="6870960"/>
            <a:chOff x="8150400" y="-6480"/>
            <a:chExt cx="1000080" cy="687096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0400" y="-6480"/>
              <a:ext cx="10000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3280" y="0"/>
              <a:ext cx="9907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b13f9a"/>
                </a:solidFill>
                <a:latin typeface="Trebuchet MS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C06D-4961-4DA0-991F-1D2FDC96A513}" type="slidenum">
              <a:rPr b="0" lang="ru-RU" sz="1100" spc="-1" strike="noStrike">
                <a:solidFill>
                  <a:srgbClr val="b13f9a"/>
                </a:solidFill>
                <a:latin typeface="Trebuchet MS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9.png"/><Relationship Id="rId4" Type="http://schemas.openxmlformats.org/officeDocument/2006/relationships/image" Target="../media/image43.png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wmf"/><Relationship Id="rId3" Type="http://schemas.openxmlformats.org/officeDocument/2006/relationships/image" Target="../media/image10.wmf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1" descr=""/>
          <p:cNvPicPr/>
          <p:nvPr/>
        </p:nvPicPr>
        <p:blipFill>
          <a:blip r:embed="rId1"/>
          <a:stretch/>
        </p:blipFill>
        <p:spPr>
          <a:xfrm>
            <a:off x="3852720" y="633240"/>
            <a:ext cx="5388120" cy="28846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2643120" y="3785760"/>
            <a:ext cx="6500880" cy="2428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Худайбергенов Гамзат Жапарович,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rebuchet MS"/>
              </a:rPr>
              <a:t>кафедра экспериментальной физики и радиофизики, 1 корпус ОмГУ, ауд. 234а, т. 64-44-92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 txBox="1"/>
          <p:nvPr/>
        </p:nvSpPr>
        <p:spPr>
          <a:xfrm>
            <a:off x="456840" y="1609200"/>
            <a:ext cx="49006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а тонкой линзы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и b — расстояния от линзы до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 и его изображени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a = ∞, т.е. лучи падают на линзу параллельным пучком (а), то b = f 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b = ∞, т.е. изображение находится в бесконечности (б), и,  следовательно, лучи выходят из линзы параллельным пучком, то a = f .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ные расстояния линзы, окруженной с обеих сторон одинаковой  средой, равн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5" name="Picture 5" descr=""/>
          <p:cNvPicPr/>
          <p:nvPr/>
        </p:nvPicPr>
        <p:blipFill>
          <a:blip r:embed="rId2"/>
          <a:stretch/>
        </p:blipFill>
        <p:spPr>
          <a:xfrm>
            <a:off x="3286080" y="1785960"/>
            <a:ext cx="1571760" cy="8269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2" descr=""/>
          <p:cNvPicPr/>
          <p:nvPr/>
        </p:nvPicPr>
        <p:blipFill>
          <a:blip r:embed="rId3"/>
          <a:srcRect l="2235" t="0" r="4486" b="0"/>
          <a:stretch/>
        </p:blipFill>
        <p:spPr>
          <a:xfrm>
            <a:off x="5167440" y="1571760"/>
            <a:ext cx="2976480" cy="1428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"/>
          <p:cNvPicPr/>
          <p:nvPr/>
        </p:nvPicPr>
        <p:blipFill>
          <a:blip r:embed="rId4"/>
          <a:srcRect l="4761" t="0" r="0" b="0"/>
          <a:stretch/>
        </p:blipFill>
        <p:spPr>
          <a:xfrm>
            <a:off x="5214960" y="3357720"/>
            <a:ext cx="2857320" cy="14414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6"/>
          <p:cNvSpPr/>
          <p:nvPr/>
        </p:nvSpPr>
        <p:spPr>
          <a:xfrm>
            <a:off x="500040" y="5500800"/>
            <a:ext cx="7358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Φ =1/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называется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еской силой линзы. Ее единица — диоптрия (дптр) — оптическая сила линзы с фокусным  расстоянием 1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 txBox="1"/>
          <p:nvPr/>
        </p:nvSpPr>
        <p:spPr>
          <a:xfrm>
            <a:off x="571680" y="1643040"/>
            <a:ext cx="482904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Линзы с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положительной оптической силой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являются </a:t>
            </a: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собирающими, с отрицательной — рассеивающим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отличие от собирающей линзы, рассеивающая линза имеет мнимые  фокусы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В мнимом фокусе сходятся (после преломления) воображаемые продолжения лучей, падающих на рассеивающую линзу параллельно главной оптической оси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Picture 2" descr=""/>
          <p:cNvPicPr/>
          <p:nvPr/>
        </p:nvPicPr>
        <p:blipFill>
          <a:blip r:embed="rId2"/>
          <a:stretch/>
        </p:blipFill>
        <p:spPr>
          <a:xfrm>
            <a:off x="5143680" y="3286080"/>
            <a:ext cx="2995560" cy="21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 txBox="1"/>
          <p:nvPr/>
        </p:nvSpPr>
        <p:spPr>
          <a:xfrm>
            <a:off x="519120" y="1609200"/>
            <a:ext cx="69105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rebuchet MS"/>
              </a:rPr>
              <a:t>Аберрации оптических систем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реальных оптических системах используются пучки отличающиеся от параксиальных, показатель преломления линз зависит от длины волны падающего света, а сам свет немонохроматичен. Искажения оптического изображения которые возникают при этом  называются </a:t>
            </a: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аберрациями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41148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ческая аберрация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”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лучей, более удаленных от оптической оси чем параксиальные, находится ближе, чем фокус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  <a:ea typeface="Tahoma"/>
              </a:rPr>
              <a:t>′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раксиальных лучей. В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е изображение светящейся точки имеет вид расплывчатого пятна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ческая аберрация является частным случаем астигматизма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через оптическую систем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 широкий пучок от точечног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а света, расположенного не 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еской оси, то получаемое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бражени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й точки будет в виде освещенного пят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ильной форм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ечным источником свет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источник, размерами которого можно пренебречь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2"/>
          <a:stretch/>
        </p:blipFill>
        <p:spPr>
          <a:xfrm>
            <a:off x="4429080" y="1643040"/>
            <a:ext cx="3729240" cy="17146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" descr=""/>
          <p:cNvPicPr/>
          <p:nvPr/>
        </p:nvPicPr>
        <p:blipFill>
          <a:blip r:embed="rId3"/>
          <a:stretch/>
        </p:blipFill>
        <p:spPr>
          <a:xfrm>
            <a:off x="4786200" y="3857760"/>
            <a:ext cx="31384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 txBox="1"/>
          <p:nvPr/>
        </p:nvSpPr>
        <p:spPr>
          <a:xfrm>
            <a:off x="457200" y="1609200"/>
            <a:ext cx="7238880" cy="160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игматизм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решность, обусловленная неодинаковостью кривизны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еской поверхности в разных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скостя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я падающего на нее светового пучка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0" name="Прямоугольник 6"/>
          <p:cNvSpPr/>
          <p:nvPr/>
        </p:nvSpPr>
        <p:spPr>
          <a:xfrm>
            <a:off x="428760" y="3071880"/>
            <a:ext cx="4643280" cy="30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Дисторсия.</a:t>
            </a:r>
            <a:r>
              <a:rPr b="1" i="1" lang="ru-RU" sz="1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rebuchet MS"/>
              </a:rPr>
              <a:t>Погрешность, при которой при больших углах падения лучей на линзу линейное увеличение для точек предмета, которые находятся на разных расстояниях от главной оптической оси, несколько различается. В результате нарушается геометрическое подобие между предм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1" name="Picture 2" descr=""/>
          <p:cNvPicPr/>
          <p:nvPr/>
        </p:nvPicPr>
        <p:blipFill>
          <a:blip r:embed="rId2"/>
          <a:stretch/>
        </p:blipFill>
        <p:spPr>
          <a:xfrm>
            <a:off x="5000760" y="3214800"/>
            <a:ext cx="3071520" cy="117792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8"/>
          <p:cNvSpPr/>
          <p:nvPr/>
        </p:nvSpPr>
        <p:spPr>
          <a:xfrm>
            <a:off x="5214960" y="4429080"/>
            <a:ext cx="3000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а) - прямоугольная сет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</a:rPr>
              <a:t>b)</a:t>
            </a: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 - подушкообразная дисторсия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rebuchet MS"/>
              </a:rPr>
              <a:t>c) - бочкообразная дисторс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142920" y="1499760"/>
            <a:ext cx="7786800" cy="36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Хроматическая аберрация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падении на оптическую систему белого света отдельные составляющие его монохроматические лучи фокусируются в разных точках (наибольшее фокусное расстояние имеют красные лучи, наименьшее — фиолетовые), поэтому изображение размыто и по краям окрашено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3286080" y="4214880"/>
            <a:ext cx="4473720" cy="157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699320" cy="11764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Фотометрия — раздел оптики, в котором рассматриваются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энергетические характеристики оптического излучения в процессах его испускания, распространения и взаимодействия с веществом. При этом значительное внимание уделяется  опросам измерения интенсивности света и его источников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rebuchet MS"/>
              </a:rPr>
              <a:t>Энергетические величины в фотометрии —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характеризуют энергетические параметры оптического излучения без учета особенностей его воздействия на тот или иной приемник излучения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 txBox="1"/>
          <p:nvPr/>
        </p:nvSpPr>
        <p:spPr>
          <a:xfrm>
            <a:off x="457200" y="1609200"/>
            <a:ext cx="46864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к излучения Φ</a:t>
            </a:r>
            <a:r>
              <a:rPr b="1" i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равная отношению энерги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лучения ко времен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за которое излучение произошло (мощность излучения). Единица потока излучения — ватт (Вт) 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Спектральная плотность потока излучения</a:t>
            </a:r>
            <a:r>
              <a:rPr b="0" lang="ru-RU" sz="2000" spc="-1" strike="noStrike">
                <a:solidFill>
                  <a:srgbClr val="000000"/>
                </a:solidFill>
                <a:latin typeface="Trebuchet MS"/>
              </a:rPr>
              <a:t> – это функция, показывающая распределение энергии по спектру излучения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2"/>
          <a:srcRect l="0" t="15766" r="0" b="10646"/>
          <a:stretch/>
        </p:blipFill>
        <p:spPr>
          <a:xfrm>
            <a:off x="5286240" y="1928880"/>
            <a:ext cx="1289160" cy="760320"/>
          </a:xfrm>
          <a:prstGeom prst="rect">
            <a:avLst/>
          </a:prstGeom>
          <a:ln w="0">
            <a:noFill/>
          </a:ln>
        </p:spPr>
      </p:pic>
      <p:pic>
        <p:nvPicPr>
          <p:cNvPr id="281" name="Рисунок 9" descr="http://cylib.iit.nau.edu.ua/Mirrors/aco.ifmo.ru/el_books/basics_optics/glava-2/image411.gif"/>
          <p:cNvPicPr/>
          <p:nvPr/>
        </p:nvPicPr>
        <p:blipFill>
          <a:blip r:embed="rId3"/>
          <a:stretch/>
        </p:blipFill>
        <p:spPr>
          <a:xfrm>
            <a:off x="5214960" y="4071960"/>
            <a:ext cx="2714760" cy="1643040"/>
          </a:xfrm>
          <a:prstGeom prst="rect">
            <a:avLst/>
          </a:prstGeom>
          <a:ln w="0">
            <a:noFill/>
          </a:ln>
        </p:spPr>
      </p:pic>
      <p:sp>
        <p:nvSpPr>
          <p:cNvPr id="282" name="Прямоугольник 10"/>
          <p:cNvSpPr/>
          <p:nvPr/>
        </p:nvSpPr>
        <p:spPr>
          <a:xfrm>
            <a:off x="5143680" y="5715000"/>
            <a:ext cx="32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rebuchet MS"/>
              </a:rPr>
              <a:t>Спектральная плотность потока излучения</a:t>
            </a:r>
            <a:r>
              <a:rPr b="0" i="1" lang="ru-RU" sz="1100" spc="-1" strike="noStrike">
                <a:solidFill>
                  <a:srgbClr val="000000"/>
                </a:solidFill>
                <a:latin typeface="Trebuchet MS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Рисунок 11" descr="http://cylib.iit.nau.edu.ua/Mirrors/aco.ifmo.ru/el_books/basics_optics/glava-2/image413.gif"/>
          <p:cNvPicPr/>
          <p:nvPr/>
        </p:nvPicPr>
        <p:blipFill>
          <a:blip r:embed="rId4"/>
          <a:stretch/>
        </p:blipFill>
        <p:spPr>
          <a:xfrm>
            <a:off x="2428920" y="5572080"/>
            <a:ext cx="1500120" cy="77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 txBox="1"/>
          <p:nvPr/>
        </p:nvSpPr>
        <p:spPr>
          <a:xfrm>
            <a:off x="456840" y="1609200"/>
            <a:ext cx="49719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rebuchet MS"/>
              </a:rPr>
              <a:t>Суммарный поток для всех длин волн в диапазоне от до будет вычисляться как интеграл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Энергетическая светимость </a:t>
            </a:r>
            <a:r>
              <a:rPr b="1" i="1" lang="en-US" sz="2200" spc="-1" strike="noStrike">
                <a:solidFill>
                  <a:srgbClr val="000000"/>
                </a:solidFill>
                <a:latin typeface="Trebuchet MS"/>
              </a:rPr>
              <a:t>R</a:t>
            </a:r>
            <a:r>
              <a:rPr b="1" i="1" lang="en-US" sz="2200" spc="-1" strike="noStrike" baseline="-25000">
                <a:solidFill>
                  <a:srgbClr val="000000"/>
                </a:solidFill>
                <a:latin typeface="Trebuchet MS"/>
              </a:rPr>
              <a:t>e</a:t>
            </a:r>
            <a:r>
              <a:rPr b="1" i="1" lang="en-US" sz="2200" spc="-1" strike="noStrike">
                <a:solidFill>
                  <a:srgbClr val="000000"/>
                </a:solidFill>
                <a:latin typeface="Trebuchet MS"/>
              </a:rPr>
              <a:t> —</a:t>
            </a:r>
            <a:r>
              <a:rPr b="1" i="1" lang="ru-RU" sz="22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, равная отношению потока излучения Φ</a:t>
            </a:r>
            <a:r>
              <a:rPr b="0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спускаемого поверхностью, к площади S сечения, сквозь  которое этот поток проходит (поверхностная плотность потока излучения). Единица энергетической светимости — ватт на метр в квадрате (Вт/м</a:t>
            </a:r>
            <a:r>
              <a:rPr b="0" lang="ru-RU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6" name="Picture 5" descr=""/>
          <p:cNvPicPr/>
          <p:nvPr/>
        </p:nvPicPr>
        <p:blipFill>
          <a:blip r:embed="rId2"/>
          <a:stretch/>
        </p:blipFill>
        <p:spPr>
          <a:xfrm>
            <a:off x="5929200" y="5357880"/>
            <a:ext cx="1249560" cy="857160"/>
          </a:xfrm>
          <a:prstGeom prst="rect">
            <a:avLst/>
          </a:prstGeom>
          <a:ln w="0">
            <a:noFill/>
          </a:ln>
        </p:spPr>
      </p:pic>
      <p:pic>
        <p:nvPicPr>
          <p:cNvPr id="287" name="Рисунок 9" descr="http://cylib.iit.nau.edu.ua/Mirrors/aco.ifmo.ru/el_books/basics_optics/glava-2/image411.gif"/>
          <p:cNvPicPr/>
          <p:nvPr/>
        </p:nvPicPr>
        <p:blipFill>
          <a:blip r:embed="rId3"/>
          <a:stretch/>
        </p:blipFill>
        <p:spPr>
          <a:xfrm>
            <a:off x="5214960" y="1571760"/>
            <a:ext cx="2857320" cy="1714320"/>
          </a:xfrm>
          <a:prstGeom prst="rect">
            <a:avLst/>
          </a:prstGeom>
          <a:ln w="0">
            <a:noFill/>
          </a:ln>
        </p:spPr>
      </p:pic>
      <p:pic>
        <p:nvPicPr>
          <p:cNvPr id="288" name="Рисунок 10" descr="http://cylib.iit.nau.edu.ua/Mirrors/aco.ifmo.ru/el_books/basics_optics/glava-2/image416.gif"/>
          <p:cNvPicPr/>
          <p:nvPr/>
        </p:nvPicPr>
        <p:blipFill>
          <a:blip r:embed="rId4"/>
          <a:stretch/>
        </p:blipFill>
        <p:spPr>
          <a:xfrm>
            <a:off x="2286000" y="2643120"/>
            <a:ext cx="1793880" cy="928800"/>
          </a:xfrm>
          <a:prstGeom prst="rect">
            <a:avLst/>
          </a:prstGeom>
          <a:ln w="0">
            <a:noFill/>
          </a:ln>
        </p:spPr>
      </p:pic>
      <p:pic>
        <p:nvPicPr>
          <p:cNvPr id="289" name="Рисунок 11" descr="http://cylib.iit.nau.edu.ua/Mirrors/aco.ifmo.ru/el_books/basics_optics/glava-2/image410.gif"/>
          <p:cNvPicPr/>
          <p:nvPr/>
        </p:nvPicPr>
        <p:blipFill>
          <a:blip r:embed="rId5"/>
          <a:stretch/>
        </p:blipFill>
        <p:spPr>
          <a:xfrm>
            <a:off x="6000840" y="3714840"/>
            <a:ext cx="13032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457200" y="1609200"/>
            <a:ext cx="50436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излучения (энергетическая сила света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оток излучения, приходящийся на единицу телесного угла, в пределах которого он распространяется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ой силы света —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т на стерадиан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т/ср).</a:t>
            </a:r>
            <a:r>
              <a:rPr b="1" lang="ru-RU" sz="20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сный угол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нного конуса равен отношению площади поверхности, вырезанной на сфере конусом, к квадрату радиуса сферы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Рисунок 3" descr="http://cylib.iit.nau.edu.ua/Mirrors/aco.ifmo.ru/el_books/basics_optics/glava-2/image431.gif"/>
          <p:cNvPicPr/>
          <p:nvPr/>
        </p:nvPicPr>
        <p:blipFill>
          <a:blip r:embed="rId2"/>
          <a:stretch/>
        </p:blipFill>
        <p:spPr>
          <a:xfrm>
            <a:off x="5857920" y="1714680"/>
            <a:ext cx="1239840" cy="933120"/>
          </a:xfrm>
          <a:prstGeom prst="rect">
            <a:avLst/>
          </a:prstGeom>
          <a:ln w="0">
            <a:noFill/>
          </a:ln>
        </p:spPr>
      </p:pic>
      <p:pic>
        <p:nvPicPr>
          <p:cNvPr id="293" name="Рисунок 4" descr="http://cylib.iit.nau.edu.ua/Mirrors/aco.ifmo.ru/el_books/basics_optics/glava-2/image696.gif"/>
          <p:cNvPicPr/>
          <p:nvPr/>
        </p:nvPicPr>
        <p:blipFill>
          <a:blip r:embed="rId3"/>
          <a:stretch/>
        </p:blipFill>
        <p:spPr>
          <a:xfrm>
            <a:off x="5143680" y="3000240"/>
            <a:ext cx="3000240" cy="2316240"/>
          </a:xfrm>
          <a:prstGeom prst="rect">
            <a:avLst/>
          </a:prstGeom>
          <a:ln w="0">
            <a:noFill/>
          </a:ln>
        </p:spPr>
      </p:pic>
      <p:pic>
        <p:nvPicPr>
          <p:cNvPr id="294" name="Рисунок 5" descr="http://cylib.iit.nau.edu.ua/Mirrors/aco.ifmo.ru/el_books/basics_optics/glava-2/image428.gif"/>
          <p:cNvPicPr/>
          <p:nvPr/>
        </p:nvPicPr>
        <p:blipFill>
          <a:blip r:embed="rId4"/>
          <a:stretch/>
        </p:blipFill>
        <p:spPr>
          <a:xfrm>
            <a:off x="6000840" y="5500800"/>
            <a:ext cx="966600" cy="8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212760" y="317520"/>
            <a:ext cx="7493040" cy="11509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ка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раздел физики, который изучает природу света, световые явления и взаимодействие света с веществом.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еское излучение представляет собой электромагнитные волны, и поэтому оптика является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ью общего учения об электромагнитном пол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висимости от круга рассматриваемых явлений оптику делят на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ческу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учевую)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нову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физическую),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lnSpc>
                <a:spcPct val="100000"/>
              </a:lnSpc>
              <a:spcBef>
                <a:spcPts val="400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нтовую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рпускулярную)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609560"/>
            <a:ext cx="5043600" cy="40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ая яркость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это величина потока, излучаемого единицей площади в единицу телесного угла в данном направлении.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диница </a:t>
            </a: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ергетической яркости — 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т на стерадиан-метр в квадрате 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т/(ср·м</a:t>
            </a:r>
            <a:r>
              <a:rPr b="1" i="1" lang="ru-RU" sz="19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)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7" name="Рисунок 6" descr="http://cylib.iit.nau.edu.ua/Mirrors/aco.ifmo.ru/el_books/basics_optics/glava-2/image697.gif"/>
          <p:cNvPicPr/>
          <p:nvPr/>
        </p:nvPicPr>
        <p:blipFill>
          <a:blip r:embed="rId2"/>
          <a:stretch/>
        </p:blipFill>
        <p:spPr>
          <a:xfrm>
            <a:off x="5143680" y="1500120"/>
            <a:ext cx="2928600" cy="1857600"/>
          </a:xfrm>
          <a:prstGeom prst="rect">
            <a:avLst/>
          </a:prstGeom>
          <a:ln w="0">
            <a:noFill/>
          </a:ln>
        </p:spPr>
      </p:pic>
      <p:pic>
        <p:nvPicPr>
          <p:cNvPr id="298" name="Рисунок 8" descr="http://cylib.iit.nau.edu.ua/Mirrors/aco.ifmo.ru/el_books/basics_optics/glava-2/image445.gif"/>
          <p:cNvPicPr/>
          <p:nvPr/>
        </p:nvPicPr>
        <p:blipFill>
          <a:blip r:embed="rId3"/>
          <a:stretch/>
        </p:blipFill>
        <p:spPr>
          <a:xfrm>
            <a:off x="2286000" y="3500280"/>
            <a:ext cx="2143080" cy="857520"/>
          </a:xfrm>
          <a:prstGeom prst="rect">
            <a:avLst/>
          </a:prstGeom>
          <a:ln w="0">
            <a:noFill/>
          </a:ln>
        </p:spPr>
      </p:pic>
      <p:sp>
        <p:nvSpPr>
          <p:cNvPr id="299" name="Прямоугольник 9"/>
          <p:cNvSpPr/>
          <p:nvPr/>
        </p:nvSpPr>
        <p:spPr>
          <a:xfrm>
            <a:off x="571680" y="4286160"/>
            <a:ext cx="72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угол между направлением излучения и нормалью к площадк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10"/>
          <p:cNvSpPr/>
          <p:nvPr/>
        </p:nvSpPr>
        <p:spPr>
          <a:xfrm>
            <a:off x="571680" y="464328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ральная плотность энергетической яркост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казывает распределение энергетической яркости по спект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Рисунок 11" descr="http://cylib.iit.nau.edu.ua/Mirrors/aco.ifmo.ru/el_books/basics_optics/glava-2/image448.gif"/>
          <p:cNvPicPr/>
          <p:nvPr/>
        </p:nvPicPr>
        <p:blipFill>
          <a:blip r:embed="rId4"/>
          <a:stretch/>
        </p:blipFill>
        <p:spPr>
          <a:xfrm>
            <a:off x="2714760" y="5286240"/>
            <a:ext cx="185724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6840" y="1609200"/>
            <a:ext cx="432900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прямолинейного распространения света 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в оптически однородной среде распространяется прямолинейно.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8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Световой луч </a:t>
            </a:r>
            <a:r>
              <a:rPr b="0" lang="ru-RU" sz="16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— линия, вдоль которой переносится световая энергия. В однородной среде лучи света представляют собой прямые линии. Закон независимости световых пучков </a:t>
            </a:r>
            <a:r>
              <a:rPr b="1" lang="ru-RU" sz="16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эффект, производимый отдельным пучком, не зависит от того, действуют ли одновременно остальные пучки или они устранены.</a:t>
            </a:r>
            <a:endParaRPr b="0" lang="en-US" sz="1600" spc="-1" strike="noStrike">
              <a:solidFill>
                <a:srgbClr val="6c6c6c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отражения —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енный луч лежит в одной плоскости с падающим лучом и перпендикуляром, проведенным к границе раздела двух сред в точке падения; угол отраже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i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`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ен углу падения 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lang="ru-RU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6" name="Рисунок 3" descr=""/>
          <p:cNvPicPr/>
          <p:nvPr/>
        </p:nvPicPr>
        <p:blipFill>
          <a:blip r:embed="rId2"/>
          <a:stretch/>
        </p:blipFill>
        <p:spPr>
          <a:xfrm>
            <a:off x="4857840" y="2786040"/>
            <a:ext cx="3286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 txBox="1"/>
          <p:nvPr/>
        </p:nvSpPr>
        <p:spPr>
          <a:xfrm>
            <a:off x="456840" y="1609200"/>
            <a:ext cx="425772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преломления 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 падающий, луч преломленный и перпендикуляр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веденный к границе раздела двух сред в точке падения, лежат в одной плоскости; отношение синуса угла падения к синусу угла преломления есть величина постоянная для данных сред, где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носительный показатель преломл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среды относительно первой, который равен отношению абсолютных показателей преломления двух сред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закон преломления будет иметь вид: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олютным показателем преломления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ы называется величина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равная отношению скорости электромагнитных волн в вакууме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их фазовой скорости </a:t>
            </a:r>
            <a:r>
              <a:rPr b="1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среде. Поскольку 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ветственно электрическая и магнитная проницаемость среды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9" name="Рисунок 3" descr=""/>
          <p:cNvPicPr/>
          <p:nvPr/>
        </p:nvPicPr>
        <p:blipFill>
          <a:blip r:embed="rId2"/>
          <a:stretch/>
        </p:blipFill>
        <p:spPr>
          <a:xfrm>
            <a:off x="4857840" y="1714680"/>
            <a:ext cx="3286080" cy="214308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6" descr=""/>
          <p:cNvPicPr/>
          <p:nvPr/>
        </p:nvPicPr>
        <p:blipFill>
          <a:blip r:embed="rId3"/>
          <a:stretch/>
        </p:blipFill>
        <p:spPr>
          <a:xfrm>
            <a:off x="928800" y="5286240"/>
            <a:ext cx="3214440" cy="5000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3" descr=""/>
          <p:cNvPicPr/>
          <p:nvPr/>
        </p:nvPicPr>
        <p:blipFill>
          <a:blip r:embed="rId4"/>
          <a:stretch/>
        </p:blipFill>
        <p:spPr>
          <a:xfrm>
            <a:off x="5000760" y="4572000"/>
            <a:ext cx="100476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212760" y="706320"/>
            <a:ext cx="7493040" cy="7621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560"/>
            <a:ext cx="7238880" cy="89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свет распространяется из среды с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óльшим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ем преломления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(оптически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плотной) в среду с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éньшим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ем преломления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(оптически менее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отную) (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&gt; </a:t>
            </a:r>
            <a:r>
              <a:rPr b="0" i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) (например, из стекла в воздух или из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ы в воздух), то</a:t>
            </a: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2"/>
          <a:stretch/>
        </p:blipFill>
        <p:spPr>
          <a:xfrm>
            <a:off x="2928960" y="2428920"/>
            <a:ext cx="1897200" cy="8064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3"/>
          <a:stretch/>
        </p:blipFill>
        <p:spPr>
          <a:xfrm>
            <a:off x="5715000" y="2928960"/>
            <a:ext cx="2286000" cy="200988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6"/>
          <p:cNvSpPr/>
          <p:nvPr/>
        </p:nvSpPr>
        <p:spPr>
          <a:xfrm>
            <a:off x="500040" y="3500280"/>
            <a:ext cx="5715000" cy="24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тельно, угол преломлени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ольше угла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дени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 Увеличивая угол падения, при некотором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ом угле i</a:t>
            </a:r>
            <a:r>
              <a:rPr b="1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р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ол преломления окажется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ым 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. При углах падени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i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есь падающий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остью отражаетс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глах падения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пр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i</a:t>
            </a:r>
            <a:r>
              <a:rPr b="0" i="1" lang="ru-RU" sz="1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π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луч не преломляется, а полностью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ражается в первую среду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явление называется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ым внутренним отражением све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ельный угол определяется соотношением</a:t>
            </a:r>
            <a:r>
              <a:rPr b="0" lang="ru-RU" sz="16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5" descr=""/>
          <p:cNvPicPr/>
          <p:nvPr/>
        </p:nvPicPr>
        <p:blipFill>
          <a:blip r:embed="rId4"/>
          <a:stretch/>
        </p:blipFill>
        <p:spPr>
          <a:xfrm>
            <a:off x="2357280" y="5857920"/>
            <a:ext cx="2652840" cy="6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311040" y="291960"/>
            <a:ext cx="7821720" cy="11764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зой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прозрачное тело, ограниченное с двух сторон криволинейной поверхностью. (В частном случае одна из поверхностей может быть плоской)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внешней форме линзы делятся н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1) </a:t>
            </a:r>
            <a:r>
              <a:rPr b="1" lang="ru-RU" sz="21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двояковыпуклые;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2) плосковыпуклые;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3) двояковогнутые; 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4) плосковогнутые;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  <a:p>
            <a:pPr lvl="1" marL="520560" indent="-228600">
              <a:lnSpc>
                <a:spcPct val="100000"/>
              </a:lnSpc>
              <a:spcBef>
                <a:spcPts val="499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6c6c6c"/>
                </a:solidFill>
                <a:latin typeface="Times New Roman"/>
                <a:ea typeface="Times New Roman"/>
              </a:rPr>
              <a:t>5) выпукло-вогнутые.</a:t>
            </a:r>
            <a:endParaRPr b="0" lang="en-US" sz="2100" spc="-1" strike="noStrike">
              <a:solidFill>
                <a:srgbClr val="6c6c6c"/>
              </a:solidFill>
              <a:latin typeface="Trebuchet MS"/>
            </a:endParaRPr>
          </a:p>
        </p:txBody>
      </p:sp>
      <p:pic>
        <p:nvPicPr>
          <p:cNvPr id="240" name="Picture 3" descr=""/>
          <p:cNvPicPr/>
          <p:nvPr/>
        </p:nvPicPr>
        <p:blipFill>
          <a:blip r:embed="rId2"/>
          <a:srcRect l="2399" t="8796" r="0" b="0"/>
          <a:stretch/>
        </p:blipFill>
        <p:spPr>
          <a:xfrm>
            <a:off x="4286160" y="3857760"/>
            <a:ext cx="291960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 txBox="1"/>
          <p:nvPr/>
        </p:nvSpPr>
        <p:spPr>
          <a:xfrm>
            <a:off x="456840" y="1609200"/>
            <a:ext cx="45435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за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ой,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ее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щина значительно меньше, чем радиусы кривизн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R</a:t>
            </a:r>
            <a:r>
              <a:rPr b="0" i="1" lang="ru-RU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их поверхностей. На оптических схемах линзы обычно обозначают двунаправленной стрелко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ус кривизны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 &gt; 0 для выпуклой поверхности; R &lt; 0 для вогнутой.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мая проходящая через центры кривизны поверхностей линзы называется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оптической осью. </a:t>
            </a:r>
            <a:endParaRPr b="0" lang="en-US" sz="2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Picture 2" descr=""/>
          <p:cNvPicPr/>
          <p:nvPr/>
        </p:nvPicPr>
        <p:blipFill>
          <a:blip r:embed="rId2"/>
          <a:stretch/>
        </p:blipFill>
        <p:spPr>
          <a:xfrm>
            <a:off x="4929120" y="2357280"/>
            <a:ext cx="321480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6840" y="1609200"/>
            <a:ext cx="4614840" cy="29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тическим центром линз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обычно обозначается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точка, лежащая на главной оптической оси и обладающая тем свойством, что лучи проходят сквозь нее не преломляясь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бочными оптическими осям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ются прямые, проходящие через оптический центр линзы и не совпадающие с главной оптической осью.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214800" cy="182088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5"/>
          <p:cNvSpPr/>
          <p:nvPr/>
        </p:nvSpPr>
        <p:spPr>
          <a:xfrm>
            <a:off x="500040" y="4429080"/>
            <a:ext cx="735804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усом линзы F называется точка, лежащая на главной оптической оси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ой пересекаются лучи 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ксиального (приосевого) светового пучка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остраняющиеся параллельно главной оптической о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кальной плоскостью называется плоскость, проходящая через фокус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нзы перпендикулярно ее главной оптической о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Заголовок 1" descr=""/>
          <p:cNvPicPr/>
          <p:nvPr/>
        </p:nvPicPr>
        <p:blipFill>
          <a:blip r:embed="rId1"/>
          <a:stretch/>
        </p:blipFill>
        <p:spPr>
          <a:xfrm>
            <a:off x="244440" y="291960"/>
            <a:ext cx="7461360" cy="1176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4400640" cy="267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Фокусным расстоянием f  называется расстояние между оптическим </a:t>
            </a: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центром линзы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O и ее фокусом F 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0" name="Picture 2" descr=""/>
          <p:cNvPicPr/>
          <p:nvPr/>
        </p:nvPicPr>
        <p:blipFill>
          <a:blip r:embed="rId2"/>
          <a:stretch/>
        </p:blipFill>
        <p:spPr>
          <a:xfrm>
            <a:off x="4857840" y="1714680"/>
            <a:ext cx="3190680" cy="14284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"/>
          <p:cNvPicPr/>
          <p:nvPr/>
        </p:nvPicPr>
        <p:blipFill>
          <a:blip r:embed="rId3"/>
          <a:srcRect l="4761" t="0" r="0" b="0"/>
          <a:stretch/>
        </p:blipFill>
        <p:spPr>
          <a:xfrm>
            <a:off x="4929120" y="3357720"/>
            <a:ext cx="2857680" cy="14414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"/>
          <p:cNvPicPr/>
          <p:nvPr/>
        </p:nvPicPr>
        <p:blipFill>
          <a:blip r:embed="rId4"/>
          <a:srcRect l="0" t="0" r="0" b="1890"/>
          <a:stretch/>
        </p:blipFill>
        <p:spPr>
          <a:xfrm>
            <a:off x="1071720" y="3929040"/>
            <a:ext cx="285732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07:51:52Z</dcterms:created>
  <dc:creator>user</dc:creator>
  <dc:description/>
  <dc:language>en-US</dc:language>
  <cp:lastModifiedBy>user</cp:lastModifiedBy>
  <dcterms:modified xsi:type="dcterms:W3CDTF">2009-02-18T06:55:25Z</dcterms:modified>
  <cp:revision>50</cp:revision>
  <dc:subject/>
  <dc:title>Оптика</dc:title>
</cp:coreProperties>
</file>