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.png" ContentType="image/png"/>
  <Override PartName="/ppt/media/image34.png" ContentType="image/png"/>
  <Override PartName="/ppt/media/image27.png" ContentType="image/png"/>
  <Override PartName="/ppt/media/image7.wmf" ContentType="image/x-wmf"/>
  <Override PartName="/ppt/media/image19.wmf" ContentType="image/x-wmf"/>
  <Override PartName="/ppt/media/image21.png" ContentType="image/png"/>
  <Override PartName="/ppt/media/image8.png" ContentType="image/png"/>
  <Override PartName="/ppt/media/image38.png" ContentType="image/png"/>
  <Override PartName="/ppt/media/image16.wmf" ContentType="image/x-wmf"/>
  <Override PartName="/ppt/media/image3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32.png" ContentType="image/png"/>
  <Override PartName="/ppt/media/image25.png" ContentType="image/png"/>
  <Override PartName="/ppt/media/image1.png" ContentType="image/png"/>
  <Override PartName="/ppt/media/image31.png" ContentType="image/png"/>
  <Override PartName="/ppt/media/image24.png" ContentType="image/png"/>
  <Override PartName="/ppt/media/image60.png" ContentType="image/png"/>
  <Override PartName="/ppt/media/image23.png" ContentType="image/png"/>
  <Override PartName="/ppt/media/image20.wmf" ContentType="image/x-wmf"/>
  <Override PartName="/ppt/media/image22.png" ContentType="image/png"/>
  <Override PartName="/ppt/media/image36.jpeg" ContentType="image/jpeg"/>
  <Override PartName="/ppt/media/image58.png" ContentType="image/png"/>
  <Override PartName="/ppt/media/image15.wmf" ContentType="image/x-wmf"/>
  <Override PartName="/ppt/media/image54.png" ContentType="image/png"/>
  <Override PartName="/ppt/media/image29.png" ContentType="image/png"/>
  <Override PartName="/ppt/media/image57.png" ContentType="image/png"/>
  <Override PartName="/ppt/media/image14.wmf" ContentType="image/x-wmf"/>
  <Override PartName="/ppt/media/image53.png" ContentType="image/png"/>
  <Override PartName="/ppt/media/image12.wmf" ContentType="image/x-wmf"/>
  <Override PartName="/ppt/media/image51.png" ContentType="image/png"/>
  <Override PartName="/ppt/media/image9.png" ContentType="image/png"/>
  <Override PartName="/ppt/media/image39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56.png" ContentType="image/png"/>
  <Override PartName="/ppt/media/image13.wmf" ContentType="image/x-wmf"/>
  <Override PartName="/ppt/media/image52.png" ContentType="image/png"/>
  <Override PartName="/ppt/media/image17.wmf" ContentType="image/x-wmf"/>
  <Override PartName="/ppt/media/image10.jpeg" ContentType="image/jpeg"/>
  <Override PartName="/ppt/media/image18.wmf" ContentType="image/x-wmf"/>
  <Override PartName="/ppt/media/image6.wmf" ContentType="image/x-wmf"/>
  <Override PartName="/ppt/media/image11.png" ContentType="image/png"/>
  <Override PartName="/ppt/media/image48.png" ContentType="image/png"/>
  <Override PartName="/ppt/media/image30.png" ContentType="image/png"/>
  <Override PartName="/ppt/media/image37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55.jpeg" ContentType="image/jpe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7.png" ContentType="image/png"/>
  <Override PartName="/ppt/media/image49.png" ContentType="image/png"/>
  <Override PartName="/ppt/media/image5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0866-E3C6-4CE5-9265-A09943533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CBF5-9F90-497D-95C5-7DC24FDB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A8FD-3060-477A-BA62-FC9D70BC6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47A2-276C-4D0E-A5B0-00373D660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4989-0ED9-46E0-B319-4A3CA67D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7AE9-2A3B-47C2-B1A5-408CC0F0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78C7-7C95-428B-A7BA-ED85C1A84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AFD9-7796-49E3-BD67-38985CE5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F1D2-AF1A-45BC-B2DF-F45A48657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4E36-608F-4D65-9FD9-D900DB314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B940-1F1D-4CDD-9D23-F87EE5E0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629B-5A46-4EBF-A3B7-253586E44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B6B23-90A6-471A-BF81-758EF92481C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50.png"/><Relationship Id="rId6" Type="http://schemas.openxmlformats.org/officeDocument/2006/relationships/image" Target="../media/image51.png"/><Relationship Id="rId7" Type="http://schemas.openxmlformats.org/officeDocument/2006/relationships/image" Target="../media/image52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image" Target="../media/image56.png"/><Relationship Id="rId4" Type="http://schemas.openxmlformats.org/officeDocument/2006/relationships/image" Target="../media/image57.png"/><Relationship Id="rId5" Type="http://schemas.openxmlformats.org/officeDocument/2006/relationships/image" Target="../media/image58.png"/><Relationship Id="rId6" Type="http://schemas.openxmlformats.org/officeDocument/2006/relationships/image" Target="../media/image59.jpeg"/><Relationship Id="rId7" Type="http://schemas.openxmlformats.org/officeDocument/2006/relationships/image" Target="../media/image60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ифракция св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20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фракция света. Спираль Корн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rcRect l="0" t="0" r="0" b="9965"/>
          <a:stretch/>
        </p:blipFill>
        <p:spPr>
          <a:xfrm>
            <a:off x="5948280" y="620640"/>
            <a:ext cx="3195720" cy="273204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304200" y="784080"/>
            <a:ext cx="60616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ем вектор – амплитуду в точ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лежащей праве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ой точке спирали Корню соответству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енное значение некоторого парамет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арамет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вязан с расстоянием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тсчитываем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точк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 интересующей точк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лно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ерхн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формул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длина волны света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тоя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 экраном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волновой поверхност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точк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ходится правее точк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 прав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асть поверхностью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точк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лностью откры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соответствует вектору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и перемеще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бласть геометрической тени, т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спирали Корню перемещается впра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точк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>
            <a:off x="5508720" y="3500280"/>
            <a:ext cx="3517920" cy="2262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835280" y="2781360"/>
            <a:ext cx="180792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6080"/>
          </a:xfrm>
          <a:prstGeom prst="rect">
            <a:avLst/>
          </a:prstGeom>
          <a:noFill/>
          <a:ln w="0">
            <a:noFill/>
          </a:ln>
        </p:spPr>
        <p:txBody>
          <a:bodyPr tIns="360" bIns="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фракция света. Спираль Корн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1"/>
          <a:stretch/>
        </p:blipFill>
        <p:spPr>
          <a:xfrm>
            <a:off x="5216400" y="1052640"/>
            <a:ext cx="3927600" cy="3519360"/>
          </a:xfrm>
          <a:prstGeom prst="rect">
            <a:avLst/>
          </a:prstGeom>
          <a:ln w="0">
            <a:noFill/>
          </a:ln>
        </p:spPr>
      </p:pic>
      <p:sp>
        <p:nvSpPr>
          <p:cNvPr id="87" name="TextBox 4"/>
          <p:cNvSpPr/>
          <p:nvPr/>
        </p:nvSpPr>
        <p:spPr>
          <a:xfrm>
            <a:off x="-7920" y="1143000"/>
            <a:ext cx="5586480" cy="32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перемещении точк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право от точк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 спирали Корню (начало вектор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ет перемещаться по левой ветви спирал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.к. слева от точк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удут открываться все н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оны, что приводит к тому, что амплитуда в точ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 удалении ее от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удут последователь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ходить через максимум и минимум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личия между которыми постепен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ьшается и интенсивность приближ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 значению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2"/>
          <a:srcRect l="0" t="3461" r="0" b="0"/>
          <a:stretch/>
        </p:blipFill>
        <p:spPr>
          <a:xfrm>
            <a:off x="214200" y="4214880"/>
            <a:ext cx="4714920" cy="23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фракция Френеля на ще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6072120" y="571680"/>
            <a:ext cx="2465280" cy="171432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4" descr="Diffraction1.png"/>
          <p:cNvPicPr/>
          <p:nvPr/>
        </p:nvPicPr>
        <p:blipFill>
          <a:blip r:embed="rId2"/>
          <a:srcRect l="7839" t="82544" r="5359" b="5640"/>
          <a:stretch/>
        </p:blipFill>
        <p:spPr>
          <a:xfrm>
            <a:off x="6000840" y="2357280"/>
            <a:ext cx="2589120" cy="295560"/>
          </a:xfrm>
          <a:prstGeom prst="rect">
            <a:avLst/>
          </a:prstGeom>
          <a:ln w="0">
            <a:noFill/>
          </a:ln>
        </p:spPr>
      </p:pic>
      <p:pic>
        <p:nvPicPr>
          <p:cNvPr id="92" name="Рисунок 6" descr="image5_27.gif"/>
          <p:cNvPicPr/>
          <p:nvPr/>
        </p:nvPicPr>
        <p:blipFill>
          <a:blip r:embed="rId3"/>
          <a:stretch/>
        </p:blipFill>
        <p:spPr>
          <a:xfrm>
            <a:off x="5715000" y="2571840"/>
            <a:ext cx="3359160" cy="220824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7" descr="image5_26.gif"/>
          <p:cNvPicPr/>
          <p:nvPr/>
        </p:nvPicPr>
        <p:blipFill>
          <a:blip r:embed="rId4"/>
          <a:stretch/>
        </p:blipFill>
        <p:spPr>
          <a:xfrm>
            <a:off x="714240" y="500040"/>
            <a:ext cx="4546800" cy="2332080"/>
          </a:xfrm>
          <a:prstGeom prst="rect">
            <a:avLst/>
          </a:prstGeom>
          <a:ln w="0">
            <a:noFill/>
          </a:ln>
        </p:spPr>
      </p:pic>
      <p:sp>
        <p:nvSpPr>
          <p:cNvPr id="94" name="TextBox 8"/>
          <p:cNvSpPr/>
          <p:nvPr/>
        </p:nvSpPr>
        <p:spPr>
          <a:xfrm>
            <a:off x="21600" y="3214800"/>
            <a:ext cx="5717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на щель ширин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плоск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розрачном экране падает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ская ЭМ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ем поле волны на экране на расстоя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 щели. Для графико-аналитического реш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 используем метод зон Френе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есконечно удалённого источника, (см. рис. b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да поле в точке наблюдения можно определ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омощью спирали Корню в зависимости от числ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тых зон Френеля в точке наблюд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ходящейся на экра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29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фракция Фраунгоф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6786720" y="571680"/>
            <a:ext cx="2189160" cy="2366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142920" y="1071720"/>
            <a:ext cx="83138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им плоскую световую волну падающую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щель ширино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Мысленно разобьем щель на уз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инаковые по ширине зоны, параллель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ямолинейным краям щели. Суммирование вторич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н проведем с помощью векторной диаграмм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ебания, приходящие в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 каждой зоны имею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инаковую амплитуду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ри этом разность ф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жду колебаниями, приходящими в т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 соседних зон, будет одинак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ость фаз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вязана с разностью хода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отнош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длина волны света.  Разность хода определяется ка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 sin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при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итоге получим условие минимум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тим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скольку пр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уется максимум (цепочка векторов становится прямо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2"/>
          <a:stretch/>
        </p:blipFill>
        <p:spPr>
          <a:xfrm>
            <a:off x="3857760" y="3571920"/>
            <a:ext cx="1087200" cy="6429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"/>
          <p:cNvPicPr/>
          <p:nvPr/>
        </p:nvPicPr>
        <p:blipFill>
          <a:blip r:embed="rId3"/>
          <a:stretch/>
        </p:blipFill>
        <p:spPr>
          <a:xfrm>
            <a:off x="3143160" y="5143680"/>
            <a:ext cx="307332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0040" y="1425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фракция Фраунгофера. Распределение интенсив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5857920" y="785880"/>
            <a:ext cx="3214800" cy="25113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4"/>
          <p:cNvSpPr/>
          <p:nvPr/>
        </p:nvSpPr>
        <p:spPr>
          <a:xfrm>
            <a:off x="0" y="1000080"/>
            <a:ext cx="5286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ем интенсивность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вета на экране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исимости от угла дифракции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означим радиус цепочки – дуги через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 результа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лючая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этих соотношений, получ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так как          , то искомая зависимость будет иметь в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тличие от Френелевской дифракции  в центре всегда максиму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1285920" y="2214720"/>
            <a:ext cx="2739960" cy="642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"/>
          <p:cNvPicPr/>
          <p:nvPr/>
        </p:nvPicPr>
        <p:blipFill>
          <a:blip r:embed="rId3"/>
          <a:stretch/>
        </p:blipFill>
        <p:spPr>
          <a:xfrm>
            <a:off x="1643040" y="3286080"/>
            <a:ext cx="1500120" cy="561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"/>
          <p:cNvPicPr/>
          <p:nvPr/>
        </p:nvPicPr>
        <p:blipFill>
          <a:blip r:embed="rId4"/>
          <a:stretch/>
        </p:blipFill>
        <p:spPr>
          <a:xfrm>
            <a:off x="1071720" y="4071960"/>
            <a:ext cx="571320" cy="253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"/>
          <p:cNvPicPr/>
          <p:nvPr/>
        </p:nvPicPr>
        <p:blipFill>
          <a:blip r:embed="rId5"/>
          <a:stretch/>
        </p:blipFill>
        <p:spPr>
          <a:xfrm>
            <a:off x="1785960" y="4643280"/>
            <a:ext cx="1563840" cy="7146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"/>
          <p:cNvPicPr/>
          <p:nvPr/>
        </p:nvPicPr>
        <p:blipFill>
          <a:blip r:embed="rId6"/>
          <a:stretch/>
        </p:blipFill>
        <p:spPr>
          <a:xfrm>
            <a:off x="500040" y="5429160"/>
            <a:ext cx="2857680" cy="297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8" descr=""/>
          <p:cNvPicPr/>
          <p:nvPr/>
        </p:nvPicPr>
        <p:blipFill>
          <a:blip r:embed="rId7"/>
          <a:stretch/>
        </p:blipFill>
        <p:spPr>
          <a:xfrm>
            <a:off x="5357880" y="4572000"/>
            <a:ext cx="37861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фракция Фраунгофера. Дифракционная реше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214200" y="1214280"/>
            <a:ext cx="5500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фракционная решетка – представляет стеклянную или металлическую пластинку, на которых нанесено большое количество (до сотен тысяч) прямых  равностоящих штрихов одинаковой конфигур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ширина каждой щели равн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период решетк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решетке реализуется многолучевая интерференция когерентных дифрагированных пучков света, исходящих из щелей решетки при ее освещен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плоская монохроматическая световая волна падает на решетку нормально. Каждая из щелей в отдельности будет давать дифракционную карти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овые волны от всех щелей будут интерферируют  друг с друг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Рисунок 5" descr="9035.jpg"/>
          <p:cNvPicPr/>
          <p:nvPr/>
        </p:nvPicPr>
        <p:blipFill>
          <a:blip r:embed="rId1"/>
          <a:srcRect l="14845" t="9373" r="14845" b="6248"/>
          <a:stretch/>
        </p:blipFill>
        <p:spPr>
          <a:xfrm>
            <a:off x="6357960" y="928800"/>
            <a:ext cx="2143080" cy="1928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6215040" y="3143160"/>
            <a:ext cx="26910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фракция Фраунгофера. Дифракционная реше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357120" y="1000080"/>
            <a:ext cx="8786880" cy="51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ередину дифракционной картины когерентные колебания от всех щ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ходят в фазе. Если амплитуда от одной щели равн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число щеле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 результирующая амплиту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интенсивность будет определятьс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ут определяться формул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ой же результат получается и при углах дифракции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для котор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тическая разность хода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лебаний от соседних щелей равна целому числ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н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знаки «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 следуют из симметрии дифракционной картины относитель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рмали к решетки: при знаке «+» угол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при знаке «-»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направлениях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пределяемых этим уравнением, возникают максимумы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нсивность которых в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 превосходят интенсивность от каждой щели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м же направлении, называемыми главными максимумам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 порядка, а уравнение – условием главными максиму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3143160" y="2214720"/>
            <a:ext cx="2516400" cy="3571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3000240" y="3500280"/>
            <a:ext cx="4214880" cy="6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фракция Фраунгофера. Дифракционная реше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6357960" y="857160"/>
            <a:ext cx="2786040" cy="2494080"/>
          </a:xfrm>
          <a:prstGeom prst="rect">
            <a:avLst/>
          </a:prstGeom>
          <a:ln w="0">
            <a:noFill/>
          </a:ln>
        </p:spPr>
      </p:pic>
      <p:sp>
        <p:nvSpPr>
          <p:cNvPr id="119" name="TextBox 4"/>
          <p:cNvSpPr/>
          <p:nvPr/>
        </p:nvSpPr>
        <p:spPr>
          <a:xfrm>
            <a:off x="374400" y="1071720"/>
            <a:ext cx="6949080" cy="56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кторная диаграмма представляет собой цепоч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кторов-амплитуд когерентных колебаний, приходящ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очку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 каждой из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щелей: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…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|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|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|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=|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вектор отстает 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ыдущего по фазе на один тот же угол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т уго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ан с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период решетки. При увеличении угла дифра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ет увеличиваться разность фаз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 цепь векторов буд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тепенно закручиваться. Первый раз она замкнется и в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=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угол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`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нимает целочисленные значения, кром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0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2N, …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итоге получ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овие для интерференционных миниму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2500200" y="2643120"/>
            <a:ext cx="2233800" cy="6429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3"/>
          <a:stretch/>
        </p:blipFill>
        <p:spPr>
          <a:xfrm>
            <a:off x="7215120" y="4143240"/>
            <a:ext cx="1419120" cy="1285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4"/>
          <a:stretch/>
        </p:blipFill>
        <p:spPr>
          <a:xfrm>
            <a:off x="3179880" y="4500720"/>
            <a:ext cx="1509480" cy="4284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"/>
          <p:cNvPicPr/>
          <p:nvPr/>
        </p:nvPicPr>
        <p:blipFill>
          <a:blip r:embed="rId5"/>
          <a:stretch/>
        </p:blipFill>
        <p:spPr>
          <a:xfrm>
            <a:off x="2857680" y="5500800"/>
            <a:ext cx="226980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"/>
          <p:cNvPicPr/>
          <p:nvPr/>
        </p:nvPicPr>
        <p:blipFill>
          <a:blip r:embed="rId1"/>
          <a:stretch/>
        </p:blipFill>
        <p:spPr>
          <a:xfrm>
            <a:off x="3286080" y="142920"/>
            <a:ext cx="2270160" cy="78588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362880" y="1143000"/>
            <a:ext cx="87591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соотношение позволяет определить угловую ширину  главных максимум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гловую полуширину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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главного максимума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-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рядка можно найти, взя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фференциал последнего выражения с учетом, что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`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ожет меняться на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`=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д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cos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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к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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исит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 = Nd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ширина решетки). С ростом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ширина гл. максимум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величивается. Главные максимумы будут тем уже, чем больше шир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тк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меньше угол дифракции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3000240" y="1571760"/>
            <a:ext cx="2998800" cy="2071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3" descr=""/>
          <p:cNvPicPr/>
          <p:nvPr/>
        </p:nvPicPr>
        <p:blipFill>
          <a:blip r:embed="rId3"/>
          <a:stretch/>
        </p:blipFill>
        <p:spPr>
          <a:xfrm>
            <a:off x="3143160" y="4500720"/>
            <a:ext cx="2747880" cy="71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фракция Фраунгофера. Дифракционная решет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6357960" y="857160"/>
            <a:ext cx="2786040" cy="2494080"/>
          </a:xfrm>
          <a:prstGeom prst="rect">
            <a:avLst/>
          </a:prstGeom>
          <a:ln w="0">
            <a:noFill/>
          </a:ln>
        </p:spPr>
      </p:pic>
      <p:sp>
        <p:nvSpPr>
          <p:cNvPr id="130" name="TextBox 6"/>
          <p:cNvSpPr/>
          <p:nvPr/>
        </p:nvSpPr>
        <p:spPr>
          <a:xfrm>
            <a:off x="22680" y="1143000"/>
            <a:ext cx="64137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 диаграммы видно, что результирующую амплиту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и интерференци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лн можно записа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вспомогательный радиус окружности, описан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круг данной цепочки векторов. Вектор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ожн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ить к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ключая 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 последних двух формул, получ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ывая что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, приходим к следующему выраж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1785960" y="1785960"/>
            <a:ext cx="2068560" cy="285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"/>
          <p:cNvPicPr/>
          <p:nvPr/>
        </p:nvPicPr>
        <p:blipFill>
          <a:blip r:embed="rId3"/>
          <a:stretch/>
        </p:blipFill>
        <p:spPr>
          <a:xfrm>
            <a:off x="1785960" y="3143160"/>
            <a:ext cx="2206440" cy="357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4" descr=""/>
          <p:cNvPicPr/>
          <p:nvPr/>
        </p:nvPicPr>
        <p:blipFill>
          <a:blip r:embed="rId4"/>
          <a:stretch/>
        </p:blipFill>
        <p:spPr>
          <a:xfrm>
            <a:off x="2071800" y="4071960"/>
            <a:ext cx="2003400" cy="6429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5" descr=""/>
          <p:cNvPicPr/>
          <p:nvPr/>
        </p:nvPicPr>
        <p:blipFill>
          <a:blip r:embed="rId5"/>
          <a:stretch/>
        </p:blipFill>
        <p:spPr>
          <a:xfrm>
            <a:off x="1571760" y="4786200"/>
            <a:ext cx="642960" cy="2160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"/>
          <p:cNvPicPr/>
          <p:nvPr/>
        </p:nvPicPr>
        <p:blipFill>
          <a:blip r:embed="rId6"/>
          <a:stretch/>
        </p:blipFill>
        <p:spPr>
          <a:xfrm>
            <a:off x="2357280" y="5072040"/>
            <a:ext cx="2514600" cy="571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"/>
          <p:cNvPicPr/>
          <p:nvPr/>
        </p:nvPicPr>
        <p:blipFill>
          <a:blip r:embed="rId7"/>
          <a:stretch/>
        </p:blipFill>
        <p:spPr>
          <a:xfrm>
            <a:off x="571680" y="5643720"/>
            <a:ext cx="2571480" cy="2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ифракция све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165560" y="692280"/>
            <a:ext cx="4978440" cy="273816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>
            <a:off x="179280" y="692280"/>
            <a:ext cx="4248360" cy="45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им амплитуду световой волны в точке М, распространяющейся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ородной среде из точки излучени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обьем волновую поверхность 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зоны Френеля. Обозначим 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А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…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плитуды от 1, 2, 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той з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енеля соответственно. С учетом фаз можно получить итоговую амплитуду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е 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+…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четно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«+» - если нечет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"/>
          <p:cNvPicPr/>
          <p:nvPr/>
        </p:nvPicPr>
        <p:blipFill>
          <a:blip r:embed="rId2"/>
          <a:stretch/>
        </p:blipFill>
        <p:spPr>
          <a:xfrm>
            <a:off x="4859280" y="4653000"/>
            <a:ext cx="1657440" cy="6062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6"/>
          <p:cNvSpPr/>
          <p:nvPr/>
        </p:nvSpPr>
        <p:spPr>
          <a:xfrm>
            <a:off x="4697640" y="4168800"/>
            <a:ext cx="403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некотор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оны справедли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"/>
          <p:cNvPicPr/>
          <p:nvPr/>
        </p:nvPicPr>
        <p:blipFill>
          <a:blip r:embed="rId3"/>
          <a:stretch/>
        </p:blipFill>
        <p:spPr>
          <a:xfrm>
            <a:off x="611280" y="5330880"/>
            <a:ext cx="8218440" cy="98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пределение интенсив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1143000" y="571680"/>
            <a:ext cx="6507000" cy="2428560"/>
          </a:xfrm>
          <a:prstGeom prst="rect">
            <a:avLst/>
          </a:prstGeom>
          <a:ln w="0">
            <a:noFill/>
          </a:ln>
        </p:spPr>
      </p:pic>
      <p:sp>
        <p:nvSpPr>
          <p:cNvPr id="139" name="TextBox 4"/>
          <p:cNvSpPr/>
          <p:nvPr/>
        </p:nvSpPr>
        <p:spPr>
          <a:xfrm>
            <a:off x="22320" y="4214880"/>
            <a:ext cx="902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ференция многих пучков привела к резкому перераспредел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нсивности света, обусловленному дифракции от каждой щели.  Первая дроб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ставляет плавную функцию от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а плавная функция модулиру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ференционную картину от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щелей, которую описывает вторая дроб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6" descr=""/>
          <p:cNvPicPr/>
          <p:nvPr/>
        </p:nvPicPr>
        <p:blipFill>
          <a:blip r:embed="rId2"/>
          <a:stretch/>
        </p:blipFill>
        <p:spPr>
          <a:xfrm>
            <a:off x="2714760" y="3214800"/>
            <a:ext cx="377172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43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ифракция рентгеновских луч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5500800" y="3000240"/>
            <a:ext cx="3468600" cy="17859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image002.jpg"/>
          <p:cNvPicPr/>
          <p:nvPr/>
        </p:nvPicPr>
        <p:blipFill>
          <a:blip r:embed="rId2"/>
          <a:stretch/>
        </p:blipFill>
        <p:spPr>
          <a:xfrm>
            <a:off x="5357880" y="642960"/>
            <a:ext cx="3786120" cy="2271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" descr=""/>
          <p:cNvPicPr/>
          <p:nvPr/>
        </p:nvPicPr>
        <p:blipFill>
          <a:blip r:embed="rId3"/>
          <a:stretch/>
        </p:blipFill>
        <p:spPr>
          <a:xfrm>
            <a:off x="357120" y="2571840"/>
            <a:ext cx="3286080" cy="460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" descr=""/>
          <p:cNvPicPr/>
          <p:nvPr/>
        </p:nvPicPr>
        <p:blipFill>
          <a:blip r:embed="rId4"/>
          <a:stretch/>
        </p:blipFill>
        <p:spPr>
          <a:xfrm>
            <a:off x="6143760" y="4857840"/>
            <a:ext cx="2571480" cy="19573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5"/>
          <a:srcRect l="0" t="19961" r="0" b="0"/>
          <a:stretch/>
        </p:blipFill>
        <p:spPr>
          <a:xfrm>
            <a:off x="285840" y="1143000"/>
            <a:ext cx="1706400" cy="285840"/>
          </a:xfrm>
          <a:prstGeom prst="rect">
            <a:avLst/>
          </a:prstGeom>
          <a:ln w="0">
            <a:noFill/>
          </a:ln>
        </p:spPr>
      </p:pic>
      <p:sp>
        <p:nvSpPr>
          <p:cNvPr id="147" name="TextBox 8"/>
          <p:cNvSpPr/>
          <p:nvPr/>
        </p:nvSpPr>
        <p:spPr>
          <a:xfrm>
            <a:off x="232560" y="1571760"/>
            <a:ext cx="4627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межплоскостное расстояни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Symbol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угол сколь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ловие Брэгга – Вульф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уэграмма монокристалл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Рисунок 9" descr="266404600.jpg"/>
          <p:cNvPicPr/>
          <p:nvPr/>
        </p:nvPicPr>
        <p:blipFill>
          <a:blip r:embed="rId6"/>
          <a:stretch/>
        </p:blipFill>
        <p:spPr>
          <a:xfrm>
            <a:off x="285840" y="3786120"/>
            <a:ext cx="2728800" cy="26114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"/>
          <p:cNvPicPr/>
          <p:nvPr/>
        </p:nvPicPr>
        <p:blipFill>
          <a:blip r:embed="rId7"/>
          <a:stretch/>
        </p:blipFill>
        <p:spPr>
          <a:xfrm>
            <a:off x="3286080" y="4071960"/>
            <a:ext cx="178596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фракция света. Дифракция на круглом отверст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5940360" y="907920"/>
            <a:ext cx="2759040" cy="34578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303120" y="1360440"/>
            <a:ext cx="5421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ферическая волна, распространяющейся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днородной среде из источник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стреч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экраном с круглым отверстием. Амплиту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очке В на экране Э буде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де «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открыто четное числ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енеля, «+» - ес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чет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фракционная картина будет иметь вид чер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ующихся темных и светлых колец с центром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чке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(ес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четное, то центральное пят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ет темным, ес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нечетное, то светлы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1619280" y="2565360"/>
            <a:ext cx="237636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фракция света. Спираль Френ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250920" y="1144440"/>
            <a:ext cx="875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им графический метод сложения амплитуд. Волновую поверх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биваем на узкие кольцевые зоны. Амплитуды колебаний от каждого и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ой зоны, изобразим вектором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1619280" y="2133720"/>
            <a:ext cx="5754600" cy="21492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228240" y="4384800"/>
            <a:ext cx="892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рисунке а) изображена результирующая амплитуда в точк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 волн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шедших от каждого элемента 1-ой зоны Френеля. На рис. б) – итогов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плитуда от первой и второй зон Френеля. Вследствие увеличения расстоя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уменьшения коэффициент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мплитуда колебаний, создаваемых от кажд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ледующей кольцевой зоны, будет убывать по модулю и отставать по фазе о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ебаний, создаваемых предыдущей зо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фракция света. Спираль Френе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6516720" y="1125360"/>
            <a:ext cx="2284560" cy="2411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304200" y="1289160"/>
            <a:ext cx="8903880" cy="49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олжая построение, получим векторну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аграмму для результирующей амплиту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ебаний в точк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 действия всех зо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енеля. В итоге спираль будет закручивать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уя итоговую амплитуду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Эта спира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ывается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спиралью Френел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плитуда колебаний в точк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 полность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той волновой поверхности, ра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нсивность волн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.е. в 4 раза меньше, чем при наличии экрана с круглым отверст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вающим только 1-ю зону Френеля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открыто 2 зоны Френеля, то интенсивность в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уменьшается почти до нул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отя световой поток увеличивается в дво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фракция света. Дифракция на круглом дис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6899400" y="1052640"/>
            <a:ext cx="2244600" cy="33843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234000" y="1432080"/>
            <a:ext cx="683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сферическая волна, распространяющаяся из источ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стречает препятствие в виде круглого ди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диск закрывает перв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зон Френеля, то амплиту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очк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1258920" y="2708280"/>
            <a:ext cx="4825800" cy="13334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304920" y="4168800"/>
            <a:ext cx="624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м образом, в точке В всегда будет наблюда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фракционный максимум – светлое пятно, называем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ном Араго - Пуассон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500px-Micromir1"/>
          <p:cNvPicPr/>
          <p:nvPr/>
        </p:nvPicPr>
        <p:blipFill>
          <a:blip r:embed="rId3"/>
          <a:stretch/>
        </p:blipFill>
        <p:spPr>
          <a:xfrm>
            <a:off x="3924360" y="4822920"/>
            <a:ext cx="5219640" cy="203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фракция света. Зонная пластин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22560" y="907920"/>
            <a:ext cx="863604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 экране открыть только четные или только нечетные зоны Френеля,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кторы – амплитуды от этих зон будут сонаправлены и в сумме дадут вектор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 много раз превышающий вектор по модулю вектор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Такой экр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зывают зонной пластинк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0308445"/>
          <p:cNvPicPr/>
          <p:nvPr/>
        </p:nvPicPr>
        <p:blipFill>
          <a:blip r:embed="rId1"/>
          <a:srcRect l="0" t="0" r="0" b="11594"/>
          <a:stretch/>
        </p:blipFill>
        <p:spPr>
          <a:xfrm>
            <a:off x="4500720" y="1916280"/>
            <a:ext cx="4279680" cy="22842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7"/>
          <p:cNvSpPr/>
          <p:nvPr/>
        </p:nvSpPr>
        <p:spPr>
          <a:xfrm>
            <a:off x="395280" y="2133720"/>
            <a:ext cx="4340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онная пластинка, содержащ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крытых зон, создает в точк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нсивность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 большую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м отверстие в 1-ю зону Френ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силение интенсивности эквивалентно фокусирующему действию линз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кусное расстояние лин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2"/>
          <a:stretch/>
        </p:blipFill>
        <p:spPr>
          <a:xfrm>
            <a:off x="1476360" y="4076640"/>
            <a:ext cx="1738440" cy="8287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"/>
          <p:cNvPicPr/>
          <p:nvPr/>
        </p:nvPicPr>
        <p:blipFill>
          <a:blip r:embed="rId3"/>
          <a:stretch/>
        </p:blipFill>
        <p:spPr>
          <a:xfrm>
            <a:off x="900000" y="5300640"/>
            <a:ext cx="2016360" cy="333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"/>
          <p:cNvPicPr/>
          <p:nvPr/>
        </p:nvPicPr>
        <p:blipFill>
          <a:blip r:embed="rId4"/>
          <a:stretch/>
        </p:blipFill>
        <p:spPr>
          <a:xfrm>
            <a:off x="2987640" y="5300640"/>
            <a:ext cx="947880" cy="3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фракция света. Дифракция на полуплоскост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5940360" y="981000"/>
            <a:ext cx="3048120" cy="268452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303120" y="857160"/>
            <a:ext cx="5708880" cy="52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усть на экран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адает нормально пло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нохроматическая волна длины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оложим перед экраном на расстоянии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него непрозрачную полуплоскост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прямолинейным крае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плитуду колебаний, приходящих в точ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 первой зоны изобразим вектором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плитуду от следующей зоны – вектором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ернутым на небольшой угол с учетом запаздыванием по фаз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альнейшем угол между соседними векторами – амплитудами становится все больше, а модули векторов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удут уменьшаться. Результирующая амплитуда колебаний в точк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лновой поверхн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зобразится суммой векторов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всех укладывающих на этой полосе элементарных зон. Это вектор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2"/>
          <a:stretch/>
        </p:blipFill>
        <p:spPr>
          <a:xfrm>
            <a:off x="6156360" y="3645000"/>
            <a:ext cx="200340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фракция света. Спираль Корн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4278240" y="1052640"/>
            <a:ext cx="4865760" cy="43606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5"/>
          <p:cNvSpPr/>
          <p:nvPr/>
        </p:nvSpPr>
        <p:spPr>
          <a:xfrm>
            <a:off x="158040" y="784080"/>
            <a:ext cx="5731200" cy="41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а спираль состоит из двух симметричных ветве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ручивающих вокруг фокусов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Лева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овина описывает действие колебан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ходящих в точку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 участков волн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ерхности, лежащих левее края непрозрач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плоск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мплитуда колебаний в точк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 волн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ерхности, лежащей правее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прозрачной полуплоскости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образится вектором из точк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кус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пирали Корню. Амплит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ебаний в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 полностью открыт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новой поверхности – векторо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веденным из фокус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02:36:38Z</dcterms:created>
  <dc:creator>VIENNA XP</dc:creator>
  <dc:description/>
  <dc:language>en-US</dc:language>
  <cp:lastModifiedBy>user</cp:lastModifiedBy>
  <dcterms:modified xsi:type="dcterms:W3CDTF">2009-03-18T03:22:53Z</dcterms:modified>
  <cp:revision>96</cp:revision>
  <dc:subject/>
  <dc:title>Дифракция света</dc:title>
</cp:coreProperties>
</file>