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4BE3-0EAE-4C2D-8ADF-221A6BAF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63CB-2EDD-474D-A341-3D22CE769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FF56-8BC7-40A9-9972-6E75E81DB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9916-1897-43B4-BA0E-22FEE7E33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DCE2-93DC-4E3D-A404-3F1C9F1FE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B122-35E3-42C0-A3DE-377795D65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D7F-CC7C-4142-858A-1CA9C2C2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48A6-B751-4045-A5C5-960B66E48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EEC3-B95D-4268-AC37-A0505A35D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DA5-F877-439C-A88B-99BD12A8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FC30-62CA-4EF3-8192-4F162AFF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A8F8-3FE3-4402-AC98-989C15796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C2BB-7C98-4DA1-BC74-3FEA5C7931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пускулярные свойства электромагнитного излучения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ношение неопределенностей Гейзенбер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6868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пыт со щель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ассмотрим рассеяние частиц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ободно движущейся с импульсо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иц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 пути которой расположена щель ширино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Если частица пройдет сквозь щель, то 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лоскости щели координат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буд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регистрирована с неопределенностью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вследствие дифракции с наибольше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ероятностью частица будет двигаться в пределах угла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- угол, соответствующий первому дифракционному минимуму. Угол определяется следующим выражением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результате дифракции возникает неопределенность знач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en-US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проекция импульса, разброс котор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я, чт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= 2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ħ/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получим из двух предыдущих выражени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попытка определить координат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частицы, действительно, привела к появлению неопределенности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en-US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импульсе частицы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5"/>
          <p:cNvGrpSpPr/>
          <p:nvPr/>
        </p:nvGrpSpPr>
        <p:grpSpPr>
          <a:xfrm>
            <a:off x="5940360" y="692280"/>
            <a:ext cx="3203640" cy="2350800"/>
            <a:chOff x="5940360" y="692280"/>
            <a:chExt cx="3203640" cy="2350800"/>
          </a:xfrm>
        </p:grpSpPr>
        <p:sp>
          <p:nvSpPr>
            <p:cNvPr id="135" name="AutoShape 6"/>
            <p:cNvSpPr/>
            <p:nvPr/>
          </p:nvSpPr>
          <p:spPr>
            <a:xfrm>
              <a:off x="5940360" y="692280"/>
              <a:ext cx="3203640" cy="23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Line 7"/>
            <p:cNvSpPr/>
            <p:nvPr/>
          </p:nvSpPr>
          <p:spPr>
            <a:xfrm>
              <a:off x="6758640" y="1100520"/>
              <a:ext cx="0" cy="6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Line 8"/>
            <p:cNvSpPr/>
            <p:nvPr/>
          </p:nvSpPr>
          <p:spPr>
            <a:xfrm>
              <a:off x="6758640" y="1920240"/>
              <a:ext cx="720" cy="65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Line 9"/>
            <p:cNvSpPr/>
            <p:nvPr/>
          </p:nvSpPr>
          <p:spPr>
            <a:xfrm flipV="1">
              <a:off x="6755040" y="1458720"/>
              <a:ext cx="1472760" cy="36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10"/>
            <p:cNvSpPr/>
            <p:nvPr/>
          </p:nvSpPr>
          <p:spPr>
            <a:xfrm>
              <a:off x="6755040" y="1835640"/>
              <a:ext cx="1472760" cy="32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8146440" y="1227960"/>
              <a:ext cx="892080" cy="1216080"/>
            </a:xfrm>
            <a:prstGeom prst="pi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12"/>
            <p:cNvSpPr/>
            <p:nvPr/>
          </p:nvSpPr>
          <p:spPr>
            <a:xfrm>
              <a:off x="6594840" y="1827720"/>
              <a:ext cx="239688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 flipV="1">
              <a:off x="6753240" y="1564560"/>
              <a:ext cx="103644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14"/>
            <p:cNvSpPr/>
            <p:nvPr/>
          </p:nvSpPr>
          <p:spPr>
            <a:xfrm>
              <a:off x="7790040" y="1564560"/>
              <a:ext cx="0" cy="25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5"/>
            <p:cNvSpPr/>
            <p:nvPr/>
          </p:nvSpPr>
          <p:spPr>
            <a:xfrm>
              <a:off x="7203600" y="1707480"/>
              <a:ext cx="30600" cy="122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 Box 16"/>
            <p:cNvSpPr/>
            <p:nvPr/>
          </p:nvSpPr>
          <p:spPr>
            <a:xfrm>
              <a:off x="7286040" y="164556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17"/>
            <p:cNvSpPr/>
            <p:nvPr/>
          </p:nvSpPr>
          <p:spPr>
            <a:xfrm>
              <a:off x="7845480" y="1590840"/>
              <a:ext cx="2451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i="1" lang="ru-RU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i="1" lang="ru-RU" sz="900" spc="-1" strike="noStrike" baseline="-25000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8"/>
            <p:cNvSpPr/>
            <p:nvPr/>
          </p:nvSpPr>
          <p:spPr>
            <a:xfrm>
              <a:off x="7266240" y="145476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 Box 19"/>
            <p:cNvSpPr/>
            <p:nvPr/>
          </p:nvSpPr>
          <p:spPr>
            <a:xfrm>
              <a:off x="6522480" y="107964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0"/>
            <p:cNvSpPr/>
            <p:nvPr/>
          </p:nvSpPr>
          <p:spPr>
            <a:xfrm>
              <a:off x="6624360" y="1755720"/>
              <a:ext cx="136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1"/>
            <p:cNvSpPr/>
            <p:nvPr/>
          </p:nvSpPr>
          <p:spPr>
            <a:xfrm>
              <a:off x="6624360" y="1908360"/>
              <a:ext cx="136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2"/>
            <p:cNvSpPr/>
            <p:nvPr/>
          </p:nvSpPr>
          <p:spPr>
            <a:xfrm>
              <a:off x="6671520" y="1448280"/>
              <a:ext cx="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3"/>
            <p:cNvSpPr/>
            <p:nvPr/>
          </p:nvSpPr>
          <p:spPr>
            <a:xfrm flipV="1">
              <a:off x="6672240" y="1905480"/>
              <a:ext cx="720" cy="26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24"/>
            <p:cNvSpPr/>
            <p:nvPr/>
          </p:nvSpPr>
          <p:spPr>
            <a:xfrm>
              <a:off x="6474960" y="1966680"/>
              <a:ext cx="16992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9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5"/>
            <p:cNvSpPr/>
            <p:nvPr/>
          </p:nvSpPr>
          <p:spPr>
            <a:xfrm>
              <a:off x="6051240" y="1687320"/>
              <a:ext cx="3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6"/>
            <p:cNvSpPr/>
            <p:nvPr/>
          </p:nvSpPr>
          <p:spPr>
            <a:xfrm>
              <a:off x="6051240" y="1816560"/>
              <a:ext cx="333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>
              <a:off x="6045840" y="1939320"/>
              <a:ext cx="3409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28"/>
            <p:cNvSpPr/>
            <p:nvPr/>
          </p:nvSpPr>
          <p:spPr>
            <a:xfrm>
              <a:off x="8231760" y="937800"/>
              <a:ext cx="0" cy="180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29"/>
            <p:cNvSpPr/>
            <p:nvPr/>
          </p:nvSpPr>
          <p:spPr>
            <a:xfrm>
              <a:off x="6990480" y="2717280"/>
              <a:ext cx="14094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Arial"/>
                </a:rPr>
                <a:t>Рис.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Rectangle 3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30"/>
              <p:cNvSpPr txBox="1"/>
              <p:nvPr/>
            </p:nvSpPr>
            <p:spPr>
              <a:xfrm>
                <a:off x="3643200" y="3857760"/>
                <a:ext cx="1368360" cy="37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1" name="Rectangle 32"/>
          <p:cNvSpPr/>
          <p:nvPr/>
        </p:nvSpPr>
        <p:spPr>
          <a:xfrm>
            <a:off x="360" y="33660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Object 33"/>
              <p:cNvSpPr txBox="1"/>
              <p:nvPr/>
            </p:nvSpPr>
            <p:spPr>
              <a:xfrm>
                <a:off x="5857920" y="4572000"/>
                <a:ext cx="172728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p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3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5"/>
              <p:cNvSpPr txBox="1"/>
              <p:nvPr/>
            </p:nvSpPr>
            <p:spPr>
              <a:xfrm>
                <a:off x="5286240" y="5572080"/>
                <a:ext cx="27370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pλ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t xml:space="preserve">ℏ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Модель атома Резерфорда- Бор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549000"/>
            <a:ext cx="91440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еделение положительных и отрицательных зарядов в атоме можно выяснить, произведя непосредственное опытное зондирование внутренних областей атома. Такое зондирование осуществили Резерфорд и его сотрудники (1906-1911 гг.) с помощью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частиц, наблюдая изменение направления их полета (рассеяние) при прохождении через тонкие слои веществ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5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Оказалось, что некоторое количество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частиц рассеивается на очень большие углы (почти до 180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). Проанализировав результаты опыта, Резерфорд пришел к выводу, что столь сильное отклоне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-частиц возможно только в том случае, если внутри атома имеется чрезвычайно сильное электрическое поле, которое создается зарядом, связанным с большой массой и сконцентрированным в очень малом объеме. Основываясь на этом выводе, Резерфорд предложил в 1911 г. ядерную модель атома.  Согласно Резерфорду атом представляет собой систему зарядов, в центре которой ядро с зарядом Ze, имеющее размеры, не превышающ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i="1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см, а вокруг ядра расположены Z электронов, распределенных по всему объему, занимаемому атомом. Почти вся масса атома сосредоточена в ядр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Рисунок 162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554508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тклонен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частиц обусловлены воздействием на них со стороны атомных ядер. Заметного отклонения из-за взаимодействия с электронами не может быть, поскольку масса электрона на четыре порядка меньше массы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частицы. Когда частица пролетает вблизи ядра, на нее действует кулоновская сила отталкивания. В этом случае траектория частицы представляет собой гипербол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тояни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от ядра до первоначального направления полет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частицы называется прицельным параметром. Чем ближе пролетает частица от ядра (чем меньш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, тем, естественно, сильнее она откланяется (тем больш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Между величинам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меется функциональная связь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 формул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– кинетическая энерги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α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частицы масс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движущейся со скоростью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; Z</a:t>
            </a:r>
            <a:r>
              <a:rPr b="0" lang="ru-RU" sz="1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 – заряд я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2500200" y="1857240"/>
            <a:ext cx="3889440" cy="2346480"/>
            <a:chOff x="2500200" y="1857240"/>
            <a:chExt cx="3889440" cy="2346480"/>
          </a:xfrm>
        </p:grpSpPr>
        <p:sp>
          <p:nvSpPr>
            <p:cNvPr id="171" name="AutoShape 5"/>
            <p:cNvSpPr/>
            <p:nvPr/>
          </p:nvSpPr>
          <p:spPr>
            <a:xfrm>
              <a:off x="2500200" y="1857240"/>
              <a:ext cx="3889440" cy="23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Line 6"/>
            <p:cNvSpPr/>
            <p:nvPr/>
          </p:nvSpPr>
          <p:spPr>
            <a:xfrm flipV="1">
              <a:off x="2549880" y="3175200"/>
              <a:ext cx="3691080" cy="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7"/>
            <p:cNvSpPr/>
            <p:nvPr/>
          </p:nvSpPr>
          <p:spPr>
            <a:xfrm>
              <a:off x="2549880" y="3544560"/>
              <a:ext cx="36910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8"/>
            <p:cNvSpPr/>
            <p:nvPr/>
          </p:nvSpPr>
          <p:spPr>
            <a:xfrm flipV="1">
              <a:off x="4641480" y="1944000"/>
              <a:ext cx="1230120" cy="160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9"/>
            <p:cNvSpPr/>
            <p:nvPr/>
          </p:nvSpPr>
          <p:spPr>
            <a:xfrm>
              <a:off x="2563560" y="1925280"/>
              <a:ext cx="3294720" cy="1323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0"/>
            <p:cNvSpPr/>
            <p:nvPr/>
          </p:nvSpPr>
          <p:spPr>
            <a:xfrm>
              <a:off x="5103360" y="2970000"/>
              <a:ext cx="130320" cy="202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1"/>
            <p:cNvSpPr/>
            <p:nvPr/>
          </p:nvSpPr>
          <p:spPr>
            <a:xfrm>
              <a:off x="2558880" y="3130920"/>
              <a:ext cx="79200" cy="78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>
              <a:off x="2661480" y="3174120"/>
              <a:ext cx="720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 flipH="1">
              <a:off x="2599200" y="3189600"/>
              <a:ext cx="720" cy="35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14"/>
            <p:cNvSpPr/>
            <p:nvPr/>
          </p:nvSpPr>
          <p:spPr>
            <a:xfrm>
              <a:off x="6114240" y="3576600"/>
              <a:ext cx="1576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15"/>
            <p:cNvSpPr/>
            <p:nvPr/>
          </p:nvSpPr>
          <p:spPr>
            <a:xfrm>
              <a:off x="5249520" y="2844360"/>
              <a:ext cx="1576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6"/>
            <p:cNvSpPr/>
            <p:nvPr/>
          </p:nvSpPr>
          <p:spPr>
            <a:xfrm>
              <a:off x="4567320" y="3471480"/>
              <a:ext cx="132480" cy="132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17"/>
            <p:cNvSpPr/>
            <p:nvPr/>
          </p:nvSpPr>
          <p:spPr>
            <a:xfrm>
              <a:off x="4363200" y="3617640"/>
              <a:ext cx="3430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18"/>
            <p:cNvSpPr/>
            <p:nvPr/>
          </p:nvSpPr>
          <p:spPr>
            <a:xfrm>
              <a:off x="2500200" y="2931120"/>
              <a:ext cx="1576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9"/>
            <p:cNvSpPr/>
            <p:nvPr/>
          </p:nvSpPr>
          <p:spPr>
            <a:xfrm>
              <a:off x="2536920" y="2970000"/>
              <a:ext cx="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20"/>
            <p:cNvSpPr/>
            <p:nvPr/>
          </p:nvSpPr>
          <p:spPr>
            <a:xfrm>
              <a:off x="4562640" y="3457800"/>
              <a:ext cx="158400" cy="1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1"/>
            <p:cNvSpPr/>
            <p:nvPr/>
          </p:nvSpPr>
          <p:spPr>
            <a:xfrm>
              <a:off x="2682000" y="3273120"/>
              <a:ext cx="2109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Text Box 22"/>
            <p:cNvSpPr/>
            <p:nvPr/>
          </p:nvSpPr>
          <p:spPr>
            <a:xfrm>
              <a:off x="3999600" y="3931560"/>
              <a:ext cx="78228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2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23"/>
              <p:cNvSpPr txBox="1"/>
              <p:nvPr/>
            </p:nvSpPr>
            <p:spPr>
              <a:xfrm>
                <a:off x="3851280" y="4869000"/>
                <a:ext cx="151272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g</m:t>
                    </m:r>
                    <m:f>
                      <m:num>
                        <m:r>
                          <m:t xml:space="preserve">θ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b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" name="Text Box 25"/>
          <p:cNvSpPr/>
          <p:nvPr/>
        </p:nvSpPr>
        <p:spPr>
          <a:xfrm>
            <a:off x="6711840" y="2152800"/>
            <a:ext cx="2181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.3 Схема рассеяния альфа час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Формула Резерфорд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м тонкий слой рассеивающего вещества, настолько тонкий (например, в эксперименте Резерфордом использовалась фольга толщин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м), чтобы каждая налетающая частица пучка претерпевала лишь однократное отклонение. Из рис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идно, что для отклонения в интервале углов (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прицельный параметр должен быть заключен в интервале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 При этом значен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будут связаны соотношением вида: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нак минус в этом выражении обусловлен тем, что знак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заимно противоположны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площадь поперечного сечения узкого пучка налетающих частиц рав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гда число ядер рассеивающего тонкого слоя будет рав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число атомов (рассеивающих центров) в расчете на единицу поверх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"/>
              <p:cNvSpPr txBox="1"/>
              <p:nvPr/>
            </p:nvSpPr>
            <p:spPr>
              <a:xfrm>
                <a:off x="3132000" y="2852640"/>
                <a:ext cx="28083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b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  <m:f>
                      <m:num>
                        <m:r>
                          <m:t xml:space="preserve">dθ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θ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этом относительное число частиц, имеющих прицельный параметр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 интервале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и, значит, рассеянных в интервале углов (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, будет рав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суммарная площадь колец в сечени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учка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поток частиц, рассеянных в интервале углов (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, 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– поток падающих частиц в пучке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итоге получ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ножив числитель и знаменатель правой части этого равенства н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огда запиш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2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∙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лемент телесного угла, в пределах которого заключены углы рассеяния (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Это и есть формула Резерфорда удобная для экспериментальной проверки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4"/>
              <p:cNvSpPr txBox="1"/>
              <p:nvPr/>
            </p:nvSpPr>
            <p:spPr>
              <a:xfrm>
                <a:off x="2340000" y="1413000"/>
                <a:ext cx="42480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S</m:t>
                        </m:r>
                        <m:r>
                          <m:t xml:space="preserve">⋅</m:t>
                        </m:r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bdb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bdb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Rectangle 7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Object 6"/>
              <p:cNvSpPr txBox="1"/>
              <p:nvPr/>
            </p:nvSpPr>
            <p:spPr>
              <a:xfrm>
                <a:off x="2627280" y="3500280"/>
                <a:ext cx="36003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" name="Rectangle 9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Object 8"/>
              <p:cNvSpPr txBox="1"/>
              <p:nvPr/>
            </p:nvSpPr>
            <p:spPr>
              <a:xfrm>
                <a:off x="2050920" y="5084640"/>
                <a:ext cx="5832720" cy="79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N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  <m:r>
                      <m:t xml:space="preserve">π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  <m:r>
                          <m:t xml:space="preserve">dθ</m:t>
                        </m:r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Z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4</m:t>
                                </m:r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⋅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Ω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/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тулаты Бора. Модель атома водорода.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620280"/>
            <a:ext cx="843588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1903 году Дж. Дж. Томсон предложил модель атома, согласно которой атом представляет собой равномерно заполненный положительным зарядом шар, внутри которого находятся электро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марный положительный заряд шара равен заряду электрона, так что атом в целом нейтрален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пряженность поля внутри атом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авномерно заряженного ша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определяется выраж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ряд шара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радиус шара. Следовательн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электрон, находящийся на расстоянии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т полож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овесия (от центра шара), будет действовать сил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аких условиях электрон, выведенный каким-либо образом из положения равновесия, будет совершать колебания с част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4"/>
          <p:cNvGrpSpPr/>
          <p:nvPr/>
        </p:nvGrpSpPr>
        <p:grpSpPr>
          <a:xfrm>
            <a:off x="6588000" y="1773360"/>
            <a:ext cx="2289240" cy="2820960"/>
            <a:chOff x="6588000" y="1773360"/>
            <a:chExt cx="2289240" cy="2820960"/>
          </a:xfrm>
        </p:grpSpPr>
        <p:sp>
          <p:nvSpPr>
            <p:cNvPr id="206" name="AutoShape 5"/>
            <p:cNvSpPr/>
            <p:nvPr/>
          </p:nvSpPr>
          <p:spPr>
            <a:xfrm>
              <a:off x="6588000" y="1773360"/>
              <a:ext cx="2289240" cy="282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6"/>
            <p:cNvSpPr/>
            <p:nvPr/>
          </p:nvSpPr>
          <p:spPr>
            <a:xfrm>
              <a:off x="6808320" y="1959840"/>
              <a:ext cx="1829880" cy="1803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Line 7"/>
            <p:cNvSpPr/>
            <p:nvPr/>
          </p:nvSpPr>
          <p:spPr>
            <a:xfrm flipV="1">
              <a:off x="7723800" y="2509560"/>
              <a:ext cx="513720" cy="38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8"/>
            <p:cNvSpPr/>
            <p:nvPr/>
          </p:nvSpPr>
          <p:spPr>
            <a:xfrm>
              <a:off x="8199360" y="2397240"/>
              <a:ext cx="137880" cy="150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Line 9"/>
            <p:cNvSpPr/>
            <p:nvPr/>
          </p:nvSpPr>
          <p:spPr>
            <a:xfrm>
              <a:off x="7723800" y="2899440"/>
              <a:ext cx="576360" cy="65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 Box 10"/>
            <p:cNvSpPr/>
            <p:nvPr/>
          </p:nvSpPr>
          <p:spPr>
            <a:xfrm>
              <a:off x="7936560" y="2135520"/>
              <a:ext cx="52668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-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 Box 11"/>
            <p:cNvSpPr/>
            <p:nvPr/>
          </p:nvSpPr>
          <p:spPr>
            <a:xfrm>
              <a:off x="7861680" y="2598840"/>
              <a:ext cx="525240" cy="38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Text Box 12"/>
            <p:cNvSpPr/>
            <p:nvPr/>
          </p:nvSpPr>
          <p:spPr>
            <a:xfrm>
              <a:off x="7574040" y="3088440"/>
              <a:ext cx="5245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4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 Box 13"/>
            <p:cNvSpPr/>
            <p:nvPr/>
          </p:nvSpPr>
          <p:spPr>
            <a:xfrm>
              <a:off x="6720480" y="3842280"/>
              <a:ext cx="21186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ис. 4. Модель атома Томсо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17"/>
              <p:cNvSpPr txBox="1"/>
              <p:nvPr/>
            </p:nvSpPr>
            <p:spPr>
              <a:xfrm>
                <a:off x="1187280" y="3068640"/>
                <a:ext cx="1513080" cy="79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17" name="Picture 19" descr=""/>
          <p:cNvPicPr/>
          <p:nvPr/>
        </p:nvPicPr>
        <p:blipFill>
          <a:blip r:embed="rId1"/>
          <a:stretch/>
        </p:blipFill>
        <p:spPr>
          <a:xfrm>
            <a:off x="3059280" y="4724280"/>
            <a:ext cx="2808000" cy="73836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21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Object 20"/>
              <p:cNvSpPr txBox="1"/>
              <p:nvPr/>
            </p:nvSpPr>
            <p:spPr>
              <a:xfrm>
                <a:off x="3564000" y="6021360"/>
                <a:ext cx="187164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mR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79280" y="260280"/>
            <a:ext cx="8964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гда с учетом предыдущего урав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ине волны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600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Å (видимая часть спектр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ветствует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0</a:t>
            </a:r>
            <a:r>
              <a:rPr b="0" i="1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1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Следователь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енное значение радиуса совпадает по порядку величины с газокинетическими размерами атомов, что можно было рассматривать как подтверждение модели Томсона. Позже, эта модель была опровергнута опытами Резерфорда, из которых было установлено, что положительный заряд сконцентрирован в центре атома (ядре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кольку система неподвижных зарядов не может находиться в устойчивом состоянии, Резерфорд предположил что, электроны движутся вокруг ядра, описывая искривленные траектории. Но в этом случае электрон будет двигаться с ускорением, в связи с чем, согласно классической электродинамике, он должен непрерывно излучать электромагнитные (световые) волны. Процесс излучения сопровождается потерей энергии, так что электрон должен, в конечном счете, упасть на ядро (рис. 4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Object 4"/>
              <p:cNvSpPr txBox="1"/>
              <p:nvPr/>
            </p:nvSpPr>
            <p:spPr>
              <a:xfrm>
                <a:off x="3635280" y="692280"/>
                <a:ext cx="1297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mω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4033800" cy="792000"/>
          </a:xfrm>
          <a:prstGeom prst="rect">
            <a:avLst/>
          </a:prstGeom>
          <a:ln w="0">
            <a:noFill/>
          </a:ln>
        </p:spPr>
      </p:pic>
      <p:grpSp>
        <p:nvGrpSpPr>
          <p:cNvPr id="224" name="Group 7"/>
          <p:cNvGrpSpPr/>
          <p:nvPr/>
        </p:nvGrpSpPr>
        <p:grpSpPr>
          <a:xfrm>
            <a:off x="7072200" y="260280"/>
            <a:ext cx="1852560" cy="2016360"/>
            <a:chOff x="7072200" y="260280"/>
            <a:chExt cx="1852560" cy="2016360"/>
          </a:xfrm>
        </p:grpSpPr>
        <p:sp>
          <p:nvSpPr>
            <p:cNvPr id="225" name="AutoShape 8"/>
            <p:cNvSpPr/>
            <p:nvPr/>
          </p:nvSpPr>
          <p:spPr>
            <a:xfrm>
              <a:off x="7072200" y="260280"/>
              <a:ext cx="1852560" cy="20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Freeform 9"/>
            <p:cNvSpPr/>
            <p:nvPr/>
          </p:nvSpPr>
          <p:spPr>
            <a:xfrm>
              <a:off x="7221240" y="370440"/>
              <a:ext cx="1456200" cy="1395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10"/>
            <p:cNvSpPr/>
            <p:nvPr/>
          </p:nvSpPr>
          <p:spPr>
            <a:xfrm>
              <a:off x="7877160" y="993600"/>
              <a:ext cx="168120" cy="191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1"/>
            <p:cNvSpPr/>
            <p:nvPr/>
          </p:nvSpPr>
          <p:spPr>
            <a:xfrm>
              <a:off x="7403040" y="1879560"/>
              <a:ext cx="1293480" cy="3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Рис. 4.1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стулаты Бо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 1913 году датским физиком Нильсом Бором предложил ряд предположений, которые противоречили классическим представлениям. Допущения, сделанные Бором, содержатся в двух высказанных им постула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 бесконечного множества электронных орбит, осуществляются только дискретные орбиты, удовлетворяющие определенным квантовым условиям. Электрон, находящийся на одной из этих орбит, не смотря на то что, он движется с ускорением, не излуча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злучение испускается или поглощается в виде светового кванта энергии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ћ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при переходе электрона из одного стационарного состояния в другое. Величина светового кванта равна разности энергий тех стационарных состояний, между которыми совершается квантовый переход электрон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4"/>
              <p:cNvSpPr txBox="1"/>
              <p:nvPr/>
            </p:nvSpPr>
            <p:spPr>
              <a:xfrm>
                <a:off x="3571920" y="5429160"/>
                <a:ext cx="20876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ℏ</m:t>
                    </m:r>
                    <m:r>
                      <m:t xml:space="preserve">ω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Опыт Франка-Герц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50920" y="549000"/>
            <a:ext cx="864216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кретность энергетических уровней атома, были подтверждены опытами Франка и Герца в 1914 году. Схема их установки приведена на рис. 4.7. В трубке заполненной парами ртути под небольшим давлением (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м рт. ст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имелись три электрода: катод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етка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нод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й ход кривой объясняется тем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следствие дискрет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их уровней атом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т воспринимать энерг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порция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м образом, в опытах Франка и Герц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осредственно обнаруживается налич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атомов дискретных энергетических уровн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4"/>
          <p:cNvGrpSpPr/>
          <p:nvPr/>
        </p:nvGrpSpPr>
        <p:grpSpPr>
          <a:xfrm>
            <a:off x="5183280" y="1773360"/>
            <a:ext cx="3960720" cy="2198520"/>
            <a:chOff x="5183280" y="1773360"/>
            <a:chExt cx="3960720" cy="2198520"/>
          </a:xfrm>
        </p:grpSpPr>
        <p:sp>
          <p:nvSpPr>
            <p:cNvPr id="236" name="AutoShape 5"/>
            <p:cNvSpPr/>
            <p:nvPr/>
          </p:nvSpPr>
          <p:spPr>
            <a:xfrm>
              <a:off x="5183280" y="1773360"/>
              <a:ext cx="3960720" cy="21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6"/>
            <p:cNvSpPr/>
            <p:nvPr/>
          </p:nvSpPr>
          <p:spPr>
            <a:xfrm>
              <a:off x="5771880" y="1932120"/>
              <a:ext cx="2698560" cy="432720"/>
            </a:xfrm>
            <a:prstGeom prst="roundRect">
              <a:avLst>
                <a:gd name="adj" fmla="val 4652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7"/>
            <p:cNvSpPr/>
            <p:nvPr/>
          </p:nvSpPr>
          <p:spPr>
            <a:xfrm flipV="1">
              <a:off x="5440320" y="2032560"/>
              <a:ext cx="580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Line 8"/>
            <p:cNvSpPr/>
            <p:nvPr/>
          </p:nvSpPr>
          <p:spPr>
            <a:xfrm flipV="1">
              <a:off x="5435280" y="2290320"/>
              <a:ext cx="576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9"/>
            <p:cNvSpPr/>
            <p:nvPr/>
          </p:nvSpPr>
          <p:spPr>
            <a:xfrm>
              <a:off x="6011640" y="2024280"/>
              <a:ext cx="0" cy="267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10"/>
            <p:cNvSpPr/>
            <p:nvPr/>
          </p:nvSpPr>
          <p:spPr>
            <a:xfrm>
              <a:off x="5440320" y="2033640"/>
              <a:ext cx="36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11"/>
            <p:cNvSpPr/>
            <p:nvPr/>
          </p:nvSpPr>
          <p:spPr>
            <a:xfrm flipV="1">
              <a:off x="5397840" y="2132640"/>
              <a:ext cx="90000" cy="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12"/>
            <p:cNvSpPr/>
            <p:nvPr/>
          </p:nvSpPr>
          <p:spPr>
            <a:xfrm>
              <a:off x="5440320" y="2176560"/>
              <a:ext cx="360" cy="11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13"/>
            <p:cNvSpPr/>
            <p:nvPr/>
          </p:nvSpPr>
          <p:spPr>
            <a:xfrm>
              <a:off x="5340240" y="2167200"/>
              <a:ext cx="197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14"/>
            <p:cNvSpPr/>
            <p:nvPr/>
          </p:nvSpPr>
          <p:spPr>
            <a:xfrm>
              <a:off x="7522200" y="1927800"/>
              <a:ext cx="0" cy="4370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15"/>
            <p:cNvSpPr/>
            <p:nvPr/>
          </p:nvSpPr>
          <p:spPr>
            <a:xfrm>
              <a:off x="7522200" y="2360880"/>
              <a:ext cx="3960" cy="89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16"/>
            <p:cNvSpPr/>
            <p:nvPr/>
          </p:nvSpPr>
          <p:spPr>
            <a:xfrm>
              <a:off x="5615280" y="2287080"/>
              <a:ext cx="3960" cy="118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Line 17"/>
            <p:cNvSpPr/>
            <p:nvPr/>
          </p:nvSpPr>
          <p:spPr>
            <a:xfrm>
              <a:off x="5615280" y="2761200"/>
              <a:ext cx="1906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8"/>
            <p:cNvSpPr/>
            <p:nvPr/>
          </p:nvSpPr>
          <p:spPr>
            <a:xfrm>
              <a:off x="6357240" y="2583720"/>
              <a:ext cx="344880" cy="34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Line 19"/>
            <p:cNvSpPr/>
            <p:nvPr/>
          </p:nvSpPr>
          <p:spPr>
            <a:xfrm>
              <a:off x="5615280" y="3470400"/>
              <a:ext cx="36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0"/>
            <p:cNvSpPr/>
            <p:nvPr/>
          </p:nvSpPr>
          <p:spPr>
            <a:xfrm>
              <a:off x="5988600" y="3392280"/>
              <a:ext cx="865800" cy="14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Line 21"/>
            <p:cNvSpPr/>
            <p:nvPr/>
          </p:nvSpPr>
          <p:spPr>
            <a:xfrm>
              <a:off x="6398280" y="3262680"/>
              <a:ext cx="1867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Line 22"/>
            <p:cNvSpPr/>
            <p:nvPr/>
          </p:nvSpPr>
          <p:spPr>
            <a:xfrm>
              <a:off x="6398280" y="3263400"/>
              <a:ext cx="468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3"/>
            <p:cNvSpPr/>
            <p:nvPr/>
          </p:nvSpPr>
          <p:spPr>
            <a:xfrm>
              <a:off x="5749200" y="3466080"/>
              <a:ext cx="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4"/>
            <p:cNvSpPr/>
            <p:nvPr/>
          </p:nvSpPr>
          <p:spPr>
            <a:xfrm>
              <a:off x="6854760" y="3461040"/>
              <a:ext cx="19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5"/>
            <p:cNvSpPr/>
            <p:nvPr/>
          </p:nvSpPr>
          <p:spPr>
            <a:xfrm>
              <a:off x="7052400" y="3456720"/>
              <a:ext cx="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6"/>
            <p:cNvSpPr/>
            <p:nvPr/>
          </p:nvSpPr>
          <p:spPr>
            <a:xfrm>
              <a:off x="5749200" y="3801960"/>
              <a:ext cx="4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6619320" y="3788280"/>
              <a:ext cx="432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8"/>
            <p:cNvSpPr/>
            <p:nvPr/>
          </p:nvSpPr>
          <p:spPr>
            <a:xfrm>
              <a:off x="6616440" y="3687480"/>
              <a:ext cx="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Line 29"/>
            <p:cNvSpPr/>
            <p:nvPr/>
          </p:nvSpPr>
          <p:spPr>
            <a:xfrm>
              <a:off x="6204960" y="3746520"/>
              <a:ext cx="36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Line 30"/>
            <p:cNvSpPr/>
            <p:nvPr/>
          </p:nvSpPr>
          <p:spPr>
            <a:xfrm>
              <a:off x="6237000" y="3696120"/>
              <a:ext cx="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Line 31"/>
            <p:cNvSpPr/>
            <p:nvPr/>
          </p:nvSpPr>
          <p:spPr>
            <a:xfrm>
              <a:off x="6268680" y="3746520"/>
              <a:ext cx="36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2"/>
            <p:cNvSpPr/>
            <p:nvPr/>
          </p:nvSpPr>
          <p:spPr>
            <a:xfrm>
              <a:off x="6300720" y="3696120"/>
              <a:ext cx="36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3"/>
            <p:cNvSpPr/>
            <p:nvPr/>
          </p:nvSpPr>
          <p:spPr>
            <a:xfrm>
              <a:off x="6348600" y="3796920"/>
              <a:ext cx="247320" cy="36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4"/>
            <p:cNvSpPr/>
            <p:nvPr/>
          </p:nvSpPr>
          <p:spPr>
            <a:xfrm>
              <a:off x="8203320" y="1981440"/>
              <a:ext cx="0" cy="307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5"/>
            <p:cNvSpPr/>
            <p:nvPr/>
          </p:nvSpPr>
          <p:spPr>
            <a:xfrm flipV="1">
              <a:off x="8203320" y="2138760"/>
              <a:ext cx="5317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6"/>
            <p:cNvSpPr/>
            <p:nvPr/>
          </p:nvSpPr>
          <p:spPr>
            <a:xfrm flipH="1">
              <a:off x="8725320" y="2139840"/>
              <a:ext cx="6480" cy="111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37"/>
            <p:cNvSpPr/>
            <p:nvPr/>
          </p:nvSpPr>
          <p:spPr>
            <a:xfrm>
              <a:off x="8337600" y="3260160"/>
              <a:ext cx="3866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38"/>
            <p:cNvSpPr/>
            <p:nvPr/>
          </p:nvSpPr>
          <p:spPr>
            <a:xfrm flipH="1">
              <a:off x="8327520" y="3190320"/>
              <a:ext cx="1800" cy="1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39"/>
            <p:cNvSpPr/>
            <p:nvPr/>
          </p:nvSpPr>
          <p:spPr>
            <a:xfrm>
              <a:off x="8276760" y="3087720"/>
              <a:ext cx="36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40"/>
            <p:cNvSpPr/>
            <p:nvPr/>
          </p:nvSpPr>
          <p:spPr>
            <a:xfrm>
              <a:off x="8549640" y="2565000"/>
              <a:ext cx="344880" cy="340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 Box 41"/>
            <p:cNvSpPr/>
            <p:nvPr/>
          </p:nvSpPr>
          <p:spPr>
            <a:xfrm>
              <a:off x="6379200" y="261324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 Box 42"/>
            <p:cNvSpPr/>
            <p:nvPr/>
          </p:nvSpPr>
          <p:spPr>
            <a:xfrm>
              <a:off x="8571600" y="258624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Text Box 43"/>
            <p:cNvSpPr/>
            <p:nvPr/>
          </p:nvSpPr>
          <p:spPr>
            <a:xfrm>
              <a:off x="6337440" y="301284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П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Text Box 44"/>
            <p:cNvSpPr/>
            <p:nvPr/>
          </p:nvSpPr>
          <p:spPr>
            <a:xfrm>
              <a:off x="6053040" y="202608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К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 Box 45"/>
            <p:cNvSpPr/>
            <p:nvPr/>
          </p:nvSpPr>
          <p:spPr>
            <a:xfrm>
              <a:off x="7214040" y="201024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46"/>
            <p:cNvSpPr/>
            <p:nvPr/>
          </p:nvSpPr>
          <p:spPr>
            <a:xfrm>
              <a:off x="7885080" y="200268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7"/>
            <p:cNvSpPr/>
            <p:nvPr/>
          </p:nvSpPr>
          <p:spPr>
            <a:xfrm>
              <a:off x="8303400" y="302076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Text Box 48"/>
            <p:cNvSpPr/>
            <p:nvPr/>
          </p:nvSpPr>
          <p:spPr>
            <a:xfrm>
              <a:off x="8003520" y="302076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9"/>
            <p:cNvSpPr/>
            <p:nvPr/>
          </p:nvSpPr>
          <p:spPr>
            <a:xfrm>
              <a:off x="6557400" y="357912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Text Box 50"/>
            <p:cNvSpPr/>
            <p:nvPr/>
          </p:nvSpPr>
          <p:spPr>
            <a:xfrm>
              <a:off x="5986440" y="3579120"/>
              <a:ext cx="30024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4160" rIns="74160" tIns="37080" bIns="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1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2" name="Рисунок 187" descr="Graph2"/>
          <p:cNvPicPr/>
          <p:nvPr/>
        </p:nvPicPr>
        <p:blipFill>
          <a:blip r:embed="rId1"/>
          <a:srcRect l="0" t="13288" r="0" b="7388"/>
          <a:stretch/>
        </p:blipFill>
        <p:spPr>
          <a:xfrm>
            <a:off x="5398920" y="4221000"/>
            <a:ext cx="3745080" cy="2386080"/>
          </a:xfrm>
          <a:prstGeom prst="rect">
            <a:avLst/>
          </a:prstGeom>
          <a:ln w="0">
            <a:noFill/>
          </a:ln>
        </p:spPr>
      </p:pic>
      <p:sp>
        <p:nvSpPr>
          <p:cNvPr id="283" name="Rectangle 5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Object 52"/>
              <p:cNvSpPr txBox="1"/>
              <p:nvPr/>
            </p:nvSpPr>
            <p:spPr>
              <a:xfrm>
                <a:off x="1476360" y="3716280"/>
                <a:ext cx="194328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пектральные закономерност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404280"/>
            <a:ext cx="850752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Запишем условие вращения электрона масс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круговой орбите радиус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действием кулоновской силы со стороны ядра и формулу Бора квантования момента импульса электр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ешая эту систему уравнений, находим для радиусов допустимых (стационарных) орбит электрона в атоме водорода следующее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ая энергия электрона, движущегося по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ой стационарной орбите, запишется в вид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ная энергия электрона в атоме оказалась отрицательной, так как, по определению, отрицательна потенциальная электростатическая энергия взаимодействия электрона с ядром. С ростом номера орбиты полная энергия электрона в атоме возрастает. При этом номер орбиты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является квантовым числом в такой теор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31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8" name="Object 4"/>
              <p:cNvSpPr txBox="1"/>
              <p:nvPr/>
            </p:nvSpPr>
            <p:spPr>
              <a:xfrm>
                <a:off x="3276720" y="1484280"/>
                <a:ext cx="17269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f>
                                <m:num>
                                  <m:sSup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mV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Vr</m:t>
                              </m:r>
                              <m:r>
                                <m:t xml:space="preserve">=</m:t>
                              </m:r>
                              <m:r>
                                <m:t xml:space="preserve">n</m:t>
                              </m:r>
                              <m:r>
                                <m:t xml:space="preserve">ℏ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9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6"/>
              <p:cNvSpPr txBox="1"/>
              <p:nvPr/>
            </p:nvSpPr>
            <p:spPr>
              <a:xfrm>
                <a:off x="3276720" y="3213000"/>
                <a:ext cx="201600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Rectangle 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Object 8"/>
              <p:cNvSpPr txBox="1"/>
              <p:nvPr/>
            </p:nvSpPr>
            <p:spPr>
              <a:xfrm>
                <a:off x="3643200" y="4643280"/>
                <a:ext cx="252108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56</m:t>
                        </m:r>
                        <m:r>
                          <m:rPr>
                            <m:lit/>
                            <m:nor/>
                          </m:rPr>
                          <m:t xml:space="preserve">эВ</m:t>
                        </m:r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ория эффекта Компто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4751280" cy="510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смотрим столкновение фотона со свободным электроном с учетом, что при этом должны соблюдаться законы сохранения энергии и импульса. Поскольку в результате столкновения электрон может стать релятивистским, этот процесс будем рассматривать на основе релятивисткой динамик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усть на первоначально покоившийся свободный электрон с энергией поко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c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адает фотон с энергие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импульс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ε/с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После столкновения энергия фотона станет равн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`, а энергия и импульс электро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`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`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Тогда согласно законам  сохранения энергии и импульса системы фотон – электрон, запиш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4"/>
          <p:cNvGrpSpPr/>
          <p:nvPr/>
        </p:nvGrpSpPr>
        <p:grpSpPr>
          <a:xfrm>
            <a:off x="5435640" y="692280"/>
            <a:ext cx="3708360" cy="2338200"/>
            <a:chOff x="5435640" y="692280"/>
            <a:chExt cx="3708360" cy="2338200"/>
          </a:xfrm>
        </p:grpSpPr>
        <p:sp>
          <p:nvSpPr>
            <p:cNvPr id="46" name="AutoShape 5"/>
            <p:cNvSpPr/>
            <p:nvPr/>
          </p:nvSpPr>
          <p:spPr>
            <a:xfrm>
              <a:off x="5435640" y="692280"/>
              <a:ext cx="3708360" cy="233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Line 6"/>
            <p:cNvSpPr/>
            <p:nvPr/>
          </p:nvSpPr>
          <p:spPr>
            <a:xfrm flipV="1">
              <a:off x="5683680" y="1050840"/>
              <a:ext cx="2301840" cy="10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Line 7"/>
            <p:cNvSpPr/>
            <p:nvPr/>
          </p:nvSpPr>
          <p:spPr>
            <a:xfrm>
              <a:off x="5683680" y="2094120"/>
              <a:ext cx="277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>
              <a:off x="7951680" y="1066320"/>
              <a:ext cx="520200" cy="10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Text Box 9"/>
            <p:cNvSpPr/>
            <p:nvPr/>
          </p:nvSpPr>
          <p:spPr>
            <a:xfrm>
              <a:off x="6436440" y="977040"/>
              <a:ext cx="9424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ε'/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Text Box 10"/>
            <p:cNvSpPr/>
            <p:nvPr/>
          </p:nvSpPr>
          <p:spPr>
            <a:xfrm>
              <a:off x="6817320" y="2075400"/>
              <a:ext cx="942120" cy="52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ε/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rc 11"/>
            <p:cNvSpPr/>
            <p:nvPr/>
          </p:nvSpPr>
          <p:spPr>
            <a:xfrm>
              <a:off x="6167520" y="1868400"/>
              <a:ext cx="186840" cy="226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Text Box 12"/>
            <p:cNvSpPr/>
            <p:nvPr/>
          </p:nvSpPr>
          <p:spPr>
            <a:xfrm>
              <a:off x="6381720" y="1622520"/>
              <a:ext cx="94248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3"/>
            <p:cNvSpPr/>
            <p:nvPr/>
          </p:nvSpPr>
          <p:spPr>
            <a:xfrm>
              <a:off x="8196120" y="1137960"/>
              <a:ext cx="94212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p'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14"/>
            <p:cNvSpPr/>
            <p:nvPr/>
          </p:nvSpPr>
          <p:spPr>
            <a:xfrm>
              <a:off x="6441840" y="2509200"/>
              <a:ext cx="1631160" cy="49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000000"/>
                  </a:solidFill>
                  <a:latin typeface="Times New Roman"/>
                </a:rPr>
                <a:t>рис.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7"/>
          <p:cNvSpPr/>
          <p:nvPr/>
        </p:nvSpPr>
        <p:spPr>
          <a:xfrm>
            <a:off x="0" y="29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6"/>
              <p:cNvSpPr txBox="1"/>
              <p:nvPr/>
            </p:nvSpPr>
            <p:spPr>
              <a:xfrm>
                <a:off x="5651640" y="3860640"/>
                <a:ext cx="25923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+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15"/>
              <p:cNvSpPr txBox="1"/>
              <p:nvPr/>
            </p:nvSpPr>
            <p:spPr>
              <a:xfrm>
                <a:off x="5580000" y="4724280"/>
                <a:ext cx="338472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ε</m:t>
                                </m:r>
                                <m:sSup>
                                  <m:e>
                                    <m:r>
                                      <m:t xml:space="preserve">ε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Рисунок 191" descr="Рис.5.5"/>
          <p:cNvPicPr/>
          <p:nvPr/>
        </p:nvPicPr>
        <p:blipFill>
          <a:blip r:embed="rId1"/>
          <a:stretch/>
        </p:blipFill>
        <p:spPr>
          <a:xfrm>
            <a:off x="4284720" y="189000"/>
            <a:ext cx="4705200" cy="3933720"/>
          </a:xfrm>
          <a:prstGeom prst="rect">
            <a:avLst/>
          </a:prstGeom>
          <a:ln w="0">
            <a:noFill/>
          </a:ln>
        </p:spPr>
      </p:pic>
      <p:sp>
        <p:nvSpPr>
          <p:cNvPr id="294" name="Rectangle 6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Object 5"/>
              <p:cNvSpPr txBox="1"/>
              <p:nvPr/>
            </p:nvSpPr>
            <p:spPr>
              <a:xfrm>
                <a:off x="1258920" y="1628640"/>
                <a:ext cx="2089080" cy="85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6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7" name="Object 7"/>
              <p:cNvSpPr txBox="1"/>
              <p:nvPr/>
            </p:nvSpPr>
            <p:spPr>
              <a:xfrm>
                <a:off x="755640" y="3284640"/>
                <a:ext cx="324000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7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476280"/>
            <a:ext cx="800244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я связь между энергией и импульсом релятивистского электрона, запише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тоге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Учитывая, чт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ε = ħ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ε`=ħ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`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такж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=2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/λ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лучим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комптоновская длина волны частицы масс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714840" y="928800"/>
                <a:ext cx="23400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/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/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2" name="Rectangle 8"/>
          <p:cNvSpPr/>
          <p:nvPr/>
        </p:nvSpPr>
        <p:spPr>
          <a:xfrm>
            <a:off x="0" y="281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7"/>
              <p:cNvSpPr txBox="1"/>
              <p:nvPr/>
            </p:nvSpPr>
            <p:spPr>
              <a:xfrm>
                <a:off x="1116000" y="1484280"/>
                <a:ext cx="619272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/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ε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1332000" y="1916280"/>
                <a:ext cx="4321080" cy="55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c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ε</m:t>
                        </m:r>
                      </m:e>
                      <m:sup/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ε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10"/>
          <p:cNvSpPr/>
          <p:nvPr/>
        </p:nvSpPr>
        <p:spPr>
          <a:xfrm>
            <a:off x="720" y="37857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2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11"/>
              <p:cNvSpPr txBox="1"/>
              <p:nvPr/>
            </p:nvSpPr>
            <p:spPr>
              <a:xfrm>
                <a:off x="2627280" y="3141720"/>
                <a:ext cx="287964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ε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ε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14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3"/>
              <p:cNvSpPr txBox="1"/>
              <p:nvPr/>
            </p:nvSpPr>
            <p:spPr>
              <a:xfrm>
                <a:off x="1547640" y="4508640"/>
                <a:ext cx="4392720" cy="56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λ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λ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θ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5"/>
              <p:cNvSpPr txBox="1"/>
              <p:nvPr/>
            </p:nvSpPr>
            <p:spPr>
              <a:xfrm>
                <a:off x="1332000" y="5157720"/>
                <a:ext cx="360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Rectangle 18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17"/>
              <p:cNvSpPr txBox="1"/>
              <p:nvPr/>
            </p:nvSpPr>
            <p:spPr>
              <a:xfrm>
                <a:off x="3348000" y="5734080"/>
                <a:ext cx="122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Корпускулярно-волновой дуализм. Волновые свойства частиц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ласно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ипотезе де Брой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каждая материальная частица обладает волновыми свойствами, причем соотношения, связывающие волновые и корпускулярные характеристики частицы остаются такими же, как и в случае электромагнитного излучения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Напомним, что энерги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пульс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фотона связаны с круговой частотой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 длиной волны 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λ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ношениям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о гипотезе де Бройля движущейся частице, обладающей энергие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пульсом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оответствует волновой процесс, частота которого равн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естно, что плоская волна с частотой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 распространяющаяся вдоль ос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может быть представлена в комплексной фор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- амплитуда волны, 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- волновое число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5"/>
              <p:cNvSpPr txBox="1"/>
              <p:nvPr/>
            </p:nvSpPr>
            <p:spPr>
              <a:xfrm>
                <a:off x="1547640" y="2852640"/>
                <a:ext cx="1152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ℏ</m:t>
                    </m:r>
                    <m:r>
                      <m:t xml:space="preserve">ω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Rectangle 7"/>
          <p:cNvSpPr/>
          <p:nvPr/>
        </p:nvSpPr>
        <p:spPr>
          <a:xfrm>
            <a:off x="0" y="31755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3203640" y="2708280"/>
                <a:ext cx="1439640" cy="67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ℏ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Rectangle 9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8"/>
              <p:cNvSpPr txBox="1"/>
              <p:nvPr/>
            </p:nvSpPr>
            <p:spPr>
              <a:xfrm>
                <a:off x="1928880" y="4143240"/>
                <a:ext cx="72072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ℏ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0"/>
              <p:cNvSpPr txBox="1"/>
              <p:nvPr/>
            </p:nvSpPr>
            <p:spPr>
              <a:xfrm>
                <a:off x="4071960" y="4143240"/>
                <a:ext cx="1150920" cy="74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Rectangle 1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2"/>
              <p:cNvSpPr txBox="1"/>
              <p:nvPr/>
            </p:nvSpPr>
            <p:spPr>
              <a:xfrm>
                <a:off x="1857240" y="5786280"/>
                <a:ext cx="360072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ζ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ω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ласно гипотезе де Бройля свободной частице с энергией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импульсом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движущейся вдоль ос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соответствует плоская вол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распространяющаяся в том же направлении и описывающая волновые свойства частицы. Эту волну называют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волной де Брой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Соотношения, связывающие волновые и корпускулярные свойства частиц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мпульс частицы, 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волновой вектор, получили название уравнений де Брой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4"/>
              <p:cNvSpPr txBox="1"/>
              <p:nvPr/>
            </p:nvSpPr>
            <p:spPr>
              <a:xfrm>
                <a:off x="2627280" y="1341360"/>
                <a:ext cx="345744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i</m:t>
                            </m:r>
                          </m:num>
                          <m:den>
                            <m:r>
                              <m:t xml:space="preserve">ℏ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t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p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Rectangle 8"/>
          <p:cNvSpPr/>
          <p:nvPr/>
        </p:nvSpPr>
        <p:spPr>
          <a:xfrm>
            <a:off x="0" y="305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2714760" y="3929040"/>
                <a:ext cx="1079280" cy="40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ℏ</m:t>
                    </m:r>
                    <m:r>
                      <m:t xml:space="preserve">ω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Rectangle 9"/>
          <p:cNvSpPr/>
          <p:nvPr/>
        </p:nvSpPr>
        <p:spPr>
          <a:xfrm>
            <a:off x="0" y="3256560"/>
            <a:ext cx="33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6"/>
              <p:cNvSpPr txBox="1"/>
              <p:nvPr/>
            </p:nvSpPr>
            <p:spPr>
              <a:xfrm>
                <a:off x="4214880" y="3857760"/>
                <a:ext cx="93672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k</m:t>
                        </m:r>
                      </m:e>
                    </m:acc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войства волн де Брой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лны де Бройля - в процессе распространения могут отражаться, преломляться, интерферировать и дифрагировать по обычным волновым законам. Найдем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фазовую скорость волн де Брой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ф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. скорость, с которой распространяются точки волны с постоянной фазой. Пусть частица движется вдоль ос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огда условие постоянства фазы волны имеет в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уя это соотношение, наход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оскольку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релятивистская масса частицы, 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ее скорость, то для фазовой скорости волны де Бройля получаем следующее вы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3276720" y="2492280"/>
                <a:ext cx="21589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t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px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nst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7" name="Rectangle 7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6"/>
              <p:cNvSpPr txBox="1"/>
              <p:nvPr/>
            </p:nvSpPr>
            <p:spPr>
              <a:xfrm>
                <a:off x="3348000" y="3213000"/>
                <a:ext cx="17287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Rectangle 10"/>
          <p:cNvSpPr/>
          <p:nvPr/>
        </p:nvSpPr>
        <p:spPr>
          <a:xfrm>
            <a:off x="0" y="295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9"/>
              <p:cNvSpPr txBox="1"/>
              <p:nvPr/>
            </p:nvSpPr>
            <p:spPr>
              <a:xfrm>
                <a:off x="2195640" y="4292640"/>
                <a:ext cx="1296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Rectangle 11"/>
          <p:cNvSpPr/>
          <p:nvPr/>
        </p:nvSpPr>
        <p:spPr>
          <a:xfrm>
            <a:off x="3480840" y="43347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8"/>
              <p:cNvSpPr txBox="1"/>
              <p:nvPr/>
            </p:nvSpPr>
            <p:spPr>
              <a:xfrm>
                <a:off x="3995640" y="4437000"/>
                <a:ext cx="1008000" cy="3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Rectangle 12"/>
          <p:cNvSpPr/>
          <p:nvPr/>
        </p:nvSpPr>
        <p:spPr>
          <a:xfrm>
            <a:off x="720" y="364608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4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3419640" y="5373720"/>
                <a:ext cx="1008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25000"/>
            <a:ext cx="8686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Таким образом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&lt;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т.е. фазовая скорость волны де Бройл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ф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оказывается больше скорости света в вакуум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Это нисколько не противоречит теории относительности, ограничение по скорости света справедливо лишь для процессов, связанных с переносом массы или энергии. Фазовая скорость волны не характеризует ни один из этих процесс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ем тепер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групповую скорост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ru-RU" sz="20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гр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волны де Бройля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. По определен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образуя это выражение, получа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Связь между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и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частицы, согласно теории относительности, определяется соотнош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4"/>
              <p:cNvSpPr txBox="1"/>
              <p:nvPr/>
            </p:nvSpPr>
            <p:spPr>
              <a:xfrm>
                <a:off x="3780000" y="189000"/>
                <a:ext cx="10080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ф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v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Rectangle 6"/>
          <p:cNvSpPr/>
          <p:nvPr/>
        </p:nvSpPr>
        <p:spPr>
          <a:xfrm>
            <a:off x="0" y="32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5"/>
              <p:cNvSpPr txBox="1"/>
              <p:nvPr/>
            </p:nvSpPr>
            <p:spPr>
              <a:xfrm>
                <a:off x="3635280" y="3645000"/>
                <a:ext cx="108108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ω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Rectangle 8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7"/>
              <p:cNvSpPr txBox="1"/>
              <p:nvPr/>
            </p:nvSpPr>
            <p:spPr>
              <a:xfrm>
                <a:off x="6072120" y="4643280"/>
                <a:ext cx="223200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ℏ</m:t>
                        </m:r>
                        <m:r>
                          <m:t xml:space="preserve">ω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ℏ</m:t>
                        </m:r>
                        <m:r>
                          <m:t xml:space="preserve">k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Rectangle 1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9"/>
              <p:cNvSpPr txBox="1"/>
              <p:nvPr/>
            </p:nvSpPr>
            <p:spPr>
              <a:xfrm>
                <a:off x="5929200" y="6000840"/>
                <a:ext cx="266544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bSup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sSup>
                      <m:e>
                        <m:r>
                          <m:t xml:space="preserve">c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Дифференцируя это выражение, наход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т.е. групповая скорость волны де Бройл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ru-RU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г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равна скорости движения частицы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Найдем теперь длину волны де Бройля у макроскопического, но достаточно малого объекта - пылинки, масса которо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= 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а скорость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1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мм/c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3492360" y="1052640"/>
                <a:ext cx="215928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EdE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pc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Rectangle 7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3564000" y="1700280"/>
                <a:ext cx="1439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8"/>
              <p:cNvSpPr txBox="1"/>
              <p:nvPr/>
            </p:nvSpPr>
            <p:spPr>
              <a:xfrm>
                <a:off x="2916360" y="2781360"/>
                <a:ext cx="28080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гр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p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c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10"/>
          <p:cNvSpPr/>
          <p:nvPr/>
        </p:nvSpPr>
        <p:spPr>
          <a:xfrm>
            <a:off x="0" y="389736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11"/>
              <p:cNvSpPr txBox="1"/>
              <p:nvPr/>
            </p:nvSpPr>
            <p:spPr>
              <a:xfrm>
                <a:off x="2987640" y="5516640"/>
                <a:ext cx="280836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ℏ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den>
                    </m:f>
                    <m:r>
                      <m:t xml:space="preserve">=</m:t>
                    </m:r>
                    <m:r>
                      <m:t xml:space="preserve">6,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p>
                    </m:sSup>
                    <m:r>
                      <m:t xml:space="preserve">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500" spc="-1" strike="noStrike">
                <a:solidFill>
                  <a:srgbClr val="000000"/>
                </a:solidFill>
                <a:latin typeface="Arial"/>
                <a:ea typeface="Times New Roman"/>
              </a:rPr>
              <a:t>Соотношение неопределенностей Гейзенберга.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549000"/>
            <a:ext cx="59151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Первое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отношен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граничивает точности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одновременн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измерения координат и соответствующих проекций импульса частицы. Для проекции на ось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например, оно выглядит 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торое соотношение устанавливает неопределенность измерения энергии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за данный промежуток времени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Согласно второму соотношению для измерения энергии с погрешностью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необходимо время, не меньшее, чем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ħ/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Примером может служить «размытие» энергетических уровней водородоподобных систем (кроме основного состояния). Это связано со временем жизни всех возбужденных состояний таких систем оно порядка 1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-8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 Наблюдается естественное уширение спектральных линий, которое действительно можно наблюд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987640" y="1773360"/>
                <a:ext cx="15112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Δ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≥</m:t>
                    </m:r>
                    <m:r>
                      <m:t xml:space="preserve">ℏ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Rectangle 7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6"/>
              <p:cNvSpPr txBox="1"/>
              <p:nvPr/>
            </p:nvSpPr>
            <p:spPr>
              <a:xfrm>
                <a:off x="2714760" y="3500280"/>
                <a:ext cx="14414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E</m:t>
                    </m:r>
                    <m:r>
                      <m:t xml:space="preserve">⋅</m:t>
                    </m:r>
                    <m:r>
                      <m:t xml:space="preserve">Δt</m:t>
                    </m:r>
                    <m:r>
                      <m:t xml:space="preserve">≥</m:t>
                    </m:r>
                    <m:r>
                      <m:t xml:space="preserve">ℏ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29" name="Picture 8" descr="image009"/>
          <p:cNvPicPr/>
          <p:nvPr/>
        </p:nvPicPr>
        <p:blipFill>
          <a:blip r:embed="rId1"/>
          <a:srcRect l="0" t="0" r="0" b="17419"/>
          <a:stretch/>
        </p:blipFill>
        <p:spPr>
          <a:xfrm>
            <a:off x="6227640" y="4221000"/>
            <a:ext cx="2684520" cy="1971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08(120)"/>
          <p:cNvPicPr/>
          <p:nvPr/>
        </p:nvPicPr>
        <p:blipFill>
          <a:blip r:embed="rId2"/>
          <a:stretch/>
        </p:blipFill>
        <p:spPr>
          <a:xfrm>
            <a:off x="6732720" y="476280"/>
            <a:ext cx="2184120" cy="29210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10"/>
          <p:cNvSpPr/>
          <p:nvPr/>
        </p:nvSpPr>
        <p:spPr>
          <a:xfrm>
            <a:off x="6323040" y="3357720"/>
            <a:ext cx="28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рнер Карл Гейзенбе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0:08:54Z</dcterms:created>
  <dc:creator>VIENNA XP</dc:creator>
  <dc:description/>
  <dc:language>en-US</dc:language>
  <cp:lastModifiedBy>user</cp:lastModifiedBy>
  <dcterms:modified xsi:type="dcterms:W3CDTF">2009-05-04T05:42:41Z</dcterms:modified>
  <cp:revision>41</cp:revision>
  <dc:subject/>
  <dc:title>Корпускулярные свойства электромагнитного излучения.</dc:title>
</cp:coreProperties>
</file>