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9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8203-0A9F-434F-8171-936CF2C0A6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00B21-F04F-4F99-A1CB-5AE06DB4459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AAE3-4D8B-4945-86D9-C78412FC9F7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13B5-36B5-4B87-AC2B-2E869262B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D185-D98E-4C93-B077-26C1B0DE3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769C-395D-45AE-AA6B-CF9411A4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1898-B621-4CBF-8CCC-0A47BB85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CC01-8B41-4716-8087-8B5F721A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4CF6-734F-4F79-B654-D4B77D278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C798-1B2F-4847-932A-26EB6FE3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682-382B-4FAF-B33A-2B7AE5433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4AC0-AAE2-4525-8E00-3271883F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E24E-CE23-4CC9-8DC6-B27FD7AF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BB6DD-A6E2-4D68-998C-C45EE7FF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FC43-7ADE-4320-8994-40491E1B0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A17D-F42B-41CA-830A-C528E46B12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Атомное ядр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состав и характеристики яд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пин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ном яд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полный угловой момент ядр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ый спиновый момент, 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уммарный орбитальный момент нуклонов в ядре.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н нуклона равен ½, поэтому спи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дра может быть целым и полуцелым, в зависимости от числа нуклон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сновных состояниях всех стабильных яде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/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Моменты импульса большинства нуклонов в ядре взаимно компенсируют друг друга, располагаясь антипараллельно. У всех ядер с четным числом протонов и нейтронов спин основного состоян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=0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3143160" y="2143080"/>
            <a:ext cx="277344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са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71680" y="1571760"/>
            <a:ext cx="6286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 ядра не является аддитивной величиной. Причина – сильное взаимодействие. Из-за этого взаимодействия для полного разделения ядра необходимо произвести работу, которая определяет энергия связ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в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ия покоя частицы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, энергия покоя ядра меньше суммы энергий покоя свободных нуклонов, входящих в состав данного ядр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6572160" y="1714680"/>
            <a:ext cx="2405160" cy="16444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tretch/>
        </p:blipFill>
        <p:spPr>
          <a:xfrm>
            <a:off x="3214800" y="5857920"/>
            <a:ext cx="2570040" cy="571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4643280" y="4143240"/>
            <a:ext cx="1055880" cy="3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са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71680" y="157176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детально энергия связи записывается как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число протонов и нейтронов в ядр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неудобна, поскольку в таблицах приводят массы не ядер, а массы нуклидов, т.е. атомов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меним массу протона массой нуклида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(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массу ядра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ассой соответствующего нуклида (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Т.е. добавим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лектронов и столько же вычитаем, пренебрегая энергией связи электрона с ядром по сравнению с массой ядр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2857680" y="2000160"/>
            <a:ext cx="3063600" cy="550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3500280" y="5929200"/>
            <a:ext cx="24735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асса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71680" y="157176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упрощения расчетов вводится понятия дефект массы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к разность между массой (в а.е.м.) и массовым число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дра или нуклон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– 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2143080" y="3500280"/>
            <a:ext cx="4586400" cy="357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3214800" y="4286160"/>
            <a:ext cx="251136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Дефект мас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ефект массы может быть как положительным так и отрицательным, за  начало отсчета принят нуклон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у которого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0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143080" y="1428840"/>
            <a:ext cx="4816440" cy="25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дельная энергия связ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5757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нергию связи приходящуюся в среднем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 нуклон,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с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называется удельной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нергией связи и характеризует меру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рочности ядра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грубом приближении можно считать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что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Calibri"/>
              </a:rPr>
              <a:t>св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лабо зависит от массового числа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и примерно равна 8 МэВ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Это означает, что ядерные силы обладают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войством насыщения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ждый нуклон взаимодействует только с ограниченным числом соседних нуклонов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143760" y="1500120"/>
            <a:ext cx="30002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Удельная энергия связ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6840" y="1600200"/>
            <a:ext cx="58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Если бы каждый нуклон взаимодействовал со всеми остальными, то энергия была бы пропорциональн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-1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лотность ядерного вещества внутри ядра однородна благодаря насыщению ядерных сил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тсюда следует, что ядерные силы короткодействующие с радиусом порядка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Calibri"/>
              </a:rPr>
              <a:t>-13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см. Наиболее прочные ядра с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= 50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6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.е.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Zn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ак с ростом, так и с уменьшением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удельная энергия связи уменьшается, тяжелым ядрам энергетически выгодно делится, образуя более легкие ядра, а легким сливаться. В обоих случаях выделяется энергия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 делении ядра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35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 – 200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эВ, а пр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 + t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+ n  - 17,6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Мэ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6143760" y="1500120"/>
            <a:ext cx="30002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Ядерные сил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Особенности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1. Силы короткодействующие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Calibri"/>
              </a:rPr>
              <a:t>-13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 см, на меньших расстояниях притяжение сменяется отталкивание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2. Обладают зарядовой независимостью, что проявляется в одинаковости сил взаимодействия нуклонов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-n, p-p, n-p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3. Силы не центральные, зависят от ориентации спинов нуклон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4. Обладают свойством насыщения: каждый нуклон взаимодействует только с ограниченным числом соседних нуклон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ханизм взаимодействия нукло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Всякому полю должна соответствовать определенная частица – квант поля, которая является переносчиком взаимодействи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ри взаимодействии нуклонов квантами поля являются </a:t>
            </a:r>
            <a:r>
              <a:rPr b="0" lang="ru-RU" sz="2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мезоны (Юкава 1935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окоившийся свободный нейтрон не может самопроизвольно превратится в нейтрон + </a:t>
            </a:r>
            <a:r>
              <a:rPr b="0" lang="ru-RU" sz="25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мезон, суммарная масса которых больше массы нейтрона, однако с точки зрения квантовой механики за время </a:t>
            </a:r>
            <a:r>
              <a:rPr b="0" lang="ru-RU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энергия системы может изменится на </a:t>
            </a:r>
            <a:r>
              <a:rPr b="0" lang="ru-RU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так, что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 &gt;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ħ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, т.е. на время </a:t>
            </a:r>
            <a:r>
              <a:rPr b="0" lang="ru-RU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ħ/</a:t>
            </a:r>
            <a:r>
              <a:rPr b="0" lang="en-US" sz="25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 это время нарушения закона сохранения обнаружить нельзя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ханизм взаимодействия нукло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ремя существования </a:t>
            </a:r>
            <a:r>
              <a:rPr b="0" lang="ru-RU" sz="27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мезона с энергией покоя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27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7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вно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за это время </a:t>
            </a:r>
            <a:r>
              <a:rPr b="0" lang="ru-RU" sz="27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мезон поглотится испустившим его нуклоном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Расстояние, на которое </a:t>
            </a:r>
            <a:r>
              <a:rPr b="0" lang="ru-RU" sz="27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- мезон удалится от нуклона можно оценить как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Частицы, испускание и поглощение которых происходит с кажущимся нарушением закона сохранения, называются виртуальными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3643200" y="1928880"/>
            <a:ext cx="1773360" cy="714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4071960" y="4214880"/>
            <a:ext cx="195732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ро состоит из протонов и нейтронов – нуклон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тон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 обладает положительным зарядо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и массой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н прото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= 1/2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обственный магнитный момен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071880" y="3714840"/>
            <a:ext cx="2473200" cy="1000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6858000" y="5500800"/>
            <a:ext cx="20620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Механизм взаимодействия нуклон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сли вокруг нет других нуклонов, то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- мезон поглотится нуклоном его испустившим, то говорят, что нуклон всегда окружен «мезонной шубой»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огда два нуклона сближаются и их шубы начинают соприкасаться, то создаются условия для обмена виртуальными мезонами – возникает ядерное взаимодействие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Если радиус взаимодействия порядка 10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-13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м, то масса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-мезона: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270 m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ойства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- мезо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уществует 3 типа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мезон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мезон (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ремя жизни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-8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мезон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e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, время жизни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-8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мезон (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время жизни 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-16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энергии столкновения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&gt; 290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эВ, в реакциях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-p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(p-n)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с большой вероятностью рождаются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мезоны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 + p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 + p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 +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p + p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 + n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n + n +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ойства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- мезо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н каждого из трех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мезонов равен ну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Электрические заряды различ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ерная активность – одинаков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ни изотопически инвариантные част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е название этих частиц -  пион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оны состоят из кварко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=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tretch/>
        </p:blipFill>
        <p:spPr>
          <a:xfrm>
            <a:off x="1857240" y="5643720"/>
            <a:ext cx="703440" cy="42840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1" descr=""/>
          <p:cNvPicPr/>
          <p:nvPr/>
        </p:nvPicPr>
        <p:blipFill>
          <a:blip r:embed="rId2"/>
          <a:stretch/>
        </p:blipFill>
        <p:spPr>
          <a:xfrm>
            <a:off x="1857240" y="6215040"/>
            <a:ext cx="639720" cy="35712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3" descr=""/>
          <p:cNvPicPr/>
          <p:nvPr/>
        </p:nvPicPr>
        <p:blipFill>
          <a:blip r:embed="rId3"/>
          <a:stretch/>
        </p:blipFill>
        <p:spPr>
          <a:xfrm>
            <a:off x="3929040" y="5643720"/>
            <a:ext cx="639720" cy="3571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5" descr=""/>
          <p:cNvPicPr/>
          <p:nvPr/>
        </p:nvPicPr>
        <p:blipFill>
          <a:blip r:embed="rId4"/>
          <a:stretch/>
        </p:blipFill>
        <p:spPr>
          <a:xfrm>
            <a:off x="4000680" y="6143760"/>
            <a:ext cx="571320" cy="34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войства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- мезо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част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-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- античастиц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- истинно нейтральная частица (не имеет античастицы), например как фото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ейтрон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антинейтрон      имеют разную кварковую структуру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ри столкновении частицы аннигилиру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5357880" y="3635280"/>
            <a:ext cx="214200" cy="4064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5"/>
          <p:cNvSpPr/>
          <p:nvPr/>
        </p:nvSpPr>
        <p:spPr>
          <a:xfrm>
            <a:off x="0" y="631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"/>
          <p:cNvPicPr/>
          <p:nvPr/>
        </p:nvPicPr>
        <p:blipFill>
          <a:blip r:embed="rId2"/>
          <a:stretch/>
        </p:blipFill>
        <p:spPr>
          <a:xfrm>
            <a:off x="1357200" y="4643280"/>
            <a:ext cx="1820880" cy="5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дели ядер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пельная модель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пельная модель ядра, предложена Н. Бором в 1936 году.  Ядро рассматривается как капля несжимаемой электрически заряженной жидкости с высокой плотностью (1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г/с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ервый член основной, остальные поправочны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" descr=""/>
          <p:cNvPicPr/>
          <p:nvPr/>
        </p:nvPicPr>
        <p:blipFill>
          <a:blip r:embed="rId1"/>
          <a:stretch/>
        </p:blipFill>
        <p:spPr>
          <a:xfrm>
            <a:off x="1214280" y="4071960"/>
            <a:ext cx="6975720" cy="7858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0" y="8683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дели ядер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пельная модель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й член уравнения учитывает поверхностный эффект (на поверхности ядра-капли нуклоны имеют меньшую, чем внутри ядра, энергию связи, поэтому он отрицателен и пропорционален площади поверхности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A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/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1" descr=""/>
          <p:cNvPicPr/>
          <p:nvPr/>
        </p:nvPicPr>
        <p:blipFill>
          <a:blip r:embed="rId1"/>
          <a:stretch/>
        </p:blipFill>
        <p:spPr>
          <a:xfrm>
            <a:off x="1071720" y="1714680"/>
            <a:ext cx="697536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дели ядер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пельная модель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й член уравнения учитывает энергию кулоновского отталкивания, уменьшающую энергию связи ядра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R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/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1/3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них членов не объясняются капельной моделью. 1 й из них учитывает тенденцию равенства числа протонов и нейтрон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1071720" y="1714680"/>
            <a:ext cx="697536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дели ядер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пельная модель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5й – учитывает прочность четно-четных ядер по сравнению с ядрами, имеющими нечетное число протонов и нейтронов, связан с спиновой зависимостью ядерных сил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+1 для четных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0 для ядер с нечетным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= -1 для ядер с четным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и нечетными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1071720" y="1714680"/>
            <a:ext cx="697536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дели ядер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пельная модель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эффициент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1 = 14.0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э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2 = 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0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э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3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84Мэ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- может быть рассчит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4 = 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э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5 =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э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1" descr=""/>
          <p:cNvPicPr/>
          <p:nvPr/>
        </p:nvPicPr>
        <p:blipFill>
          <a:blip r:embed="rId1"/>
          <a:stretch/>
        </p:blipFill>
        <p:spPr>
          <a:xfrm>
            <a:off x="1071720" y="1714680"/>
            <a:ext cx="6975360" cy="78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дели ядер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пельная модель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540072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ядер с нечетным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=0 - изобар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некоторых яде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=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св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максимально – стабильные ядр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ядер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Z = Z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±1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сть возможность превратиться в стабильное через 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+ или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- распа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2" name="Group 2"/>
          <p:cNvGrpSpPr/>
          <p:nvPr/>
        </p:nvGrpSpPr>
        <p:grpSpPr>
          <a:xfrm>
            <a:off x="5796000" y="1356840"/>
            <a:ext cx="3348360" cy="2524680"/>
            <a:chOff x="5796000" y="1356840"/>
            <a:chExt cx="3348360" cy="2524680"/>
          </a:xfrm>
        </p:grpSpPr>
        <p:sp>
          <p:nvSpPr>
            <p:cNvPr id="163" name="Text Box 3"/>
            <p:cNvSpPr/>
            <p:nvPr/>
          </p:nvSpPr>
          <p:spPr>
            <a:xfrm>
              <a:off x="7257600" y="3400560"/>
              <a:ext cx="40572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Text Box 4" descr=""/>
            <p:cNvPicPr/>
            <p:nvPr/>
          </p:nvPicPr>
          <p:blipFill>
            <a:blip r:embed="rId1"/>
            <a:stretch/>
          </p:blipFill>
          <p:spPr>
            <a:xfrm>
              <a:off x="7528680" y="3396240"/>
              <a:ext cx="359280" cy="48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Text Box 5"/>
            <p:cNvSpPr/>
            <p:nvPr/>
          </p:nvSpPr>
          <p:spPr>
            <a:xfrm>
              <a:off x="7801560" y="3400920"/>
              <a:ext cx="347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6" name="Text Box 6" descr=""/>
            <p:cNvPicPr/>
            <p:nvPr/>
          </p:nvPicPr>
          <p:blipFill>
            <a:blip r:embed="rId2"/>
            <a:stretch/>
          </p:blipFill>
          <p:spPr>
            <a:xfrm>
              <a:off x="8143920" y="3396240"/>
              <a:ext cx="359280" cy="48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Text Box 7" descr=""/>
            <p:cNvPicPr/>
            <p:nvPr/>
          </p:nvPicPr>
          <p:blipFill>
            <a:blip r:embed="rId3"/>
            <a:stretch/>
          </p:blipFill>
          <p:spPr>
            <a:xfrm>
              <a:off x="6961680" y="3396240"/>
              <a:ext cx="359280" cy="48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8"/>
            <p:cNvSpPr/>
            <p:nvPr/>
          </p:nvSpPr>
          <p:spPr>
            <a:xfrm>
              <a:off x="6656040" y="3400920"/>
              <a:ext cx="347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-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9"/>
            <p:cNvSpPr/>
            <p:nvPr/>
          </p:nvSpPr>
          <p:spPr>
            <a:xfrm>
              <a:off x="6309000" y="3400560"/>
              <a:ext cx="34704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Z</a:t>
              </a:r>
              <a:r>
                <a:rPr b="0" lang="en-US" sz="11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-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Text Box 10"/>
            <p:cNvSpPr/>
            <p:nvPr/>
          </p:nvSpPr>
          <p:spPr>
            <a:xfrm>
              <a:off x="7339320" y="1928520"/>
              <a:ext cx="3859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11"/>
            <p:cNvSpPr/>
            <p:nvPr/>
          </p:nvSpPr>
          <p:spPr>
            <a:xfrm>
              <a:off x="7663320" y="2217600"/>
              <a:ext cx="3859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12"/>
            <p:cNvSpPr/>
            <p:nvPr/>
          </p:nvSpPr>
          <p:spPr>
            <a:xfrm>
              <a:off x="7950960" y="2577960"/>
              <a:ext cx="3859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+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3"/>
            <p:cNvSpPr/>
            <p:nvPr/>
          </p:nvSpPr>
          <p:spPr>
            <a:xfrm>
              <a:off x="7105680" y="1928520"/>
              <a:ext cx="3859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4"/>
            <p:cNvSpPr/>
            <p:nvPr/>
          </p:nvSpPr>
          <p:spPr>
            <a:xfrm>
              <a:off x="6805800" y="2141280"/>
              <a:ext cx="3859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5"/>
            <p:cNvSpPr/>
            <p:nvPr/>
          </p:nvSpPr>
          <p:spPr>
            <a:xfrm>
              <a:off x="6499800" y="2508120"/>
              <a:ext cx="385920" cy="43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ru-RU" sz="11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6"/>
            <p:cNvSpPr/>
            <p:nvPr/>
          </p:nvSpPr>
          <p:spPr>
            <a:xfrm>
              <a:off x="6346800" y="1921680"/>
              <a:ext cx="2080080" cy="1023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7" name="AutoShape 17"/>
            <p:cNvCxnSpPr/>
            <p:nvPr/>
          </p:nvCxnSpPr>
          <p:spPr>
            <a:xfrm>
              <a:off x="5796000" y="3400200"/>
              <a:ext cx="3348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8" name="AutoShape 18"/>
            <p:cNvCxnSpPr/>
            <p:nvPr/>
          </p:nvCxnSpPr>
          <p:spPr>
            <a:xfrm flipH="1" flipV="1">
              <a:off x="7392600" y="1356840"/>
              <a:ext cx="11880" cy="204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79" name="AutoShape 19"/>
            <p:cNvCxnSpPr/>
            <p:nvPr/>
          </p:nvCxnSpPr>
          <p:spPr>
            <a:xfrm>
              <a:off x="7123680" y="2049480"/>
              <a:ext cx="1080" cy="135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0" name="AutoShape 20"/>
            <p:cNvCxnSpPr/>
            <p:nvPr/>
          </p:nvCxnSpPr>
          <p:spPr>
            <a:xfrm>
              <a:off x="6805440" y="2364840"/>
              <a:ext cx="1080" cy="1035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1" name="AutoShape 21"/>
            <p:cNvCxnSpPr/>
            <p:nvPr/>
          </p:nvCxnSpPr>
          <p:spPr>
            <a:xfrm>
              <a:off x="6499440" y="2746080"/>
              <a:ext cx="1080" cy="655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2" name="AutoShape 22"/>
            <p:cNvCxnSpPr/>
            <p:nvPr/>
          </p:nvCxnSpPr>
          <p:spPr>
            <a:xfrm>
              <a:off x="7662960" y="2049480"/>
              <a:ext cx="1080" cy="135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3" name="AutoShape 23"/>
            <p:cNvCxnSpPr/>
            <p:nvPr/>
          </p:nvCxnSpPr>
          <p:spPr>
            <a:xfrm>
              <a:off x="7992000" y="2415240"/>
              <a:ext cx="1080" cy="985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4" name="AutoShape 24"/>
            <p:cNvCxnSpPr/>
            <p:nvPr/>
          </p:nvCxnSpPr>
          <p:spPr>
            <a:xfrm>
              <a:off x="8298720" y="2802240"/>
              <a:ext cx="1080" cy="598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185" name="AutoShape 25"/>
            <p:cNvCxnSpPr/>
            <p:nvPr/>
          </p:nvCxnSpPr>
          <p:spPr>
            <a:xfrm flipH="1" flipV="1">
              <a:off x="8068680" y="2384640"/>
              <a:ext cx="188640" cy="2178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6" name="AutoShape 26"/>
            <p:cNvCxnSpPr/>
            <p:nvPr/>
          </p:nvCxnSpPr>
          <p:spPr>
            <a:xfrm flipH="1" flipV="1">
              <a:off x="7800840" y="2071800"/>
              <a:ext cx="188280" cy="217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7" name="AutoShape 27"/>
            <p:cNvCxnSpPr/>
            <p:nvPr/>
          </p:nvCxnSpPr>
          <p:spPr>
            <a:xfrm flipH="1" flipV="1">
              <a:off x="7404120" y="1828440"/>
              <a:ext cx="275400" cy="15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8" name="AutoShape 28"/>
            <p:cNvCxnSpPr/>
            <p:nvPr/>
          </p:nvCxnSpPr>
          <p:spPr>
            <a:xfrm flipV="1">
              <a:off x="6481080" y="2384640"/>
              <a:ext cx="198720" cy="2394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89" name="AutoShape 29"/>
            <p:cNvCxnSpPr/>
            <p:nvPr/>
          </p:nvCxnSpPr>
          <p:spPr>
            <a:xfrm flipV="1">
              <a:off x="6805800" y="2049120"/>
              <a:ext cx="198000" cy="191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0" name="AutoShape 30"/>
            <p:cNvCxnSpPr/>
            <p:nvPr/>
          </p:nvCxnSpPr>
          <p:spPr>
            <a:xfrm flipV="1">
              <a:off x="7123680" y="1828440"/>
              <a:ext cx="241560" cy="154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став нуклонов входят кварки двух типов: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варк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p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кварк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own)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рки имеют электрические заряды кратные 1/3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: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+2/3e,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= -1/3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став протона входит 2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кварка и один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рк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 = (uu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остав нейтрона входи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кварк и дв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 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варк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 = (udd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Модели ядер.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олочечная модель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В этой модели каждый нуклон движется в усредненном поле остальных ядер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Имеются дискретные энергетические уровни, заполненные с учетом принципа Паули. Уровни группируются в оболочки, в каждой из которых может находиться  определенное число нуклонов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Полностью заполненные оболочки образуют устойчивые структуры. Такими являются ядра, имеющие число протонов или нейтронов (либо оба эти числа)2, 8, 20, 28, 50, 82, 126. Эти числа называются магическим числ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йтрон (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. Электрический заряд равен ну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сс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то на 0.14% больше массы протон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пин нейтрона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=1/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гнитный мом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нак «-» означает, направление спина и магнитного момента 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взаимно противополож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000240" y="2428920"/>
            <a:ext cx="2428920" cy="1071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2"/>
          <a:stretch/>
        </p:blipFill>
        <p:spPr>
          <a:xfrm>
            <a:off x="4857840" y="5072040"/>
            <a:ext cx="16873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Состав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свободном состоянии нейтрон нестабилен и самопроизвольно распадает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иод полураспада 12 мину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071880" y="3071880"/>
            <a:ext cx="2554200" cy="61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истики атомного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новные характеристик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Z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ряд ядра (равно числу протонов в ядр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–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сса ядра (определяет число нуклонов в ядр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 = A – Z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характеризует число нейтронов в ядре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имволическое обозначение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4286160" y="5072040"/>
            <a:ext cx="696960" cy="5000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"/>
          <p:cNvPicPr/>
          <p:nvPr/>
        </p:nvPicPr>
        <p:blipFill>
          <a:blip r:embed="rId2"/>
          <a:stretch/>
        </p:blipFill>
        <p:spPr>
          <a:xfrm>
            <a:off x="3500280" y="5857920"/>
            <a:ext cx="20797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Характеристики атомного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нкретные атомы с данным числом протонов и нейтронов принято называть нуклид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уклида с одинаковым числом протонов называют изотоп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1"/>
          <a:stretch/>
        </p:blipFill>
        <p:spPr>
          <a:xfrm>
            <a:off x="3429000" y="4214880"/>
            <a:ext cx="176040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ер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 атомного ядра нет четкой границы. Экспериментально установлено, что в каждом ядре имеется внутренняя область, в которой плотность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ядерного вещества постоянна, и поверхностный слой, где эта плотность падает до нул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3643200" y="4643280"/>
            <a:ext cx="2428920" cy="17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Размер яд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первом приближении ядро можно считать сферическим, радиус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где 1фм = 10</a:t>
            </a:r>
            <a:r>
              <a:rPr b="0" lang="ru-RU" sz="3000" spc="-1" strike="noStrike" baseline="30000">
                <a:solidFill>
                  <a:srgbClr val="000000"/>
                </a:solidFill>
                <a:latin typeface="Calibri"/>
              </a:rPr>
              <a:t>-13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с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Масса ядра, определяемое массовым числом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, пропорционально его объему, поскольк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ледовательно, плотность вещества во всех ядрах примерно одинакова, рав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2500200" y="2500200"/>
            <a:ext cx="3621240" cy="449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tretch/>
        </p:blipFill>
        <p:spPr>
          <a:xfrm>
            <a:off x="3214800" y="4357800"/>
            <a:ext cx="2176200" cy="5000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3143160" y="5857920"/>
            <a:ext cx="26910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0:43:08Z</dcterms:created>
  <dc:creator>user</dc:creator>
  <dc:description/>
  <dc:language>en-US</dc:language>
  <cp:lastModifiedBy>user</cp:lastModifiedBy>
  <dcterms:modified xsi:type="dcterms:W3CDTF">2009-05-18T03:53:16Z</dcterms:modified>
  <cp:revision>75</cp:revision>
  <dc:subject/>
  <dc:title>Атомное ядро</dc:title>
</cp:coreProperties>
</file>